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8.png" ContentType="image/png"/>
  <Override PartName="/ppt/media/image16.png" ContentType="image/png"/>
  <Override PartName="/ppt/media/image25.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comments/comment6.xml" ContentType="application/vnd.openxmlformats-officedocument.presentationml.comments+xml"/>
  <Override PartName="/ppt/comments/comment7.xml" ContentType="application/vnd.openxmlformats-officedocument.presentationml.comments+xml"/>
  <Override PartName="/ppt/comments/comment2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742113" cy="9874250"/>
</p:presentation>
</file>

<file path=ppt/commentAuthors.xml><?xml version="1.0" encoding="utf-8"?>
<p:cmAuthorLst xmlns:p="http://schemas.openxmlformats.org/presentationml/2006/main">
  <p:cmAuthor id="0" name="ignatso" initials="i" lastIdx="18"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Relationship Id="rId44" Type="http://schemas.openxmlformats.org/officeDocument/2006/relationships/commentAuthors" Target="commentAuthors.xml"/>
</Relationships>
</file>

<file path=ppt/comments/comment28.xml><?xml version="1.0" encoding="utf-8"?>
<p:cmLst xmlns:p="http://schemas.openxmlformats.org/presentationml/2006/main">
  <p:cm authorId="0" dt="2014-10-03T18:47:31.288000000" idx="13">
    <p:pos x="4201" y="2473"/>
    <p:text>Ihannetapauksessa myös tämä data avointa. </p:text>
  </p:cm>
  <p:cm authorId="0" dt="2014-10-03T18:47:44.552000000" idx="14">
    <p:pos x="3803" y="755"/>
    <p:text>Ihannetilanteessa myös tämä data avointa.</p:text>
  </p:cm>
  <p:cm authorId="0" dt="2014-10-03T18:48:18.232000000" idx="15">
    <p:pos x="854" y="1202"/>
    <p:text>Mikä tämä kohta on? Arviointi tehdään yhdessä, tuleeko täältä joku uusi input nyt verrattuna edelliseen kohtaan?</p:text>
  </p:cm>
  <p:cm authorId="0" dt="2014-10-03T18:50:36.266000000" idx="16">
    <p:pos x="2493" y="1421"/>
    <p:text>Mikä on päättäjän rooli, mitä hän tuo tähän prosessiin mukaan? Esim. omat valintakriteerinsä/arvonsa avoimesti esille. 
Voisi selventää, miten päätöksenteko lopulta menee: kuka tekee päätökset?
Mitä avoimempaa, sitä enemmän päätöksentekijä "luovuttaa valtaa", sehän joitakin ahdistaa... </p:text>
  </p:cm>
  <p:cm authorId="0" dt="2014-10-03T18:55:07.901000000" idx="17">
    <p:pos x="377" y="2255"/>
    <p:text>Missä on käyttäjien tai vaikutusten kohteena olevien tahojen kokemusperäinen tieto, voiko se olla tässä kohtaa? 
Siis esim. uuden voimalan rakentaminen: 
pitää ottaa huomioon ihmisten arvostukset, pelot, toiveet, aikaisemmat kokemukset, uskomukset terveysvaikutuksista... ei ole tieteellistä tietoa, mutta aivan keskeistä hankkeen hyväksyttävyyden kannalta. </p:text>
  </p:cm>
  <p:cm authorId="0" dt="2014-10-03T18:45:46.263000000" idx="18">
    <p:pos x="2165" y="2592"/>
    <p:text>Voisi selventää vielä kuulijoille: 
Mitä tässä "tietokoneen kohdalla" tapahtuu ts. miten tämä prosessi eroaa olennaisesti nykyisestä päätösvalmistelusta? Mitä ratkaisevan tärkeää uutta tässä nyt tapahtuu?
(Kyse ei ole siitä, että tehdään samat asiat vähän uusilla menetelmillä esim. uusilla ohjelmilla -&gt; 
VAAN oikeasti muutetaan tiedonkulkua avoimeksi,  päätösvalmistelu on mahdollista tehdä yhdessä.) 
Avoin Suomi-messuilla tuli hyvä puheenvuoro siitä, että avoimuudella on eri tasoja: ei välttämättä tarkoita, että kenelle tahansa kaikki avointa -&gt; tämähän pelottaa monia... voidaan lähteä myös pienemmin askelin liikkeelle. </p:text>
  </p:cm>
</p:cmLst>
</file>

<file path=ppt/comments/comment6.xml><?xml version="1.0" encoding="utf-8"?>
<p:cmLst xmlns:p="http://schemas.openxmlformats.org/presentationml/2006/main">
  <p:cm authorId="0" dt="2014-10-03T18:47:31.288000000" idx="1">
    <p:pos x="4201" y="2473"/>
    <p:text>Ihannetapauksessa myös tämä data avointa. </p:text>
  </p:cm>
  <p:cm authorId="0" dt="2014-10-03T18:47:44.552000000" idx="2">
    <p:pos x="3803" y="755"/>
    <p:text>Ihannetilanteessa myös tämä data avointa.</p:text>
  </p:cm>
  <p:cm authorId="0" dt="2014-10-03T18:48:18.232000000" idx="3">
    <p:pos x="854" y="1202"/>
    <p:text>Mikä tämä kohta on? Arviointi tehdään yhdessä, tuleeko täältä joku uusi input nyt verrattuna edelliseen kohtaan?</p:text>
  </p:cm>
  <p:cm authorId="0" dt="2014-10-03T18:50:36.266000000" idx="4">
    <p:pos x="2493" y="1421"/>
    <p:text>Mikä on päättäjän rooli, mitä hän tuo tähän prosessiin mukaan? Esim. omat valintakriteerinsä/arvonsa avoimesti esille. 
Voisi selventää, miten päätöksenteko lopulta menee: kuka tekee päätökset?
Mitä avoimempaa, sitä enemmän päätöksentekijä "luovuttaa valtaa", sehän joitakin ahdistaa... </p:text>
  </p:cm>
  <p:cm authorId="0" dt="2014-10-03T18:55:07.901000000" idx="5">
    <p:pos x="377" y="2255"/>
    <p:text>Missä on käyttäjien tai vaikutusten kohteena olevien tahojen kokemusperäinen tieto, voiko se olla tässä kohtaa? 
Siis esim. uuden voimalan rakentaminen: 
pitää ottaa huomioon ihmisten arvostukset, pelot, toiveet, aikaisemmat kokemukset, uskomukset terveysvaikutuksista... ei ole tieteellistä tietoa, mutta aivan keskeistä hankkeen hyväksyttävyyden kannalta. </p:text>
  </p:cm>
  <p:cm authorId="0" dt="2014-10-03T18:45:46.263000000" idx="6">
    <p:pos x="2165" y="2592"/>
    <p:text>Voisi selventää vielä kuulijoille: 
Mitä tässä "tietokoneen kohdalla" tapahtuu ts. miten tämä prosessi eroaa olennaisesti nykyisestä päätösvalmistelusta? Mitä ratkaisevan tärkeää uutta tässä nyt tapahtuu?
(Kyse ei ole siitä, että tehdään samat asiat vähän uusilla menetelmillä esim. uusilla ohjelmilla -&gt; 
VAAN oikeasti muutetaan tiedonkulkua avoimeksi,  päätösvalmistelu on mahdollista tehdä yhdessä.) 
Avoin Suomi-messuilla tuli hyvä puheenvuoro siitä, että avoimuudella on eri tasoja: ei välttämättä tarkoita, että kenelle tahansa kaikki avointa -&gt; tämähän pelottaa monia... voidaan lähteä myös pienemmin askelin liikkeelle. </p:text>
  </p:cm>
</p:cmLst>
</file>

<file path=ppt/comments/comment7.xml><?xml version="1.0" encoding="utf-8"?>
<p:cmLst xmlns:p="http://schemas.openxmlformats.org/presentationml/2006/main">
  <p:cm authorId="0" dt="2014-10-03T18:47:31.288000000" idx="7">
    <p:pos x="4201" y="2473"/>
    <p:text>Ihannetapauksessa myös tämä data avointa. </p:text>
  </p:cm>
  <p:cm authorId="0" dt="2014-10-03T18:47:44.552000000" idx="8">
    <p:pos x="3803" y="755"/>
    <p:text>Ihannetilanteessa myös tämä data avointa.</p:text>
  </p:cm>
  <p:cm authorId="0" dt="2014-10-03T18:48:18.232000000" idx="9">
    <p:pos x="854" y="1202"/>
    <p:text>Mikä tämä kohta on? Arviointi tehdään yhdessä, tuleeko täältä joku uusi input nyt verrattuna edelliseen kohtaan?</p:text>
  </p:cm>
  <p:cm authorId="0" dt="2014-10-03T18:50:36.266000000" idx="10">
    <p:pos x="2493" y="1421"/>
    <p:text>Mikä on päättäjän rooli, mitä hän tuo tähän prosessiin mukaan? Esim. omat valintakriteerinsä/arvonsa avoimesti esille. 
Voisi selventää, miten päätöksenteko lopulta menee: kuka tekee päätökset?
Mitä avoimempaa, sitä enemmän päätöksentekijä "luovuttaa valtaa", sehän joitakin ahdistaa... </p:text>
  </p:cm>
  <p:cm authorId="0" dt="2014-10-03T18:55:07.901000000" idx="11">
    <p:pos x="377" y="2255"/>
    <p:text>Missä on käyttäjien tai vaikutusten kohteena olevien tahojen kokemusperäinen tieto, voiko se olla tässä kohtaa? 
Siis esim. uuden voimalan rakentaminen: 
pitää ottaa huomioon ihmisten arvostukset, pelot, toiveet, aikaisemmat kokemukset, uskomukset terveysvaikutuksista... ei ole tieteellistä tietoa, mutta aivan keskeistä hankkeen hyväksyttävyyden kannalta. </p:text>
  </p:cm>
  <p:cm authorId="0" dt="2014-10-03T18:45:46.263000000" idx="12">
    <p:pos x="2165" y="2592"/>
    <p:text>Voisi selventää vielä kuulijoille: 
Mitä tässä "tietokoneen kohdalla" tapahtuu ts. miten tämä prosessi eroaa olennaisesti nykyisestä päätösvalmistelusta? Mitä ratkaisevan tärkeää uutta tässä nyt tapahtuu?
(Kyse ei ole siitä, että tehdään samat asiat vähän uusilla menetelmillä esim. uusilla ohjelmilla -&gt; 
VAAN oikeasti muutetaan tiedonkulkua avoimeksi,  päätösvalmistelu on mahdollista tehdä yhdessä.) 
Avoin Suomi-messuilla tuli hyvä puheenvuoro siitä, että avoimuudella on eri tasoja: ei välttämättä tarkoita, että kenelle tahansa kaikki avointa -&gt; tämähän pelottaa monia... voidaan lähteä myös pienemmin askelin liikkeelle. </p:text>
  </p:cm>
</p:cmLst>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0" y="0"/>
            <a:ext cx="6742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5" name="PlaceHolder 1"/>
          <p:cNvSpPr>
            <a:spLocks noGrp="1"/>
          </p:cNvSpPr>
          <p:nvPr>
            <p:ph type="hdr"/>
          </p:nvPr>
        </p:nvSpPr>
        <p:spPr>
          <a:xfrm>
            <a:off x="0" y="-360"/>
            <a:ext cx="2922480" cy="4935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186" name="PlaceHolder 2"/>
          <p:cNvSpPr>
            <a:spLocks noGrp="1"/>
          </p:cNvSpPr>
          <p:nvPr>
            <p:ph type="dt" idx="12"/>
          </p:nvPr>
        </p:nvSpPr>
        <p:spPr>
          <a:xfrm>
            <a:off x="3819600" y="-360"/>
            <a:ext cx="2922480" cy="4935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187" name="PlaceHolder 3"/>
          <p:cNvSpPr>
            <a:spLocks noGrp="1"/>
          </p:cNvSpPr>
          <p:nvPr>
            <p:ph type="sldImg"/>
          </p:nvPr>
        </p:nvSpPr>
        <p:spPr>
          <a:xfrm>
            <a:off x="904680" y="741240"/>
            <a:ext cx="4933800" cy="3702240"/>
          </a:xfrm>
          <a:prstGeom prst="rect">
            <a:avLst/>
          </a:prstGeom>
          <a:noFill/>
          <a:ln w="9360">
            <a:solidFill>
              <a:srgbClr val="000000"/>
            </a:solidFill>
            <a:miter/>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lick to move the slide</a:t>
            </a:r>
            <a:endParaRPr b="1" lang="en-US" sz="2800" spc="-1" strike="noStrike">
              <a:solidFill>
                <a:srgbClr val="7bc143"/>
              </a:solidFill>
              <a:latin typeface="Arial"/>
            </a:endParaRPr>
          </a:p>
        </p:txBody>
      </p:sp>
      <p:sp>
        <p:nvSpPr>
          <p:cNvPr id="188" name="PlaceHolder 4"/>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9" name="PlaceHolder 5"/>
          <p:cNvSpPr>
            <a:spLocks noGrp="1"/>
          </p:cNvSpPr>
          <p:nvPr>
            <p:ph type="ftr" idx="13"/>
          </p:nvPr>
        </p:nvSpPr>
        <p:spPr>
          <a:xfrm>
            <a:off x="0" y="9380160"/>
            <a:ext cx="2922480" cy="4935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190" name="PlaceHolder 6"/>
          <p:cNvSpPr>
            <a:spLocks noGrp="1"/>
          </p:cNvSpPr>
          <p:nvPr>
            <p:ph type="sldNum" idx="14"/>
          </p:nvPr>
        </p:nvSpPr>
        <p:spPr>
          <a:xfrm>
            <a:off x="3819600" y="9380160"/>
            <a:ext cx="2922480" cy="493560"/>
          </a:xfrm>
          <a:prstGeom prst="rect">
            <a:avLst/>
          </a:prstGeom>
          <a:noFill/>
          <a:ln w="0">
            <a:noFill/>
          </a:ln>
        </p:spPr>
        <p:txBody>
          <a:bodyPr lIns="95040" rIns="9504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fi-FI" sz="9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882300D-AC7A-45EE-AD9C-D12130E6D852}" type="slidenum">
              <a:rPr b="0" lang="fi-FI"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05040" y="741240"/>
            <a:ext cx="4933800" cy="3702240"/>
          </a:xfrm>
          <a:prstGeom prst="rect">
            <a:avLst/>
          </a:prstGeom>
          <a:ln w="0">
            <a:noFill/>
          </a:ln>
        </p:spPr>
      </p:sp>
      <p:sp>
        <p:nvSpPr>
          <p:cNvPr id="558"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ällä otsikolla on pidetty esitys Avoin Suomi 2014 –messuilla 15.-16.9.20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65C5E9F-F9B6-4765-94C4-07B0CC172265}"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05040" y="741240"/>
            <a:ext cx="4933800" cy="3702240"/>
          </a:xfrm>
          <a:prstGeom prst="rect">
            <a:avLst/>
          </a:prstGeom>
          <a:ln w="0">
            <a:noFill/>
          </a:ln>
        </p:spPr>
      </p:sp>
      <p:sp>
        <p:nvSpPr>
          <p:cNvPr id="579"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Rakennusten energiankäytön mallintaminen on tähän kysymykseen vastaamiseksi tärkeää, koska ne ovat ehkä tärkein energiankäyttäjä Kuopiossa. Meitä kiinnosti mallintaa tätä avoimia työkaluja käyttäen, ja kaikki tulokset joita esittelen on tuotettu avoimilla nettimalleilla. Tässä kartassa näkyy kuopiolaisrakennusten sijoittuminen ja ikä (punaiset pisteet ovat uusimpia rakennuksia, joten kartasta näkyy, miten Kuopio leviää etenee etelään).</a:t>
            </a:r>
            <a:endParaRPr b="0" lang="en-US" sz="1200" spc="-1" strike="noStrike">
              <a:solidFill>
                <a:srgbClr val="000000"/>
              </a:solidFill>
              <a:latin typeface="Arial"/>
            </a:endParaRPr>
          </a:p>
        </p:txBody>
      </p:sp>
      <p:sp>
        <p:nvSpPr>
          <p:cNvPr id="580"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FC9811E-CE76-4283-BE38-5FB935E34E69}"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05040" y="741240"/>
            <a:ext cx="4933800" cy="3702240"/>
          </a:xfrm>
          <a:prstGeom prst="rect">
            <a:avLst/>
          </a:prstGeom>
          <a:ln w="0">
            <a:noFill/>
          </a:ln>
        </p:spPr>
      </p:sp>
      <p:sp>
        <p:nvSpPr>
          <p:cNvPr id="582"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Nettimallinnuksen kohteena oli kaupungin rakennuskanta, jota mallinnettiin 1920-luvulta 2050-luvulle olemassaolevien tietojen ja tulevaisuusarvioiden perusteella. Lämmitystaparatkaisuja ja energiatehokkutta ennustettiin myös tulevaisuuteen, samoin kuin energiaremonttien määriä. Näin saatiin arvioitua energiantarve ja toisaalta eri lämmitysratkaisuista syntyvät hiilidioksidi- ja pienhiukkaspäästöt. Nämä kaksi päästöä ovat ilmaston ja terveyden kannalta tärkeimmät. </a:t>
            </a:r>
            <a:endParaRPr b="0" lang="en-US" sz="1200" spc="-1" strike="noStrike">
              <a:solidFill>
                <a:srgbClr val="000000"/>
              </a:solidFill>
              <a:latin typeface="Arial"/>
            </a:endParaRPr>
          </a:p>
        </p:txBody>
      </p:sp>
      <p:sp>
        <p:nvSpPr>
          <p:cNvPr id="583"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E1AFB3C-647D-4FDB-AF1D-93EF881BB082}"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05040" y="741240"/>
            <a:ext cx="4933800" cy="3702240"/>
          </a:xfrm>
          <a:prstGeom prst="rect">
            <a:avLst/>
          </a:prstGeom>
          <a:ln w="0">
            <a:noFill/>
          </a:ln>
        </p:spPr>
      </p:sp>
      <p:sp>
        <p:nvSpPr>
          <p:cNvPr id="585"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Nettimallinnus toimii samaan tapaan kuin Wikipedia: tarvittavat lähtödatat ja koodit kirjoitetaan wikisivulle, tallennetaan ja ajetaan. Ällistyttävää kyllä, se toimii  yhtä hyvin kuin tietosanakirjan kirjoittaminen, vaikka periaatteessa ulkopuoliset voivat tulla sotkemaan malleja. Esimerkiksi pneumokokkimallia oli yhtaikaa rakentamassa neljä asiantuntijaa tai koodaria, ja silti se onnistui sujuvasti suoraan wikisivulla.</a:t>
            </a:r>
            <a:endParaRPr b="0" lang="en-US" sz="1200" spc="-1" strike="noStrike">
              <a:solidFill>
                <a:srgbClr val="000000"/>
              </a:solidFill>
              <a:latin typeface="Arial"/>
            </a:endParaRPr>
          </a:p>
        </p:txBody>
      </p:sp>
      <p:sp>
        <p:nvSpPr>
          <p:cNvPr id="586"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8EAC960-D0F4-4600-BD8E-BBB3C70DC6DE}"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05040" y="741240"/>
            <a:ext cx="4933800" cy="3702240"/>
          </a:xfrm>
          <a:prstGeom prst="rect">
            <a:avLst/>
          </a:prstGeom>
          <a:ln w="0">
            <a:noFill/>
          </a:ln>
        </p:spPr>
      </p:sp>
      <p:sp>
        <p:nvSpPr>
          <p:cNvPr id="588"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arkasteltiin kahta eri päätöstä: toisaalta  Haapaniemen polttoaineen vaihtamista turpeesta puuhun ja toisaalta energiaremonttien lisäämistä. Näillä kahdella päätöksellä on terveyteen toisiaan edistävä vaikutus. Tosin terveysvaikutukset ovat melko pienet, koska lämmitysenergia tuotetaan keskitetysti vähäpäästöisessä laitoksessa.</a:t>
            </a:r>
            <a:endParaRPr b="0" lang="en-US" sz="1200" spc="-1" strike="noStrike">
              <a:solidFill>
                <a:srgbClr val="000000"/>
              </a:solidFill>
              <a:latin typeface="Arial"/>
            </a:endParaRPr>
          </a:p>
        </p:txBody>
      </p:sp>
      <p:sp>
        <p:nvSpPr>
          <p:cNvPr id="589"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398EDCF-3DA4-4A80-AF76-657CAB458BEB}"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05040" y="741240"/>
            <a:ext cx="4933800" cy="3702240"/>
          </a:xfrm>
          <a:prstGeom prst="rect">
            <a:avLst/>
          </a:prstGeom>
          <a:ln w="0">
            <a:noFill/>
          </a:ln>
        </p:spPr>
      </p:sp>
      <p:sp>
        <p:nvSpPr>
          <p:cNvPr id="591"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Mitä avoin data ja algoritmit sitten ovat? Tähän olen listannut joitakin hyvyyskriteereitä, jotka mielestäni kertovat, milloin data ja algoritmit toimivat niin kuin pitääkin. Esityksessä käytän yksinkertaisuuden vuoksi näistä yhteisnimitystä nettimallin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ACF100F-A4BC-481E-900D-EB3BD245D78E}"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05040" y="741240"/>
            <a:ext cx="4933800" cy="3702240"/>
          </a:xfrm>
          <a:prstGeom prst="rect">
            <a:avLst/>
          </a:prstGeom>
          <a:ln w="0">
            <a:noFill/>
          </a:ln>
        </p:spPr>
      </p:sp>
      <p:sp>
        <p:nvSpPr>
          <p:cNvPr id="594"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okemustemme perusteella nettimallinnus on hyvin toimiva käytäntö, jolla saadaan arvokasta tietoa päätöksenteon tueksi. Tietoisuus sen mahdollisuuksista on vasta lapsenkengissä, mutta muutamia innokkaita asian edistäjiä Suomessa jo on, ja on luultavaa, että myönteiset kokemukset ja kehittyvät tekniset mahdollisuudet yhdessä sujuvampien käyttöliittymien kanssa tekevät uudenlaiset läpimurrot mahdollisiksi tällä alalla. Erityisesti pitäisi kehittää mahdollisuuksia siihen, että lukuisat pienemmät toimijat jakavat tietoa omista päätössuunnitelmistaan muille, jotka voivat ottaa nämä huomioon omissa suunnitelmissaan ja näin tukea laajan, johdonmukaisen päätöskulttuurin syntymistä esimerkiksi kaikkien Suomen kuntien kes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ulttuurinmuutosta tarvitaan, ja sen tekemiseen tarvitaan ihmisiä. Joko näiltä messuilta löytyy kriittinen massa ihmisiä, jotka saavat innostettua päättäjät mukaan avoimeen, nettipohjaiseen mallinnukseen ja uuden toimintakulttuurin läpimurt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67A8FAC-16E4-475A-B54D-190F1B6AD4A2}"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05040" y="741240"/>
            <a:ext cx="4933800" cy="3702240"/>
          </a:xfrm>
          <a:prstGeom prst="rect">
            <a:avLst/>
          </a:prstGeom>
          <a:ln w="0">
            <a:noFill/>
          </a:ln>
        </p:spPr>
      </p:sp>
      <p:sp>
        <p:nvSpPr>
          <p:cNvPr id="597"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ulevaisuudessa päätösvalmistelun keskiössä on avoin arviointi, johon kerätään päätöksenteon kysymyksenasettelu ja tavoitteet sekä tieteellinen tieto siitä, miten nuo tavoitteet parhaiten saavutetaan päätöksenteon asettamien toimenpiteiden rajoissa. Tietoa tarvitaan päättäjiltä, valmistelijoilta, sidosryhmiltä ja asiantuntijoilta. Avoin arviointi toimii tietovarantona, jossa sama informaatio ja työkalut ovat niin kansalaisen kuin valmistelijan ja päätöksentekijänkin saatavilla ja käytöss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Virheiden korjaamisen ja luotettavan päättelyn näkökulmasta tämä on selkeä edistysaskel. Havaittujen virheiden työstäminen palautuu takaisin niille, jotka alunperinkin olivat tiedon arviointiin tuottaneet ja jotka joutuvat joko perustelemaan arvioinnin sisällön paremmin tai päivittämään sen kritiikin mukaiseksi. Päättäjän ei tarvitse enää lukea ennakkoarviointien mukana tulevia erimielisyyksiä, vaan erimielisyydet on jo sisällytetty arviointiin ja sen päätelmi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n syytä huomata, että päätösvalmistelun muuttuminen ei välttämättä muuta itse päättämistä mitenkään: päätöksen tekevät edelleen kansanedustajat, hallitus, virkamies eli se, jolle päätösvalta kulloinkin on annettu. Tilanne kuitenkin paranee olennaisesti, koska päättäjä ymmärtää päätöksen vaihtoehdot ja vaikutukset paremmin ja tekee siten viisaampia päätöksi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Päätösvalmistelun lisäksi myös tieteenteko muuttuu erityisesti avoimen datan ajattelun edetessä. Kun alkuperäisaineistot tulevat yhä useammin kaikkien käytettäviksi, niiden yhdistely lisääntyy. Yksittäisten artikkelien sijasta niistä aletaankin työstää verkossa toimivia yhteistyöalustoja, joiden analyysitulokset päivittyvät sitä mukaa kun dataa tulee lisää. Koneluettavassa muodossa olevat analyysitulokset tekevät mahdolliseksi ennakkoarviointien rakentamisen määrällisiksi malleiksi, joiden lähtötietona nämä tulokset ovat. Analyysejä voidaan myös räätälöidä sen mukaan, millaisia kysymyksiä päätöksenteon piiristä nousee. Päätöksenteko siis perustuu tietoon paljon vankemmin kuin en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Uudessa päätösvalmistelussa voi lähteä liikkeelle politiikkasuosituksista ja tarkastella, kyseenalaistaa ja muuttaa niiden lähtöoletuksia. Tämä on mahdollista, koska kirjallisen ennakkoarvioinnin sijasta käytetään mallipohjaista avointa arviointia. Silloin on mahdollista tehdä arviointiin muutoksia ja tarkastella niiden vaikutuksia suosituksiin tai muihin lopputuloksi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n syytä myös huomata, että vaikka henkilökohtaiset suhteet ja yksilöllinen tiedonvälitys säilyvät, ne eivät enää samalla tavalla välttämättömiä osallistumisen edellytyksiä kuin ennen, koska kaikki osallistuvat myös yhteisen verkkotyötilan kautta. Tämä tekee mahdolliseksi sen, että myös ujot ihmiset ja ne, joilla on sanottavaa vain yhteen yksityiskohtaan suuressa kokonaisuudessa, saavat äänensä paremmin kuuluviin heille tärkeissä asiois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421706C-B37A-49D8-A9D7-9515637D77F3}"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05040" y="741240"/>
            <a:ext cx="4933800" cy="3702240"/>
          </a:xfrm>
          <a:prstGeom prst="rect">
            <a:avLst/>
          </a:prstGeom>
          <a:ln w="0">
            <a:noFill/>
          </a:ln>
        </p:spPr>
      </p:sp>
      <p:sp>
        <p:nvSpPr>
          <p:cNvPr id="561"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Avoimia nettimalleja, -työkaluja ja -datoja edistetään ja kehitetään FinICT-hankkeessa, johon suosittelen tutustumaan. Hankkeen nettisivulla esitellään useita erilaisia työkaluja. Itse keskityn tässä esityksessä pääasiassa Opasnettiin, koska se on THL:n itse kehittämä ja käyttämä verkkotyöt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5B75F8F-6415-4CE1-9010-D5BA2947890B}"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905040" y="741240"/>
            <a:ext cx="4933800" cy="3702240"/>
          </a:xfrm>
          <a:prstGeom prst="rect">
            <a:avLst/>
          </a:prstGeom>
          <a:ln w="0">
            <a:noFill/>
          </a:ln>
        </p:spPr>
      </p:sp>
      <p:sp>
        <p:nvSpPr>
          <p:cNvPr id="564"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Päätösvalmistelu perustuu pitkälle yksittäisten ihmisten väliseen vuorovaikutukseen ja tiedonkulkuun. Tätä tukevat monenlaiset selvitykset, raportit, ennakkoarvioinnit ja lobbausasiakirjat, mutta niiden yhteinen sivumäärä on aivan liian suuri päättäjän omaksuttavaksi rajatussa ajassa. Niinpä tieto välittyy ensisijaisesti henkilökohtaisten suhteiden välityksellä tai äärimmilleen pelkistettyinä raporttien ydinviesteinä.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Raporttien valmisteluun kuitenkin käytetään varsin paljon resursseja, ja esimerkiksi ennakkoarvioinnin pohjana saattaa olla perusteellinen perehtyminen aiheen tieteelliseen kirjallisuuteen. Tieteessä tiedonkululla on oma vakiintunut menettelynsä: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utkijat eri puolilla maailmaa tekevät tutkimuksia ja kokeita, joista kertyy alkuperäishavaintoja eli -dataa. Tutkija analysoi omat datansa ja kirjoittaa niistä tieteellisen julkaisun, jossa omia tuloksia myös peilataan muiden julkaisujen tuloksiin. Kaikki julkaisut vertaisarvioidaan eli kollegat arvioivat työn tieteellisen laadun ja uutuusarv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un aineistoa on kertynyt riittävästi, joku - yleensä arvovaltainen - tutkija tekee katsauksen koko aihepiirin kirjallisuuteen ja tekee yhteenvedon siitä, mitä kyseisestä asiasta tällä hetkellä tiedetään. Nämä katsaukset ovat erityisen arvokkaita ennakkoarvioinnin tekemisessä.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n syytä huomata, että tiedonkulku on yksisuuntaista ja katsauksen tekijät ovat pääasiassa sidoksissa tieteellisissä julkaisuissa kerrottuihin tietoihin. Vain harvoin katsaus tehdään keräämällä yhteen eri tutkimusten alkuperäisdata ja analysoimalla se uudelleen kokonaisuutena. Yhden julkaisun kirjoittajat eivät myöskään yleensä osallistu toisen havaintoaineiston analysointiin tai kommentointi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Yksisuuntaisuutta on helppo testata tällä kysymyksellä: jos joku huomaa väärän painotuksen tai virheen artikkelissa, raportissa tai muussa tietotuotteessa, onko hänellä mahdollisuus kommentoida asiaa ja saada se korjatuksi? Nykyinen päätösvalmistelu perustuu lähes pelkästään sellaisiin tietotuotteisiin, joissa vastaus on kielteinen. Koska virheitä kuitenkin tulee, on täytynyt kehittää raskas kuulemis- ja lausuntomenettely, joka ei korjaa virheitä vaan tuottaa erilaisia lisädokumentteja, jotka listaavan puutteita mutta eivät tyydyttävästi ratkaise päättäjän ongelmaa siitä, kuka kuulluista on kriittisesti tarkasteltuna oikeassa. </a:t>
            </a:r>
            <a:endParaRPr b="0" lang="en-US" sz="1200" spc="-1" strike="noStrike">
              <a:solidFill>
                <a:srgbClr val="000000"/>
              </a:solidFill>
              <a:latin typeface="Arial"/>
            </a:endParaRPr>
          </a:p>
        </p:txBody>
      </p:sp>
      <p:sp>
        <p:nvSpPr>
          <p:cNvPr id="565"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8BF4936-BE1D-453D-9135-194B809221AA}"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05040" y="741240"/>
            <a:ext cx="4933800" cy="3702240"/>
          </a:xfrm>
          <a:prstGeom prst="rect">
            <a:avLst/>
          </a:prstGeom>
          <a:ln w="0">
            <a:noFill/>
          </a:ln>
        </p:spPr>
      </p:sp>
      <p:sp>
        <p:nvSpPr>
          <p:cNvPr id="567"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ulevaisuudessa päätösvalmistelun keskiössä on avoin arviointi, johon kerätään päätöksenteon kysymyksenasettelu ja tavoitteet sekä tieteellinen tieto siitä, miten nuo tavoitteet parhaiten saavutetaan päätöksenteon asettamien toimenpiteiden rajoissa. Tietoa tarvitaan päättäjiltä, valmistelijoilta, sidosryhmiltä ja asiantuntijoilta. Avoin arviointi toimii tietovarantona, jossa sama informaatio ja työkalut ovat niin kansalaisen kuin valmistelijan ja päätöksentekijänkin saatavilla ja käytöss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Virheiden korjaamisen ja luotettavan päättelyn näkökulmasta tämä on selkeä edistysaskel. Havaittujen virheiden työstäminen palautuu takaisin niille, jotka alunperinkin olivat tiedon arviointiin tuottaneet ja jotka joutuvat joko perustelemaan arvioinnin sisällön paremmin tai päivittämään sen kritiikin mukaiseksi. Päättäjän ei tarvitse enää lukea ennakkoarviointien mukana tulevia erimielisyyksiä, vaan erimielisyydet on jo sisällytetty arviointiin ja sen päätelmi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n syytä huomata, että päätösvalmistelun muuttuminen ei välttämättä muuta itse päättämistä mitenkään: päätöksen tekevät edelleen kansanedustajat, hallitus, virkamies eli se, jolle päätösvalta kulloinkin on annettu. Tilanne kuitenkin paranee olennaisesti, koska päättäjä ymmärtää päätöksen vaihtoehdot ja vaikutukset paremmin ja tekee siten viisaampia päätöksi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Päätösvalmistelun lisäksi myös tieteenteko muuttuu erityisesti avoimen datan ajattelun edetessä. Kun alkuperäisaineistot tulevat yhä useammin kaikkien käytettäviksi, niiden yhdistely lisääntyy. Yksittäisten artikkelien sijasta niistä aletaankin työstää verkossa toimivia yhteistyöalustoja, joiden analyysitulokset päivittyvät sitä mukaa kun dataa tulee lisää. Koneluettavassa muodossa olevat analyysitulokset tekevät mahdolliseksi ennakkoarviointien rakentamisen määrällisiksi malleiksi, joiden lähtötietona nämä tulokset ovat. Analyysejä voidaan myös räätälöidä sen mukaan, millaisia kysymyksiä päätöksenteon piiristä nousee. Päätöksenteko siis perustuu tietoon paljon vankemmin kuin en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Uudessa päätösvalmistelussa voi lähteä liikkeelle politiikkasuosituksista ja tarkastella, kyseenalaistaa ja muuttaa niiden lähtöoletuksia. Tämä on mahdollista, koska kirjallisen ennakkoarvioinnin sijasta käytetään mallipohjaista avointa arviointia. Silloin on mahdollista tehdä arviointiin muutoksia ja tarkastella niiden vaikutuksia suosituksiin tai muihin lopputuloksi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n syytä myös huomata, että vaikka henkilökohtaiset suhteet ja yksilöllinen tiedonvälitys säilyvät, ne eivät enää samalla tavalla välttämättömiä osallistumisen edellytyksiä kuin ennen, koska kaikki osallistuvat myös yhteisen verkkotyötilan kautta. Tämä tekee mahdolliseksi sen, että myös ujot ihmiset ja ne, joilla on sanottavaa vain yhteen yksityiskohtaan suuressa kokonaisuudessa, saavat äänensä paremmin kuuluviin heille tärkeissä asiois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C5E0837-C92E-41B4-9087-E2E4211186F2}"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905040" y="741240"/>
            <a:ext cx="4933800" cy="3702240"/>
          </a:xfrm>
          <a:prstGeom prst="rect">
            <a:avLst/>
          </a:prstGeom>
          <a:ln w="0">
            <a:noFill/>
          </a:ln>
        </p:spPr>
      </p:sp>
      <p:sp>
        <p:nvSpPr>
          <p:cNvPr id="570"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ulevaisuudessa päätösvalmistelun keskiössä on avoin arviointi, johon kerätään päätöksenteon kysymyksenasettelu ja tavoitteet sekä tieteellinen tieto siitä, miten nuo tavoitteet parhaiten saavutetaan päätöksenteon asettamien toimenpiteiden rajoissa. Tietoa tarvitaan päättäjiltä, valmistelijoilta, sidosryhmiltä ja asiantuntijoilta. Avoin arviointi toimii tietovarantona, jossa sama informaatio ja työkalut ovat niin kansalaisen kuin valmistelijan ja päätöksentekijänkin saatavilla ja käytöss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Virheiden korjaamisen ja luotettavan päättelyn näkökulmasta tämä on selkeä edistysaskel. Havaittujen virheiden työstäminen palautuu takaisin niille, jotka alunperinkin olivat tiedon arviointiin tuottaneet ja jotka joutuvat joko perustelemaan arvioinnin sisällön paremmin tai päivittämään sen kritiikin mukaiseksi. Päättäjän ei tarvitse enää lukea ennakkoarviointien mukana tulevia erimielisyyksiä, vaan erimielisyydet on jo sisällytetty arviointiin ja sen päätelmi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n syytä huomata, että päätösvalmistelun muuttuminen ei välttämättä muuta itse päättämistä mitenkään: päätöksen tekevät edelleen kansanedustajat, hallitus, virkamies eli se, jolle päätösvalta kulloinkin on annettu. Tilanne kuitenkin paranee olennaisesti, koska päättäjä ymmärtää päätöksen vaihtoehdot ja vaikutukset paremmin ja tekee siten viisaampia päätöksi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Päätösvalmistelun lisäksi myös tieteenteko muuttuu erityisesti avoimen datan ajattelun edetessä. Kun alkuperäisaineistot tulevat yhä useammin kaikkien käytettäviksi, niiden yhdistely lisääntyy. Yksittäisten artikkelien sijasta niistä aletaankin työstää verkossa toimivia yhteistyöalustoja, joiden analyysitulokset päivittyvät sitä mukaa kun dataa tulee lisää. Koneluettavassa muodossa olevat analyysitulokset tekevät mahdolliseksi ennakkoarviointien rakentamisen määrällisiksi malleiksi, joiden lähtötietona nämä tulokset ovat. Analyysejä voidaan myös räätälöidä sen mukaan, millaisia kysymyksiä päätöksenteon piiristä nousee. Päätöksenteko siis perustuu tietoon paljon vankemmin kuin en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Uudessa päätösvalmistelussa voi lähteä liikkeelle politiikkasuosituksista ja tarkastella, kyseenalaistaa ja muuttaa niiden lähtöoletuksia. Tämä on mahdollista, koska kirjallisen ennakkoarvioinnin sijasta käytetään mallipohjaista avointa arviointia. Silloin on mahdollista tehdä arviointiin muutoksia ja tarkastella niiden vaikutuksia suosituksiin tai muihin lopputuloksi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n syytä myös huomata, että vaikka henkilökohtaiset suhteet ja yksilöllinen tiedonvälitys säilyvät, ne eivät enää samalla tavalla välttämättömiä osallistumisen edellytyksiä kuin ennen, koska kaikki osallistuvat myös yhteisen verkkotyötilan kautta. Tämä tekee mahdolliseksi sen, että myös ujot ihmiset ja ne, joilla on sanottavaa vain yhteen yksityiskohtaan suuressa kokonaisuudessa, saavat äänensä paremmin kuuluviin heille tärkeissä asiois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76AB141-5E82-4A5B-9D54-F11C5C64945C}"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05040" y="741240"/>
            <a:ext cx="4933800" cy="3702240"/>
          </a:xfrm>
          <a:prstGeom prst="rect">
            <a:avLst/>
          </a:prstGeom>
          <a:ln w="0">
            <a:noFill/>
          </a:ln>
        </p:spPr>
      </p:sp>
      <p:sp>
        <p:nvSpPr>
          <p:cNvPr id="573"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Yhteiskunnallisessa päätöksenteossa nettimallinnus on erityisen lupaava alue, koska avoimuutta ja osallistumista pidetään nykyään arvossa. Lisäksi siinä on sellainen erityispiirre, että kun yksityisellä puolella jokainen firma ja toimija päättää asioita omasta puolestaan ja omaksi edukseen, jokainen kunta, valtion virasto ja muu yhteiskunnallinen toimija koettaa päättää asioita kansakunnan edun mukaisesti. Tämä vaatii paljon eri organisaatioiden väliseltä tiedonvaihdolta.</a:t>
            </a:r>
            <a:endParaRPr b="0" lang="en-US" sz="1200" spc="-1" strike="noStrike">
              <a:solidFill>
                <a:srgbClr val="000000"/>
              </a:solidFill>
              <a:latin typeface="Arial"/>
            </a:endParaRPr>
          </a:p>
        </p:txBody>
      </p:sp>
      <p:sp>
        <p:nvSpPr>
          <p:cNvPr id="574"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FB72853-852D-43BE-835D-38A991F36D7F}"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05040" y="741240"/>
            <a:ext cx="4933800" cy="3702240"/>
          </a:xfrm>
          <a:prstGeom prst="rect">
            <a:avLst/>
          </a:prstGeom>
          <a:ln w="0">
            <a:noFill/>
          </a:ln>
        </p:spPr>
      </p:sp>
      <p:sp>
        <p:nvSpPr>
          <p:cNvPr id="576" name="PlaceHolder 2"/>
          <p:cNvSpPr>
            <a:spLocks noGrp="1"/>
          </p:cNvSpPr>
          <p:nvPr>
            <p:ph type="body"/>
          </p:nvPr>
        </p:nvSpPr>
        <p:spPr>
          <a:xfrm>
            <a:off x="674640" y="4690800"/>
            <a:ext cx="5394240" cy="44434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aunis tammikuinen maisema Kuopiossa paljastaa myös yhden keskeisen ilmasto-ongelman: turvetta polttava Haapaniemen voimalaitos tuottaa suurimman osan keskeisen Kuopion lämmöstä mutta myös suuren osan Kuopion hiilidioksidipäästöistä.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ysymys kuuluukin: miten Kuopion hiilidioksidipäästöjä voisi vähentää, ja mitä vaikutuksia eri ratkaisuilla olisi?</a:t>
            </a:r>
            <a:endParaRPr b="0" lang="en-US" sz="1200" spc="-1" strike="noStrike">
              <a:solidFill>
                <a:srgbClr val="000000"/>
              </a:solidFill>
              <a:latin typeface="Arial"/>
            </a:endParaRPr>
          </a:p>
        </p:txBody>
      </p:sp>
      <p:sp>
        <p:nvSpPr>
          <p:cNvPr id="577" name="Slide Number Placeholder 3"/>
          <p:cNvSpPr/>
          <p:nvPr/>
        </p:nvSpPr>
        <p:spPr>
          <a:xfrm>
            <a:off x="3819600" y="9380520"/>
            <a:ext cx="2922480" cy="4935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7A61866-80FF-46A2-B32D-EA73A3894508}" type="slidenum">
              <a:rPr b="0" lang="fi-FI"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5D8E37-CA4A-4724-99A2-125E6AEB424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1"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2"/>
          </p:nvPr>
        </p:nvSpPr>
        <p:spPr/>
        <p:txBody>
          <a:bodyPr/>
          <a:p>
            <a:fld id="{976EAED8-8926-496A-BDA6-0499EF348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4"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2"/>
          </p:nvPr>
        </p:nvSpPr>
        <p:spPr/>
        <p:txBody>
          <a:bodyPr/>
          <a:p>
            <a:fld id="{C56CA435-CBB5-47F7-9963-8762E50AC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9"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2"/>
          </p:nvPr>
        </p:nvSpPr>
        <p:spPr/>
        <p:txBody>
          <a:bodyPr/>
          <a:p>
            <a:fld id="{623AABCC-9EE7-4D78-9D93-8F62C720210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741E35-B30C-4512-818A-006272C306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57"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A28B5B-8681-4E75-871F-C4CE3EA1DA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5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D89816-5241-4DE4-99A5-6ADEC3BC13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61"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6AC628-4F5D-4508-9039-6FC4B047E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5D2137-DD9D-4154-8D9B-388751BD13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E622FA-780B-41A7-8B77-A8D994622E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6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BEB016-0EBE-4E45-BA27-64EFE72804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0"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83EED65-BCF6-43C0-BEE9-874587B23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70"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8B6421-B271-4B20-B65C-E4B4E31C6E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74"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083F33-ADBC-4E28-940D-7FF53C485C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78"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55093B-F5EF-482E-B7FE-C276209FC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81"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E14C28-6D02-4DF3-874B-A6350F18B5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86"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0"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0B582E-5C74-4CE6-907A-0D76E168BC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45A45FF-6D5F-4389-9070-789ED17584A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03"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DAAB28F-6667-4E36-B60E-AE4AF0DD9D4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0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9222528-36E3-4A4A-ACEC-4E6A0E3F843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07"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95DE34-B76E-4BDB-8DD7-35EFB57ED9E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99BE4F4-4EC8-438E-89C4-4C31A6A9837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82DF129-5BAF-46C5-9BBA-33C64B155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1AF03A7-19A6-4E13-AF2B-D16A370F3AE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12"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DC3A30-93FE-4A79-8E74-328D2F35A0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16"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ED8D6F-6E3B-470C-AC5D-104AC8FED7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20"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22A74C-2E20-4E57-A3A0-17A4627689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24"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D4EDBC5-4E83-4BE4-8434-0F52D64585F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27"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8"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AB1E5CC-A67D-4492-A36F-34EF4BEB7E1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32"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4"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5"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F35A15F-1F9D-46D7-873E-91BB2C1863A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3C9F84F-9EDB-469C-ACC4-510A510C53B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49"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B4E2B72-92C9-48C3-B3A1-37F0E038CA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51"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F1BB15B-B9AE-489F-8D12-7767B7CC892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4"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2"/>
          </p:nvPr>
        </p:nvSpPr>
        <p:spPr/>
        <p:txBody>
          <a:bodyPr/>
          <a:p>
            <a:fld id="{2872283A-EBE3-4907-A4CD-FC3680233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53"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CB7A70C-D293-447A-8FA2-2FF9E7459C7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2D6EEB3-BAAA-4949-B329-547833249F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95CAB5E-D3B9-4921-96E2-3DC0156C68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58"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69563AF-E8B7-49DC-8A6C-34F7CC2BA4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62"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A35677-9BED-4449-BE12-96DB081DE5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6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0B986BE-1EF9-46D7-9592-F444E3B3F4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70"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1"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A5B463-990E-4FCE-81C8-F5046E4B71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73"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4"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5"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99C5E3A-F211-4768-AF15-1E898B2A033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78"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1"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3"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CC2AEBD-E9C8-4360-8D88-A4D9A41C6AB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3" name="PlaceHolder 2"/>
          <p:cNvSpPr>
            <a:spLocks noGrp="1"/>
          </p:cNvSpPr>
          <p:nvPr>
            <p:ph type="sldNum" idx="2"/>
          </p:nvPr>
        </p:nvSpPr>
        <p:spPr/>
        <p:txBody>
          <a:bodyPr/>
          <a:p>
            <a:fld id="{804B5505-BD6F-4A4F-A0B2-864A0A181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DB323270-AE8A-48E2-91A7-ADA3EEE6D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19"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80DDC63F-AB4F-4D2D-B2C1-15C4B2FA6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23"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60DE3AB8-187E-46EE-96C0-EED22DBB3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sp>
        <p:nvSpPr>
          <p:cNvPr id="27"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38924B71-C6DE-4620-9E7E-B7D9DD9C1D4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lick to edit the title text format</a:t>
            </a:r>
            <a:endParaRPr b="1" lang="en-US" sz="2800" spc="-1" strike="noStrike">
              <a:solidFill>
                <a:srgbClr val="7bc143"/>
              </a:solidFill>
              <a:latin typeface="Arial"/>
            </a:endParaRPr>
          </a:p>
        </p:txBody>
      </p:sp>
      <p:sp>
        <p:nvSpPr>
          <p:cNvPr id="2"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2532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0000" indent="-27468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165320" indent="-26532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PlaceHolder 3"/>
          <p:cNvSpPr>
            <a:spLocks noGrp="1"/>
          </p:cNvSpPr>
          <p:nvPr>
            <p:ph type="dt" idx="1"/>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27C83-6C18-4AFE-A363-64F606961AED}" type="datetime">
              <a:rPr b="0" lang="fi-FI" sz="1000" spc="-1" strike="noStrike">
                <a:solidFill>
                  <a:srgbClr val="ffffff"/>
                </a:solidFill>
                <a:latin typeface="Times New Roman"/>
              </a:rPr>
              <a:t>29.07.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B2BB-EC46-4FB1-9AEE-DF1D131740E1}"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5" name="Group 29"/>
          <p:cNvGrpSpPr/>
          <p:nvPr/>
        </p:nvGrpSpPr>
        <p:grpSpPr>
          <a:xfrm>
            <a:off x="5867280" y="6324480"/>
            <a:ext cx="2773440" cy="104760"/>
            <a:chOff x="5867280" y="6324480"/>
            <a:chExt cx="2773440" cy="104760"/>
          </a:xfrm>
        </p:grpSpPr>
        <p:sp>
          <p:nvSpPr>
            <p:cNvPr id="6" name="Freeform 27"/>
            <p:cNvSpPr/>
            <p:nvPr/>
          </p:nvSpPr>
          <p:spPr>
            <a:xfrm>
              <a:off x="6978600" y="6324480"/>
              <a:ext cx="1662120" cy="104760"/>
            </a:xfrm>
            <a:custGeom>
              <a:avLst/>
              <a:gdLst/>
              <a:ahLst/>
              <a:rect l="l" t="t" r="r" b="b"/>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28"/>
            <p:cNvSpPr/>
            <p:nvPr/>
          </p:nvSpPr>
          <p:spPr>
            <a:xfrm>
              <a:off x="5867280" y="6324480"/>
              <a:ext cx="1049400" cy="103320"/>
            </a:xfrm>
            <a:custGeom>
              <a:avLst/>
              <a:gdLst/>
              <a:ahLst/>
              <a:rect l="l" t="t" r="r" b="b"/>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 name="Picture 11" descr="SHORT_THL_LOGO_WEB_186x80px.jpg"/>
          <p:cNvPicPr/>
          <p:nvPr/>
        </p:nvPicPr>
        <p:blipFill>
          <a:blip r:embed="rId2"/>
          <a:srcRect l="0" t="9674" r="0" b="12828"/>
          <a:stretch/>
        </p:blipFill>
        <p:spPr>
          <a:xfrm>
            <a:off x="152280" y="5994360"/>
            <a:ext cx="1524240" cy="50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0" y="6553080"/>
            <a:ext cx="9144000" cy="30492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Group 36"/>
          <p:cNvGrpSpPr/>
          <p:nvPr/>
        </p:nvGrpSpPr>
        <p:grpSpPr>
          <a:xfrm>
            <a:off x="2897280" y="5270400"/>
            <a:ext cx="3274560" cy="123840"/>
            <a:chOff x="2897280" y="5270400"/>
            <a:chExt cx="3274560" cy="123840"/>
          </a:xfrm>
        </p:grpSpPr>
        <p:sp>
          <p:nvSpPr>
            <p:cNvPr id="47" name="Freeform 34"/>
            <p:cNvSpPr/>
            <p:nvPr/>
          </p:nvSpPr>
          <p:spPr>
            <a:xfrm>
              <a:off x="4209840" y="5270400"/>
              <a:ext cx="1962000" cy="123840"/>
            </a:xfrm>
            <a:custGeom>
              <a:avLst/>
              <a:gdLst/>
              <a:ahLst/>
              <a:rect l="l" t="t" r="r" b="b"/>
              <a:pathLst>
                <a:path w="12075" h="758">
                  <a:moveTo>
                    <a:pt x="571" y="745"/>
                  </a:moveTo>
                  <a:lnTo>
                    <a:pt x="571" y="16"/>
                  </a:lnTo>
                  <a:lnTo>
                    <a:pt x="462" y="16"/>
                  </a:lnTo>
                  <a:lnTo>
                    <a:pt x="462" y="314"/>
                  </a:lnTo>
                  <a:lnTo>
                    <a:pt x="106" y="314"/>
                  </a:lnTo>
                  <a:lnTo>
                    <a:pt x="106" y="16"/>
                  </a:lnTo>
                  <a:lnTo>
                    <a:pt x="0" y="16"/>
                  </a:lnTo>
                  <a:lnTo>
                    <a:pt x="0" y="745"/>
                  </a:lnTo>
                  <a:lnTo>
                    <a:pt x="106" y="745"/>
                  </a:lnTo>
                  <a:lnTo>
                    <a:pt x="106" y="407"/>
                  </a:lnTo>
                  <a:lnTo>
                    <a:pt x="462" y="407"/>
                  </a:lnTo>
                  <a:lnTo>
                    <a:pt x="462" y="745"/>
                  </a:lnTo>
                  <a:lnTo>
                    <a:pt x="571" y="745"/>
                  </a:lnTo>
                  <a:close/>
                  <a:moveTo>
                    <a:pt x="1379" y="16"/>
                  </a:moveTo>
                  <a:lnTo>
                    <a:pt x="1257" y="16"/>
                  </a:lnTo>
                  <a:lnTo>
                    <a:pt x="1036" y="342"/>
                  </a:lnTo>
                  <a:lnTo>
                    <a:pt x="816" y="16"/>
                  </a:lnTo>
                  <a:lnTo>
                    <a:pt x="692" y="16"/>
                  </a:lnTo>
                  <a:lnTo>
                    <a:pt x="981" y="444"/>
                  </a:lnTo>
                  <a:lnTo>
                    <a:pt x="981" y="745"/>
                  </a:lnTo>
                  <a:lnTo>
                    <a:pt x="1089" y="745"/>
                  </a:lnTo>
                  <a:lnTo>
                    <a:pt x="1089" y="444"/>
                  </a:lnTo>
                  <a:lnTo>
                    <a:pt x="1379" y="16"/>
                  </a:lnTo>
                  <a:close/>
                  <a:moveTo>
                    <a:pt x="2133" y="16"/>
                  </a:moveTo>
                  <a:lnTo>
                    <a:pt x="2019" y="16"/>
                  </a:lnTo>
                  <a:lnTo>
                    <a:pt x="1793" y="635"/>
                  </a:lnTo>
                  <a:lnTo>
                    <a:pt x="1568" y="16"/>
                  </a:lnTo>
                  <a:lnTo>
                    <a:pt x="1451" y="16"/>
                  </a:lnTo>
                  <a:lnTo>
                    <a:pt x="1722" y="745"/>
                  </a:lnTo>
                  <a:lnTo>
                    <a:pt x="1866" y="745"/>
                  </a:lnTo>
                  <a:lnTo>
                    <a:pt x="2133" y="16"/>
                  </a:lnTo>
                  <a:close/>
                  <a:moveTo>
                    <a:pt x="2416" y="745"/>
                  </a:moveTo>
                  <a:lnTo>
                    <a:pt x="2416" y="16"/>
                  </a:lnTo>
                  <a:lnTo>
                    <a:pt x="2310" y="16"/>
                  </a:lnTo>
                  <a:lnTo>
                    <a:pt x="2310" y="745"/>
                  </a:lnTo>
                  <a:lnTo>
                    <a:pt x="2416" y="745"/>
                  </a:lnTo>
                  <a:close/>
                  <a:moveTo>
                    <a:pt x="3251" y="745"/>
                  </a:moveTo>
                  <a:lnTo>
                    <a:pt x="3251" y="16"/>
                  </a:lnTo>
                  <a:lnTo>
                    <a:pt x="3143" y="16"/>
                  </a:lnTo>
                  <a:lnTo>
                    <a:pt x="3143" y="598"/>
                  </a:lnTo>
                  <a:lnTo>
                    <a:pt x="3139" y="598"/>
                  </a:lnTo>
                  <a:lnTo>
                    <a:pt x="2819" y="16"/>
                  </a:lnTo>
                  <a:lnTo>
                    <a:pt x="2679" y="16"/>
                  </a:lnTo>
                  <a:lnTo>
                    <a:pt x="2679" y="745"/>
                  </a:lnTo>
                  <a:lnTo>
                    <a:pt x="2787" y="745"/>
                  </a:lnTo>
                  <a:lnTo>
                    <a:pt x="2787" y="160"/>
                  </a:lnTo>
                  <a:lnTo>
                    <a:pt x="2791" y="160"/>
                  </a:lnTo>
                  <a:lnTo>
                    <a:pt x="3111" y="745"/>
                  </a:lnTo>
                  <a:lnTo>
                    <a:pt x="3251" y="745"/>
                  </a:lnTo>
                  <a:close/>
                  <a:moveTo>
                    <a:pt x="4075" y="16"/>
                  </a:moveTo>
                  <a:lnTo>
                    <a:pt x="3959" y="16"/>
                  </a:lnTo>
                  <a:lnTo>
                    <a:pt x="3735" y="635"/>
                  </a:lnTo>
                  <a:lnTo>
                    <a:pt x="3510" y="16"/>
                  </a:lnTo>
                  <a:lnTo>
                    <a:pt x="3391" y="16"/>
                  </a:lnTo>
                  <a:lnTo>
                    <a:pt x="3663" y="745"/>
                  </a:lnTo>
                  <a:lnTo>
                    <a:pt x="3806" y="745"/>
                  </a:lnTo>
                  <a:lnTo>
                    <a:pt x="4075" y="16"/>
                  </a:lnTo>
                  <a:close/>
                  <a:moveTo>
                    <a:pt x="4868" y="380"/>
                  </a:moveTo>
                  <a:lnTo>
                    <a:pt x="4867" y="340"/>
                  </a:lnTo>
                  <a:lnTo>
                    <a:pt x="4863" y="302"/>
                  </a:lnTo>
                  <a:lnTo>
                    <a:pt x="4856" y="265"/>
                  </a:lnTo>
                  <a:lnTo>
                    <a:pt x="4846" y="232"/>
                  </a:lnTo>
                  <a:lnTo>
                    <a:pt x="4833" y="199"/>
                  </a:lnTo>
                  <a:lnTo>
                    <a:pt x="4817" y="167"/>
                  </a:lnTo>
                  <a:lnTo>
                    <a:pt x="4799" y="139"/>
                  </a:lnTo>
                  <a:lnTo>
                    <a:pt x="4779" y="112"/>
                  </a:lnTo>
                  <a:lnTo>
                    <a:pt x="4754" y="86"/>
                  </a:lnTo>
                  <a:lnTo>
                    <a:pt x="4726" y="64"/>
                  </a:lnTo>
                  <a:lnTo>
                    <a:pt x="4696" y="45"/>
                  </a:lnTo>
                  <a:lnTo>
                    <a:pt x="4664" y="29"/>
                  </a:lnTo>
                  <a:lnTo>
                    <a:pt x="4630" y="18"/>
                  </a:lnTo>
                  <a:lnTo>
                    <a:pt x="4595" y="9"/>
                  </a:lnTo>
                  <a:lnTo>
                    <a:pt x="4557" y="3"/>
                  </a:lnTo>
                  <a:lnTo>
                    <a:pt x="4516" y="2"/>
                  </a:lnTo>
                  <a:lnTo>
                    <a:pt x="4475" y="3"/>
                  </a:lnTo>
                  <a:lnTo>
                    <a:pt x="4437" y="9"/>
                  </a:lnTo>
                  <a:lnTo>
                    <a:pt x="4400" y="18"/>
                  </a:lnTo>
                  <a:lnTo>
                    <a:pt x="4366" y="29"/>
                  </a:lnTo>
                  <a:lnTo>
                    <a:pt x="4335" y="45"/>
                  </a:lnTo>
                  <a:lnTo>
                    <a:pt x="4305" y="64"/>
                  </a:lnTo>
                  <a:lnTo>
                    <a:pt x="4278" y="86"/>
                  </a:lnTo>
                  <a:lnTo>
                    <a:pt x="4253" y="112"/>
                  </a:lnTo>
                  <a:lnTo>
                    <a:pt x="4232" y="138"/>
                  </a:lnTo>
                  <a:lnTo>
                    <a:pt x="4214" y="167"/>
                  </a:lnTo>
                  <a:lnTo>
                    <a:pt x="4198" y="198"/>
                  </a:lnTo>
                  <a:lnTo>
                    <a:pt x="4186" y="230"/>
                  </a:lnTo>
                  <a:lnTo>
                    <a:pt x="4177" y="265"/>
                  </a:lnTo>
                  <a:lnTo>
                    <a:pt x="4170" y="301"/>
                  </a:lnTo>
                  <a:lnTo>
                    <a:pt x="4166" y="340"/>
                  </a:lnTo>
                  <a:lnTo>
                    <a:pt x="4164" y="380"/>
                  </a:lnTo>
                  <a:lnTo>
                    <a:pt x="4166" y="421"/>
                  </a:lnTo>
                  <a:lnTo>
                    <a:pt x="4170" y="459"/>
                  </a:lnTo>
                  <a:lnTo>
                    <a:pt x="4177" y="495"/>
                  </a:lnTo>
                  <a:lnTo>
                    <a:pt x="4187" y="530"/>
                  </a:lnTo>
                  <a:lnTo>
                    <a:pt x="4200" y="561"/>
                  </a:lnTo>
                  <a:lnTo>
                    <a:pt x="4214" y="592"/>
                  </a:lnTo>
                  <a:lnTo>
                    <a:pt x="4232" y="621"/>
                  </a:lnTo>
                  <a:lnTo>
                    <a:pt x="4253" y="647"/>
                  </a:lnTo>
                  <a:lnTo>
                    <a:pt x="4278" y="674"/>
                  </a:lnTo>
                  <a:lnTo>
                    <a:pt x="4305" y="696"/>
                  </a:lnTo>
                  <a:lnTo>
                    <a:pt x="4335" y="715"/>
                  </a:lnTo>
                  <a:lnTo>
                    <a:pt x="4366" y="730"/>
                  </a:lnTo>
                  <a:lnTo>
                    <a:pt x="4400" y="742"/>
                  </a:lnTo>
                  <a:lnTo>
                    <a:pt x="4437" y="751"/>
                  </a:lnTo>
                  <a:lnTo>
                    <a:pt x="4475" y="756"/>
                  </a:lnTo>
                  <a:lnTo>
                    <a:pt x="4516" y="758"/>
                  </a:lnTo>
                  <a:lnTo>
                    <a:pt x="4557" y="756"/>
                  </a:lnTo>
                  <a:lnTo>
                    <a:pt x="4595" y="751"/>
                  </a:lnTo>
                  <a:lnTo>
                    <a:pt x="4630" y="742"/>
                  </a:lnTo>
                  <a:lnTo>
                    <a:pt x="4664" y="730"/>
                  </a:lnTo>
                  <a:lnTo>
                    <a:pt x="4696" y="715"/>
                  </a:lnTo>
                  <a:lnTo>
                    <a:pt x="4726" y="696"/>
                  </a:lnTo>
                  <a:lnTo>
                    <a:pt x="4754" y="674"/>
                  </a:lnTo>
                  <a:lnTo>
                    <a:pt x="4779" y="647"/>
                  </a:lnTo>
                  <a:lnTo>
                    <a:pt x="4799" y="620"/>
                  </a:lnTo>
                  <a:lnTo>
                    <a:pt x="4817" y="592"/>
                  </a:lnTo>
                  <a:lnTo>
                    <a:pt x="4833" y="561"/>
                  </a:lnTo>
                  <a:lnTo>
                    <a:pt x="4846" y="529"/>
                  </a:lnTo>
                  <a:lnTo>
                    <a:pt x="4856" y="495"/>
                  </a:lnTo>
                  <a:lnTo>
                    <a:pt x="4863" y="459"/>
                  </a:lnTo>
                  <a:lnTo>
                    <a:pt x="4867" y="421"/>
                  </a:lnTo>
                  <a:lnTo>
                    <a:pt x="4868" y="380"/>
                  </a:lnTo>
                  <a:close/>
                  <a:moveTo>
                    <a:pt x="4757" y="380"/>
                  </a:moveTo>
                  <a:lnTo>
                    <a:pt x="4756" y="410"/>
                  </a:lnTo>
                  <a:lnTo>
                    <a:pt x="4754" y="440"/>
                  </a:lnTo>
                  <a:lnTo>
                    <a:pt x="4748" y="467"/>
                  </a:lnTo>
                  <a:lnTo>
                    <a:pt x="4741" y="493"/>
                  </a:lnTo>
                  <a:lnTo>
                    <a:pt x="4734" y="517"/>
                  </a:lnTo>
                  <a:lnTo>
                    <a:pt x="4722" y="541"/>
                  </a:lnTo>
                  <a:lnTo>
                    <a:pt x="4710" y="562"/>
                  </a:lnTo>
                  <a:lnTo>
                    <a:pt x="4694" y="584"/>
                  </a:lnTo>
                  <a:lnTo>
                    <a:pt x="4677" y="603"/>
                  </a:lnTo>
                  <a:lnTo>
                    <a:pt x="4659" y="619"/>
                  </a:lnTo>
                  <a:lnTo>
                    <a:pt x="4638" y="633"/>
                  </a:lnTo>
                  <a:lnTo>
                    <a:pt x="4617" y="644"/>
                  </a:lnTo>
                  <a:lnTo>
                    <a:pt x="4594" y="653"/>
                  </a:lnTo>
                  <a:lnTo>
                    <a:pt x="4569" y="660"/>
                  </a:lnTo>
                  <a:lnTo>
                    <a:pt x="4543" y="664"/>
                  </a:lnTo>
                  <a:lnTo>
                    <a:pt x="4516" y="665"/>
                  </a:lnTo>
                  <a:lnTo>
                    <a:pt x="4489" y="664"/>
                  </a:lnTo>
                  <a:lnTo>
                    <a:pt x="4463" y="660"/>
                  </a:lnTo>
                  <a:lnTo>
                    <a:pt x="4438" y="653"/>
                  </a:lnTo>
                  <a:lnTo>
                    <a:pt x="4415" y="644"/>
                  </a:lnTo>
                  <a:lnTo>
                    <a:pt x="4393" y="633"/>
                  </a:lnTo>
                  <a:lnTo>
                    <a:pt x="4373" y="619"/>
                  </a:lnTo>
                  <a:lnTo>
                    <a:pt x="4355" y="603"/>
                  </a:lnTo>
                  <a:lnTo>
                    <a:pt x="4338" y="584"/>
                  </a:lnTo>
                  <a:lnTo>
                    <a:pt x="4322" y="562"/>
                  </a:lnTo>
                  <a:lnTo>
                    <a:pt x="4310" y="541"/>
                  </a:lnTo>
                  <a:lnTo>
                    <a:pt x="4298" y="517"/>
                  </a:lnTo>
                  <a:lnTo>
                    <a:pt x="4289" y="493"/>
                  </a:lnTo>
                  <a:lnTo>
                    <a:pt x="4282" y="467"/>
                  </a:lnTo>
                  <a:lnTo>
                    <a:pt x="4277" y="440"/>
                  </a:lnTo>
                  <a:lnTo>
                    <a:pt x="4274" y="410"/>
                  </a:lnTo>
                  <a:lnTo>
                    <a:pt x="4273" y="380"/>
                  </a:lnTo>
                  <a:lnTo>
                    <a:pt x="4274" y="350"/>
                  </a:lnTo>
                  <a:lnTo>
                    <a:pt x="4277" y="322"/>
                  </a:lnTo>
                  <a:lnTo>
                    <a:pt x="4282" y="293"/>
                  </a:lnTo>
                  <a:lnTo>
                    <a:pt x="4289" y="268"/>
                  </a:lnTo>
                  <a:lnTo>
                    <a:pt x="4298" y="243"/>
                  </a:lnTo>
                  <a:lnTo>
                    <a:pt x="4310" y="220"/>
                  </a:lnTo>
                  <a:lnTo>
                    <a:pt x="4322" y="198"/>
                  </a:lnTo>
                  <a:lnTo>
                    <a:pt x="4338" y="178"/>
                  </a:lnTo>
                  <a:lnTo>
                    <a:pt x="4355" y="158"/>
                  </a:lnTo>
                  <a:lnTo>
                    <a:pt x="4374" y="142"/>
                  </a:lnTo>
                  <a:lnTo>
                    <a:pt x="4393" y="127"/>
                  </a:lnTo>
                  <a:lnTo>
                    <a:pt x="4415" y="116"/>
                  </a:lnTo>
                  <a:lnTo>
                    <a:pt x="4439" y="107"/>
                  </a:lnTo>
                  <a:lnTo>
                    <a:pt x="4463" y="100"/>
                  </a:lnTo>
                  <a:lnTo>
                    <a:pt x="4489" y="97"/>
                  </a:lnTo>
                  <a:lnTo>
                    <a:pt x="4516" y="95"/>
                  </a:lnTo>
                  <a:lnTo>
                    <a:pt x="4543" y="97"/>
                  </a:lnTo>
                  <a:lnTo>
                    <a:pt x="4569" y="100"/>
                  </a:lnTo>
                  <a:lnTo>
                    <a:pt x="4593" y="107"/>
                  </a:lnTo>
                  <a:lnTo>
                    <a:pt x="4616" y="116"/>
                  </a:lnTo>
                  <a:lnTo>
                    <a:pt x="4637" y="127"/>
                  </a:lnTo>
                  <a:lnTo>
                    <a:pt x="4658" y="142"/>
                  </a:lnTo>
                  <a:lnTo>
                    <a:pt x="4677" y="158"/>
                  </a:lnTo>
                  <a:lnTo>
                    <a:pt x="4694" y="178"/>
                  </a:lnTo>
                  <a:lnTo>
                    <a:pt x="4710" y="198"/>
                  </a:lnTo>
                  <a:lnTo>
                    <a:pt x="4722" y="220"/>
                  </a:lnTo>
                  <a:lnTo>
                    <a:pt x="4734" y="243"/>
                  </a:lnTo>
                  <a:lnTo>
                    <a:pt x="4741" y="268"/>
                  </a:lnTo>
                  <a:lnTo>
                    <a:pt x="4748" y="293"/>
                  </a:lnTo>
                  <a:lnTo>
                    <a:pt x="4754" y="322"/>
                  </a:lnTo>
                  <a:lnTo>
                    <a:pt x="4756" y="350"/>
                  </a:lnTo>
                  <a:lnTo>
                    <a:pt x="4757" y="380"/>
                  </a:lnTo>
                  <a:close/>
                  <a:moveTo>
                    <a:pt x="5179" y="745"/>
                  </a:moveTo>
                  <a:lnTo>
                    <a:pt x="5179" y="16"/>
                  </a:lnTo>
                  <a:lnTo>
                    <a:pt x="5072" y="16"/>
                  </a:lnTo>
                  <a:lnTo>
                    <a:pt x="5072" y="745"/>
                  </a:lnTo>
                  <a:lnTo>
                    <a:pt x="5179" y="745"/>
                  </a:lnTo>
                  <a:close/>
                  <a:moveTo>
                    <a:pt x="6012" y="745"/>
                  </a:moveTo>
                  <a:lnTo>
                    <a:pt x="6012" y="16"/>
                  </a:lnTo>
                  <a:lnTo>
                    <a:pt x="5905" y="16"/>
                  </a:lnTo>
                  <a:lnTo>
                    <a:pt x="5905" y="598"/>
                  </a:lnTo>
                  <a:lnTo>
                    <a:pt x="5900" y="598"/>
                  </a:lnTo>
                  <a:lnTo>
                    <a:pt x="5580" y="16"/>
                  </a:lnTo>
                  <a:lnTo>
                    <a:pt x="5441" y="16"/>
                  </a:lnTo>
                  <a:lnTo>
                    <a:pt x="5441" y="745"/>
                  </a:lnTo>
                  <a:lnTo>
                    <a:pt x="5549" y="745"/>
                  </a:lnTo>
                  <a:lnTo>
                    <a:pt x="5549" y="160"/>
                  </a:lnTo>
                  <a:lnTo>
                    <a:pt x="5552" y="160"/>
                  </a:lnTo>
                  <a:lnTo>
                    <a:pt x="5873" y="745"/>
                  </a:lnTo>
                  <a:lnTo>
                    <a:pt x="6012" y="745"/>
                  </a:lnTo>
                  <a:close/>
                  <a:moveTo>
                    <a:pt x="6811" y="745"/>
                  </a:moveTo>
                  <a:lnTo>
                    <a:pt x="6811" y="16"/>
                  </a:lnTo>
                  <a:lnTo>
                    <a:pt x="6704" y="16"/>
                  </a:lnTo>
                  <a:lnTo>
                    <a:pt x="6704" y="598"/>
                  </a:lnTo>
                  <a:lnTo>
                    <a:pt x="6700" y="598"/>
                  </a:lnTo>
                  <a:lnTo>
                    <a:pt x="6381" y="16"/>
                  </a:lnTo>
                  <a:lnTo>
                    <a:pt x="6241" y="16"/>
                  </a:lnTo>
                  <a:lnTo>
                    <a:pt x="6241" y="745"/>
                  </a:lnTo>
                  <a:lnTo>
                    <a:pt x="6349" y="745"/>
                  </a:lnTo>
                  <a:lnTo>
                    <a:pt x="6349" y="160"/>
                  </a:lnTo>
                  <a:lnTo>
                    <a:pt x="6351" y="160"/>
                  </a:lnTo>
                  <a:lnTo>
                    <a:pt x="6672" y="745"/>
                  </a:lnTo>
                  <a:lnTo>
                    <a:pt x="6811" y="745"/>
                  </a:lnTo>
                  <a:close/>
                  <a:moveTo>
                    <a:pt x="7161" y="745"/>
                  </a:moveTo>
                  <a:lnTo>
                    <a:pt x="7161" y="16"/>
                  </a:lnTo>
                  <a:lnTo>
                    <a:pt x="7054" y="16"/>
                  </a:lnTo>
                  <a:lnTo>
                    <a:pt x="7054" y="745"/>
                  </a:lnTo>
                  <a:lnTo>
                    <a:pt x="7161" y="745"/>
                  </a:lnTo>
                  <a:close/>
                  <a:moveTo>
                    <a:pt x="7959" y="745"/>
                  </a:moveTo>
                  <a:lnTo>
                    <a:pt x="7959" y="16"/>
                  </a:lnTo>
                  <a:lnTo>
                    <a:pt x="7851" y="16"/>
                  </a:lnTo>
                  <a:lnTo>
                    <a:pt x="7851" y="598"/>
                  </a:lnTo>
                  <a:lnTo>
                    <a:pt x="7846" y="598"/>
                  </a:lnTo>
                  <a:lnTo>
                    <a:pt x="7527" y="16"/>
                  </a:lnTo>
                  <a:lnTo>
                    <a:pt x="7387" y="16"/>
                  </a:lnTo>
                  <a:lnTo>
                    <a:pt x="7387" y="745"/>
                  </a:lnTo>
                  <a:lnTo>
                    <a:pt x="7495" y="745"/>
                  </a:lnTo>
                  <a:lnTo>
                    <a:pt x="7495" y="160"/>
                  </a:lnTo>
                  <a:lnTo>
                    <a:pt x="7498" y="160"/>
                  </a:lnTo>
                  <a:lnTo>
                    <a:pt x="7819" y="745"/>
                  </a:lnTo>
                  <a:lnTo>
                    <a:pt x="7959" y="745"/>
                  </a:lnTo>
                  <a:close/>
                  <a:moveTo>
                    <a:pt x="8930" y="745"/>
                  </a:moveTo>
                  <a:lnTo>
                    <a:pt x="8930" y="651"/>
                  </a:lnTo>
                  <a:lnTo>
                    <a:pt x="8629" y="651"/>
                  </a:lnTo>
                  <a:lnTo>
                    <a:pt x="8629" y="16"/>
                  </a:lnTo>
                  <a:lnTo>
                    <a:pt x="8522" y="16"/>
                  </a:lnTo>
                  <a:lnTo>
                    <a:pt x="8522" y="745"/>
                  </a:lnTo>
                  <a:lnTo>
                    <a:pt x="8930" y="745"/>
                  </a:lnTo>
                  <a:close/>
                  <a:moveTo>
                    <a:pt x="9779" y="745"/>
                  </a:moveTo>
                  <a:lnTo>
                    <a:pt x="9458" y="16"/>
                  </a:lnTo>
                  <a:lnTo>
                    <a:pt x="9356" y="16"/>
                  </a:lnTo>
                  <a:lnTo>
                    <a:pt x="9036" y="745"/>
                  </a:lnTo>
                  <a:lnTo>
                    <a:pt x="9151" y="745"/>
                  </a:lnTo>
                  <a:lnTo>
                    <a:pt x="9227" y="558"/>
                  </a:lnTo>
                  <a:lnTo>
                    <a:pt x="9587" y="558"/>
                  </a:lnTo>
                  <a:lnTo>
                    <a:pt x="9665" y="745"/>
                  </a:lnTo>
                  <a:lnTo>
                    <a:pt x="9779" y="745"/>
                  </a:lnTo>
                  <a:close/>
                  <a:moveTo>
                    <a:pt x="9554" y="475"/>
                  </a:moveTo>
                  <a:lnTo>
                    <a:pt x="9262" y="475"/>
                  </a:lnTo>
                  <a:lnTo>
                    <a:pt x="9407" y="116"/>
                  </a:lnTo>
                  <a:lnTo>
                    <a:pt x="9554" y="475"/>
                  </a:lnTo>
                  <a:close/>
                  <a:moveTo>
                    <a:pt x="10024" y="745"/>
                  </a:moveTo>
                  <a:lnTo>
                    <a:pt x="10024" y="16"/>
                  </a:lnTo>
                  <a:lnTo>
                    <a:pt x="9918" y="16"/>
                  </a:lnTo>
                  <a:lnTo>
                    <a:pt x="9918" y="745"/>
                  </a:lnTo>
                  <a:lnTo>
                    <a:pt x="10024" y="745"/>
                  </a:lnTo>
                  <a:close/>
                  <a:moveTo>
                    <a:pt x="10726" y="107"/>
                  </a:moveTo>
                  <a:lnTo>
                    <a:pt x="10726" y="16"/>
                  </a:lnTo>
                  <a:lnTo>
                    <a:pt x="10170" y="16"/>
                  </a:lnTo>
                  <a:lnTo>
                    <a:pt x="10170" y="107"/>
                  </a:lnTo>
                  <a:lnTo>
                    <a:pt x="10395" y="107"/>
                  </a:lnTo>
                  <a:lnTo>
                    <a:pt x="10395" y="745"/>
                  </a:lnTo>
                  <a:lnTo>
                    <a:pt x="10502" y="745"/>
                  </a:lnTo>
                  <a:lnTo>
                    <a:pt x="10502" y="107"/>
                  </a:lnTo>
                  <a:lnTo>
                    <a:pt x="10726" y="107"/>
                  </a:lnTo>
                  <a:close/>
                  <a:moveTo>
                    <a:pt x="11505" y="380"/>
                  </a:moveTo>
                  <a:lnTo>
                    <a:pt x="11503" y="340"/>
                  </a:lnTo>
                  <a:lnTo>
                    <a:pt x="11499" y="302"/>
                  </a:lnTo>
                  <a:lnTo>
                    <a:pt x="11492" y="265"/>
                  </a:lnTo>
                  <a:lnTo>
                    <a:pt x="11482" y="232"/>
                  </a:lnTo>
                  <a:lnTo>
                    <a:pt x="11469" y="199"/>
                  </a:lnTo>
                  <a:lnTo>
                    <a:pt x="11454" y="167"/>
                  </a:lnTo>
                  <a:lnTo>
                    <a:pt x="11437" y="139"/>
                  </a:lnTo>
                  <a:lnTo>
                    <a:pt x="11415" y="112"/>
                  </a:lnTo>
                  <a:lnTo>
                    <a:pt x="11390" y="86"/>
                  </a:lnTo>
                  <a:lnTo>
                    <a:pt x="11363" y="64"/>
                  </a:lnTo>
                  <a:lnTo>
                    <a:pt x="11333" y="45"/>
                  </a:lnTo>
                  <a:lnTo>
                    <a:pt x="11302" y="29"/>
                  </a:lnTo>
                  <a:lnTo>
                    <a:pt x="11268" y="18"/>
                  </a:lnTo>
                  <a:lnTo>
                    <a:pt x="11231" y="9"/>
                  </a:lnTo>
                  <a:lnTo>
                    <a:pt x="11193" y="3"/>
                  </a:lnTo>
                  <a:lnTo>
                    <a:pt x="11152" y="2"/>
                  </a:lnTo>
                  <a:lnTo>
                    <a:pt x="11111" y="3"/>
                  </a:lnTo>
                  <a:lnTo>
                    <a:pt x="11073" y="9"/>
                  </a:lnTo>
                  <a:lnTo>
                    <a:pt x="11036" y="18"/>
                  </a:lnTo>
                  <a:lnTo>
                    <a:pt x="11002" y="29"/>
                  </a:lnTo>
                  <a:lnTo>
                    <a:pt x="10971" y="45"/>
                  </a:lnTo>
                  <a:lnTo>
                    <a:pt x="10941" y="64"/>
                  </a:lnTo>
                  <a:lnTo>
                    <a:pt x="10914" y="86"/>
                  </a:lnTo>
                  <a:lnTo>
                    <a:pt x="10889" y="112"/>
                  </a:lnTo>
                  <a:lnTo>
                    <a:pt x="10869" y="138"/>
                  </a:lnTo>
                  <a:lnTo>
                    <a:pt x="10851" y="167"/>
                  </a:lnTo>
                  <a:lnTo>
                    <a:pt x="10835" y="198"/>
                  </a:lnTo>
                  <a:lnTo>
                    <a:pt x="10822" y="230"/>
                  </a:lnTo>
                  <a:lnTo>
                    <a:pt x="10813" y="265"/>
                  </a:lnTo>
                  <a:lnTo>
                    <a:pt x="10806" y="301"/>
                  </a:lnTo>
                  <a:lnTo>
                    <a:pt x="10802" y="340"/>
                  </a:lnTo>
                  <a:lnTo>
                    <a:pt x="10801" y="380"/>
                  </a:lnTo>
                  <a:lnTo>
                    <a:pt x="10802" y="421"/>
                  </a:lnTo>
                  <a:lnTo>
                    <a:pt x="10806" y="459"/>
                  </a:lnTo>
                  <a:lnTo>
                    <a:pt x="10813" y="495"/>
                  </a:lnTo>
                  <a:lnTo>
                    <a:pt x="10823" y="530"/>
                  </a:lnTo>
                  <a:lnTo>
                    <a:pt x="10836" y="561"/>
                  </a:lnTo>
                  <a:lnTo>
                    <a:pt x="10851" y="592"/>
                  </a:lnTo>
                  <a:lnTo>
                    <a:pt x="10869" y="621"/>
                  </a:lnTo>
                  <a:lnTo>
                    <a:pt x="10889" y="647"/>
                  </a:lnTo>
                  <a:lnTo>
                    <a:pt x="10914" y="674"/>
                  </a:lnTo>
                  <a:lnTo>
                    <a:pt x="10941" y="696"/>
                  </a:lnTo>
                  <a:lnTo>
                    <a:pt x="10971" y="715"/>
                  </a:lnTo>
                  <a:lnTo>
                    <a:pt x="11002" y="730"/>
                  </a:lnTo>
                  <a:lnTo>
                    <a:pt x="11036" y="742"/>
                  </a:lnTo>
                  <a:lnTo>
                    <a:pt x="11073" y="751"/>
                  </a:lnTo>
                  <a:lnTo>
                    <a:pt x="11111" y="756"/>
                  </a:lnTo>
                  <a:lnTo>
                    <a:pt x="11152" y="758"/>
                  </a:lnTo>
                  <a:lnTo>
                    <a:pt x="11193" y="756"/>
                  </a:lnTo>
                  <a:lnTo>
                    <a:pt x="11231" y="751"/>
                  </a:lnTo>
                  <a:lnTo>
                    <a:pt x="11268" y="742"/>
                  </a:lnTo>
                  <a:lnTo>
                    <a:pt x="11302" y="730"/>
                  </a:lnTo>
                  <a:lnTo>
                    <a:pt x="11333" y="715"/>
                  </a:lnTo>
                  <a:lnTo>
                    <a:pt x="11363" y="696"/>
                  </a:lnTo>
                  <a:lnTo>
                    <a:pt x="11390" y="674"/>
                  </a:lnTo>
                  <a:lnTo>
                    <a:pt x="11415" y="647"/>
                  </a:lnTo>
                  <a:lnTo>
                    <a:pt x="11437" y="620"/>
                  </a:lnTo>
                  <a:lnTo>
                    <a:pt x="11454" y="592"/>
                  </a:lnTo>
                  <a:lnTo>
                    <a:pt x="11469" y="561"/>
                  </a:lnTo>
                  <a:lnTo>
                    <a:pt x="11482" y="529"/>
                  </a:lnTo>
                  <a:lnTo>
                    <a:pt x="11492" y="495"/>
                  </a:lnTo>
                  <a:lnTo>
                    <a:pt x="11499" y="459"/>
                  </a:lnTo>
                  <a:lnTo>
                    <a:pt x="11503" y="421"/>
                  </a:lnTo>
                  <a:lnTo>
                    <a:pt x="11505" y="380"/>
                  </a:lnTo>
                  <a:close/>
                  <a:moveTo>
                    <a:pt x="11395" y="380"/>
                  </a:moveTo>
                  <a:lnTo>
                    <a:pt x="11394" y="410"/>
                  </a:lnTo>
                  <a:lnTo>
                    <a:pt x="11390" y="440"/>
                  </a:lnTo>
                  <a:lnTo>
                    <a:pt x="11386" y="467"/>
                  </a:lnTo>
                  <a:lnTo>
                    <a:pt x="11379" y="493"/>
                  </a:lnTo>
                  <a:lnTo>
                    <a:pt x="11370" y="517"/>
                  </a:lnTo>
                  <a:lnTo>
                    <a:pt x="11358" y="541"/>
                  </a:lnTo>
                  <a:lnTo>
                    <a:pt x="11346" y="562"/>
                  </a:lnTo>
                  <a:lnTo>
                    <a:pt x="11331" y="584"/>
                  </a:lnTo>
                  <a:lnTo>
                    <a:pt x="11313" y="603"/>
                  </a:lnTo>
                  <a:lnTo>
                    <a:pt x="11295" y="619"/>
                  </a:lnTo>
                  <a:lnTo>
                    <a:pt x="11274" y="633"/>
                  </a:lnTo>
                  <a:lnTo>
                    <a:pt x="11253" y="644"/>
                  </a:lnTo>
                  <a:lnTo>
                    <a:pt x="11230" y="653"/>
                  </a:lnTo>
                  <a:lnTo>
                    <a:pt x="11205" y="660"/>
                  </a:lnTo>
                  <a:lnTo>
                    <a:pt x="11179" y="664"/>
                  </a:lnTo>
                  <a:lnTo>
                    <a:pt x="11152" y="665"/>
                  </a:lnTo>
                  <a:lnTo>
                    <a:pt x="11125" y="664"/>
                  </a:lnTo>
                  <a:lnTo>
                    <a:pt x="11099" y="660"/>
                  </a:lnTo>
                  <a:lnTo>
                    <a:pt x="11075" y="653"/>
                  </a:lnTo>
                  <a:lnTo>
                    <a:pt x="11051" y="644"/>
                  </a:lnTo>
                  <a:lnTo>
                    <a:pt x="11030" y="633"/>
                  </a:lnTo>
                  <a:lnTo>
                    <a:pt x="11009" y="619"/>
                  </a:lnTo>
                  <a:lnTo>
                    <a:pt x="10991" y="603"/>
                  </a:lnTo>
                  <a:lnTo>
                    <a:pt x="10974" y="584"/>
                  </a:lnTo>
                  <a:lnTo>
                    <a:pt x="10959" y="562"/>
                  </a:lnTo>
                  <a:lnTo>
                    <a:pt x="10946" y="541"/>
                  </a:lnTo>
                  <a:lnTo>
                    <a:pt x="10934" y="517"/>
                  </a:lnTo>
                  <a:lnTo>
                    <a:pt x="10925" y="493"/>
                  </a:lnTo>
                  <a:lnTo>
                    <a:pt x="10919" y="467"/>
                  </a:lnTo>
                  <a:lnTo>
                    <a:pt x="10914" y="440"/>
                  </a:lnTo>
                  <a:lnTo>
                    <a:pt x="10911" y="410"/>
                  </a:lnTo>
                  <a:lnTo>
                    <a:pt x="10909" y="380"/>
                  </a:lnTo>
                  <a:lnTo>
                    <a:pt x="10911" y="350"/>
                  </a:lnTo>
                  <a:lnTo>
                    <a:pt x="10914" y="322"/>
                  </a:lnTo>
                  <a:lnTo>
                    <a:pt x="10919" y="293"/>
                  </a:lnTo>
                  <a:lnTo>
                    <a:pt x="10925" y="268"/>
                  </a:lnTo>
                  <a:lnTo>
                    <a:pt x="10934" y="243"/>
                  </a:lnTo>
                  <a:lnTo>
                    <a:pt x="10946" y="220"/>
                  </a:lnTo>
                  <a:lnTo>
                    <a:pt x="10959" y="198"/>
                  </a:lnTo>
                  <a:lnTo>
                    <a:pt x="10974" y="178"/>
                  </a:lnTo>
                  <a:lnTo>
                    <a:pt x="10991" y="158"/>
                  </a:lnTo>
                  <a:lnTo>
                    <a:pt x="11010" y="142"/>
                  </a:lnTo>
                  <a:lnTo>
                    <a:pt x="11030" y="127"/>
                  </a:lnTo>
                  <a:lnTo>
                    <a:pt x="11051" y="116"/>
                  </a:lnTo>
                  <a:lnTo>
                    <a:pt x="11075" y="107"/>
                  </a:lnTo>
                  <a:lnTo>
                    <a:pt x="11099" y="100"/>
                  </a:lnTo>
                  <a:lnTo>
                    <a:pt x="11125" y="97"/>
                  </a:lnTo>
                  <a:lnTo>
                    <a:pt x="11152" y="95"/>
                  </a:lnTo>
                  <a:lnTo>
                    <a:pt x="11179" y="97"/>
                  </a:lnTo>
                  <a:lnTo>
                    <a:pt x="11205" y="100"/>
                  </a:lnTo>
                  <a:lnTo>
                    <a:pt x="11229" y="107"/>
                  </a:lnTo>
                  <a:lnTo>
                    <a:pt x="11252" y="116"/>
                  </a:lnTo>
                  <a:lnTo>
                    <a:pt x="11273" y="127"/>
                  </a:lnTo>
                  <a:lnTo>
                    <a:pt x="11294" y="142"/>
                  </a:lnTo>
                  <a:lnTo>
                    <a:pt x="11313" y="158"/>
                  </a:lnTo>
                  <a:lnTo>
                    <a:pt x="11331" y="178"/>
                  </a:lnTo>
                  <a:lnTo>
                    <a:pt x="11346" y="198"/>
                  </a:lnTo>
                  <a:lnTo>
                    <a:pt x="11358" y="220"/>
                  </a:lnTo>
                  <a:lnTo>
                    <a:pt x="11370" y="243"/>
                  </a:lnTo>
                  <a:lnTo>
                    <a:pt x="11379" y="268"/>
                  </a:lnTo>
                  <a:lnTo>
                    <a:pt x="11386" y="293"/>
                  </a:lnTo>
                  <a:lnTo>
                    <a:pt x="11390" y="322"/>
                  </a:lnTo>
                  <a:lnTo>
                    <a:pt x="11394" y="350"/>
                  </a:lnTo>
                  <a:lnTo>
                    <a:pt x="11395" y="380"/>
                  </a:lnTo>
                  <a:close/>
                  <a:moveTo>
                    <a:pt x="12075" y="548"/>
                  </a:moveTo>
                  <a:lnTo>
                    <a:pt x="12074" y="522"/>
                  </a:lnTo>
                  <a:lnTo>
                    <a:pt x="12070" y="498"/>
                  </a:lnTo>
                  <a:lnTo>
                    <a:pt x="12063" y="475"/>
                  </a:lnTo>
                  <a:lnTo>
                    <a:pt x="12054" y="452"/>
                  </a:lnTo>
                  <a:lnTo>
                    <a:pt x="12043" y="432"/>
                  </a:lnTo>
                  <a:lnTo>
                    <a:pt x="12029" y="412"/>
                  </a:lnTo>
                  <a:lnTo>
                    <a:pt x="12012" y="392"/>
                  </a:lnTo>
                  <a:lnTo>
                    <a:pt x="11993" y="374"/>
                  </a:lnTo>
                  <a:lnTo>
                    <a:pt x="11973" y="361"/>
                  </a:lnTo>
                  <a:lnTo>
                    <a:pt x="11941" y="342"/>
                  </a:lnTo>
                  <a:lnTo>
                    <a:pt x="11840" y="286"/>
                  </a:lnTo>
                  <a:lnTo>
                    <a:pt x="11821" y="274"/>
                  </a:lnTo>
                  <a:lnTo>
                    <a:pt x="11804" y="263"/>
                  </a:lnTo>
                  <a:lnTo>
                    <a:pt x="11789" y="252"/>
                  </a:lnTo>
                  <a:lnTo>
                    <a:pt x="11778" y="241"/>
                  </a:lnTo>
                  <a:lnTo>
                    <a:pt x="11769" y="230"/>
                  </a:lnTo>
                  <a:lnTo>
                    <a:pt x="11762" y="219"/>
                  </a:lnTo>
                  <a:lnTo>
                    <a:pt x="11760" y="214"/>
                  </a:lnTo>
                  <a:lnTo>
                    <a:pt x="11757" y="208"/>
                  </a:lnTo>
                  <a:lnTo>
                    <a:pt x="11756" y="198"/>
                  </a:lnTo>
                  <a:lnTo>
                    <a:pt x="11759" y="178"/>
                  </a:lnTo>
                  <a:lnTo>
                    <a:pt x="11765" y="160"/>
                  </a:lnTo>
                  <a:lnTo>
                    <a:pt x="11777" y="142"/>
                  </a:lnTo>
                  <a:lnTo>
                    <a:pt x="11785" y="134"/>
                  </a:lnTo>
                  <a:lnTo>
                    <a:pt x="11793" y="126"/>
                  </a:lnTo>
                  <a:lnTo>
                    <a:pt x="11812" y="111"/>
                  </a:lnTo>
                  <a:lnTo>
                    <a:pt x="11822" y="106"/>
                  </a:lnTo>
                  <a:lnTo>
                    <a:pt x="11833" y="101"/>
                  </a:lnTo>
                  <a:lnTo>
                    <a:pt x="11857" y="95"/>
                  </a:lnTo>
                  <a:lnTo>
                    <a:pt x="11884" y="93"/>
                  </a:lnTo>
                  <a:lnTo>
                    <a:pt x="11908" y="95"/>
                  </a:lnTo>
                  <a:lnTo>
                    <a:pt x="11940" y="101"/>
                  </a:lnTo>
                  <a:lnTo>
                    <a:pt x="12029" y="127"/>
                  </a:lnTo>
                  <a:lnTo>
                    <a:pt x="12048" y="26"/>
                  </a:lnTo>
                  <a:lnTo>
                    <a:pt x="12007" y="14"/>
                  </a:lnTo>
                  <a:lnTo>
                    <a:pt x="11966" y="7"/>
                  </a:lnTo>
                  <a:lnTo>
                    <a:pt x="11925" y="1"/>
                  </a:lnTo>
                  <a:lnTo>
                    <a:pt x="11884" y="0"/>
                  </a:lnTo>
                  <a:lnTo>
                    <a:pt x="11862" y="1"/>
                  </a:lnTo>
                  <a:lnTo>
                    <a:pt x="11840" y="3"/>
                  </a:lnTo>
                  <a:lnTo>
                    <a:pt x="11819" y="7"/>
                  </a:lnTo>
                  <a:lnTo>
                    <a:pt x="11798" y="11"/>
                  </a:lnTo>
                  <a:lnTo>
                    <a:pt x="11760" y="27"/>
                  </a:lnTo>
                  <a:lnTo>
                    <a:pt x="11742" y="37"/>
                  </a:lnTo>
                  <a:lnTo>
                    <a:pt x="11723" y="48"/>
                  </a:lnTo>
                  <a:lnTo>
                    <a:pt x="11705" y="63"/>
                  </a:lnTo>
                  <a:lnTo>
                    <a:pt x="11691" y="77"/>
                  </a:lnTo>
                  <a:lnTo>
                    <a:pt x="11677" y="94"/>
                  </a:lnTo>
                  <a:lnTo>
                    <a:pt x="11666" y="113"/>
                  </a:lnTo>
                  <a:lnTo>
                    <a:pt x="11658" y="133"/>
                  </a:lnTo>
                  <a:lnTo>
                    <a:pt x="11652" y="153"/>
                  </a:lnTo>
                  <a:lnTo>
                    <a:pt x="11647" y="174"/>
                  </a:lnTo>
                  <a:lnTo>
                    <a:pt x="11646" y="198"/>
                  </a:lnTo>
                  <a:lnTo>
                    <a:pt x="11649" y="224"/>
                  </a:lnTo>
                  <a:lnTo>
                    <a:pt x="11652" y="236"/>
                  </a:lnTo>
                  <a:lnTo>
                    <a:pt x="11655" y="248"/>
                  </a:lnTo>
                  <a:lnTo>
                    <a:pt x="11667" y="273"/>
                  </a:lnTo>
                  <a:lnTo>
                    <a:pt x="11681" y="296"/>
                  </a:lnTo>
                  <a:lnTo>
                    <a:pt x="11701" y="318"/>
                  </a:lnTo>
                  <a:lnTo>
                    <a:pt x="11726" y="340"/>
                  </a:lnTo>
                  <a:lnTo>
                    <a:pt x="11754" y="360"/>
                  </a:lnTo>
                  <a:lnTo>
                    <a:pt x="11786" y="379"/>
                  </a:lnTo>
                  <a:lnTo>
                    <a:pt x="11824" y="399"/>
                  </a:lnTo>
                  <a:lnTo>
                    <a:pt x="11863" y="418"/>
                  </a:lnTo>
                  <a:lnTo>
                    <a:pt x="11905" y="445"/>
                  </a:lnTo>
                  <a:lnTo>
                    <a:pt x="11922" y="458"/>
                  </a:lnTo>
                  <a:lnTo>
                    <a:pt x="11934" y="470"/>
                  </a:lnTo>
                  <a:lnTo>
                    <a:pt x="11941" y="479"/>
                  </a:lnTo>
                  <a:lnTo>
                    <a:pt x="11948" y="488"/>
                  </a:lnTo>
                  <a:lnTo>
                    <a:pt x="11958" y="506"/>
                  </a:lnTo>
                  <a:lnTo>
                    <a:pt x="11964" y="526"/>
                  </a:lnTo>
                  <a:lnTo>
                    <a:pt x="11966" y="548"/>
                  </a:lnTo>
                  <a:lnTo>
                    <a:pt x="11963" y="571"/>
                  </a:lnTo>
                  <a:lnTo>
                    <a:pt x="11955" y="594"/>
                  </a:lnTo>
                  <a:lnTo>
                    <a:pt x="11941" y="614"/>
                  </a:lnTo>
                  <a:lnTo>
                    <a:pt x="11922" y="631"/>
                  </a:lnTo>
                  <a:lnTo>
                    <a:pt x="11898" y="646"/>
                  </a:lnTo>
                  <a:lnTo>
                    <a:pt x="11884" y="651"/>
                  </a:lnTo>
                  <a:lnTo>
                    <a:pt x="11871" y="657"/>
                  </a:lnTo>
                  <a:lnTo>
                    <a:pt x="11856" y="660"/>
                  </a:lnTo>
                  <a:lnTo>
                    <a:pt x="11840" y="662"/>
                  </a:lnTo>
                  <a:lnTo>
                    <a:pt x="11807" y="665"/>
                  </a:lnTo>
                  <a:lnTo>
                    <a:pt x="11770" y="662"/>
                  </a:lnTo>
                  <a:lnTo>
                    <a:pt x="11753" y="659"/>
                  </a:lnTo>
                  <a:lnTo>
                    <a:pt x="11735" y="656"/>
                  </a:lnTo>
                  <a:lnTo>
                    <a:pt x="11702" y="644"/>
                  </a:lnTo>
                  <a:lnTo>
                    <a:pt x="11670" y="629"/>
                  </a:lnTo>
                  <a:lnTo>
                    <a:pt x="11655" y="729"/>
                  </a:lnTo>
                  <a:lnTo>
                    <a:pt x="11703" y="745"/>
                  </a:lnTo>
                  <a:lnTo>
                    <a:pt x="11734" y="752"/>
                  </a:lnTo>
                  <a:lnTo>
                    <a:pt x="11747" y="755"/>
                  </a:lnTo>
                  <a:lnTo>
                    <a:pt x="11765" y="757"/>
                  </a:lnTo>
                  <a:lnTo>
                    <a:pt x="11807" y="758"/>
                  </a:lnTo>
                  <a:lnTo>
                    <a:pt x="11833" y="757"/>
                  </a:lnTo>
                  <a:lnTo>
                    <a:pt x="11858" y="755"/>
                  </a:lnTo>
                  <a:lnTo>
                    <a:pt x="11882" y="751"/>
                  </a:lnTo>
                  <a:lnTo>
                    <a:pt x="11905" y="747"/>
                  </a:lnTo>
                  <a:lnTo>
                    <a:pt x="11926" y="740"/>
                  </a:lnTo>
                  <a:lnTo>
                    <a:pt x="11947" y="732"/>
                  </a:lnTo>
                  <a:lnTo>
                    <a:pt x="11967" y="723"/>
                  </a:lnTo>
                  <a:lnTo>
                    <a:pt x="11985" y="712"/>
                  </a:lnTo>
                  <a:lnTo>
                    <a:pt x="12007" y="696"/>
                  </a:lnTo>
                  <a:lnTo>
                    <a:pt x="12025" y="680"/>
                  </a:lnTo>
                  <a:lnTo>
                    <a:pt x="12041" y="661"/>
                  </a:lnTo>
                  <a:lnTo>
                    <a:pt x="12053" y="642"/>
                  </a:lnTo>
                  <a:lnTo>
                    <a:pt x="12062" y="621"/>
                  </a:lnTo>
                  <a:lnTo>
                    <a:pt x="12070" y="598"/>
                  </a:lnTo>
                  <a:lnTo>
                    <a:pt x="12074" y="574"/>
                  </a:lnTo>
                  <a:lnTo>
                    <a:pt x="12075" y="54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35"/>
            <p:cNvSpPr/>
            <p:nvPr/>
          </p:nvSpPr>
          <p:spPr>
            <a:xfrm>
              <a:off x="2897280" y="5272200"/>
              <a:ext cx="1239480" cy="120960"/>
            </a:xfrm>
            <a:custGeom>
              <a:avLst/>
              <a:gdLst/>
              <a:ahLst/>
              <a:rect l="l" t="t" r="r" b="b"/>
              <a:pathLst>
                <a:path w="7628" h="742">
                  <a:moveTo>
                    <a:pt x="555" y="91"/>
                  </a:moveTo>
                  <a:lnTo>
                    <a:pt x="555" y="0"/>
                  </a:lnTo>
                  <a:lnTo>
                    <a:pt x="0" y="0"/>
                  </a:lnTo>
                  <a:lnTo>
                    <a:pt x="0" y="91"/>
                  </a:lnTo>
                  <a:lnTo>
                    <a:pt x="224" y="91"/>
                  </a:lnTo>
                  <a:lnTo>
                    <a:pt x="224" y="729"/>
                  </a:lnTo>
                  <a:lnTo>
                    <a:pt x="331" y="729"/>
                  </a:lnTo>
                  <a:lnTo>
                    <a:pt x="331" y="91"/>
                  </a:lnTo>
                  <a:lnTo>
                    <a:pt x="555" y="91"/>
                  </a:lnTo>
                  <a:close/>
                  <a:moveTo>
                    <a:pt x="1121" y="91"/>
                  </a:moveTo>
                  <a:lnTo>
                    <a:pt x="1121" y="0"/>
                  </a:lnTo>
                  <a:lnTo>
                    <a:pt x="707" y="0"/>
                  </a:lnTo>
                  <a:lnTo>
                    <a:pt x="707" y="729"/>
                  </a:lnTo>
                  <a:lnTo>
                    <a:pt x="1120" y="729"/>
                  </a:lnTo>
                  <a:lnTo>
                    <a:pt x="1120" y="635"/>
                  </a:lnTo>
                  <a:lnTo>
                    <a:pt x="814" y="635"/>
                  </a:lnTo>
                  <a:lnTo>
                    <a:pt x="814" y="396"/>
                  </a:lnTo>
                  <a:lnTo>
                    <a:pt x="1094" y="396"/>
                  </a:lnTo>
                  <a:lnTo>
                    <a:pt x="1094" y="302"/>
                  </a:lnTo>
                  <a:lnTo>
                    <a:pt x="814" y="302"/>
                  </a:lnTo>
                  <a:lnTo>
                    <a:pt x="814" y="91"/>
                  </a:lnTo>
                  <a:lnTo>
                    <a:pt x="1121" y="91"/>
                  </a:lnTo>
                  <a:close/>
                  <a:moveTo>
                    <a:pt x="1849" y="729"/>
                  </a:moveTo>
                  <a:lnTo>
                    <a:pt x="1849" y="635"/>
                  </a:lnTo>
                  <a:lnTo>
                    <a:pt x="1827" y="635"/>
                  </a:lnTo>
                  <a:lnTo>
                    <a:pt x="1823" y="635"/>
                  </a:lnTo>
                  <a:lnTo>
                    <a:pt x="1818" y="634"/>
                  </a:lnTo>
                  <a:lnTo>
                    <a:pt x="1813" y="632"/>
                  </a:lnTo>
                  <a:lnTo>
                    <a:pt x="1808" y="630"/>
                  </a:lnTo>
                  <a:lnTo>
                    <a:pt x="1804" y="626"/>
                  </a:lnTo>
                  <a:lnTo>
                    <a:pt x="1798" y="622"/>
                  </a:lnTo>
                  <a:lnTo>
                    <a:pt x="1793" y="617"/>
                  </a:lnTo>
                  <a:lnTo>
                    <a:pt x="1788" y="611"/>
                  </a:lnTo>
                  <a:lnTo>
                    <a:pt x="1783" y="605"/>
                  </a:lnTo>
                  <a:lnTo>
                    <a:pt x="1778" y="597"/>
                  </a:lnTo>
                  <a:lnTo>
                    <a:pt x="1767" y="580"/>
                  </a:lnTo>
                  <a:lnTo>
                    <a:pt x="1756" y="560"/>
                  </a:lnTo>
                  <a:lnTo>
                    <a:pt x="1743" y="537"/>
                  </a:lnTo>
                  <a:lnTo>
                    <a:pt x="1730" y="507"/>
                  </a:lnTo>
                  <a:lnTo>
                    <a:pt x="1715" y="480"/>
                  </a:lnTo>
                  <a:lnTo>
                    <a:pt x="1703" y="454"/>
                  </a:lnTo>
                  <a:lnTo>
                    <a:pt x="1689" y="433"/>
                  </a:lnTo>
                  <a:lnTo>
                    <a:pt x="1677" y="413"/>
                  </a:lnTo>
                  <a:lnTo>
                    <a:pt x="1665" y="396"/>
                  </a:lnTo>
                  <a:lnTo>
                    <a:pt x="1654" y="382"/>
                  </a:lnTo>
                  <a:lnTo>
                    <a:pt x="1644" y="371"/>
                  </a:lnTo>
                  <a:lnTo>
                    <a:pt x="1661" y="362"/>
                  </a:lnTo>
                  <a:lnTo>
                    <a:pt x="1678" y="354"/>
                  </a:lnTo>
                  <a:lnTo>
                    <a:pt x="1692" y="344"/>
                  </a:lnTo>
                  <a:lnTo>
                    <a:pt x="1707" y="335"/>
                  </a:lnTo>
                  <a:lnTo>
                    <a:pt x="1721" y="325"/>
                  </a:lnTo>
                  <a:lnTo>
                    <a:pt x="1726" y="320"/>
                  </a:lnTo>
                  <a:lnTo>
                    <a:pt x="1732" y="315"/>
                  </a:lnTo>
                  <a:lnTo>
                    <a:pt x="1743" y="305"/>
                  </a:lnTo>
                  <a:lnTo>
                    <a:pt x="1753" y="293"/>
                  </a:lnTo>
                  <a:lnTo>
                    <a:pt x="1757" y="288"/>
                  </a:lnTo>
                  <a:lnTo>
                    <a:pt x="1762" y="281"/>
                  </a:lnTo>
                  <a:lnTo>
                    <a:pt x="1768" y="270"/>
                  </a:lnTo>
                  <a:lnTo>
                    <a:pt x="1775" y="257"/>
                  </a:lnTo>
                  <a:lnTo>
                    <a:pt x="1780" y="244"/>
                  </a:lnTo>
                  <a:lnTo>
                    <a:pt x="1784" y="231"/>
                  </a:lnTo>
                  <a:lnTo>
                    <a:pt x="1787" y="218"/>
                  </a:lnTo>
                  <a:lnTo>
                    <a:pt x="1788" y="211"/>
                  </a:lnTo>
                  <a:lnTo>
                    <a:pt x="1789" y="203"/>
                  </a:lnTo>
                  <a:lnTo>
                    <a:pt x="1789" y="190"/>
                  </a:lnTo>
                  <a:lnTo>
                    <a:pt x="1789" y="179"/>
                  </a:lnTo>
                  <a:lnTo>
                    <a:pt x="1788" y="168"/>
                  </a:lnTo>
                  <a:lnTo>
                    <a:pt x="1787" y="157"/>
                  </a:lnTo>
                  <a:lnTo>
                    <a:pt x="1785" y="148"/>
                  </a:lnTo>
                  <a:lnTo>
                    <a:pt x="1783" y="138"/>
                  </a:lnTo>
                  <a:lnTo>
                    <a:pt x="1780" y="129"/>
                  </a:lnTo>
                  <a:lnTo>
                    <a:pt x="1778" y="120"/>
                  </a:lnTo>
                  <a:lnTo>
                    <a:pt x="1773" y="111"/>
                  </a:lnTo>
                  <a:lnTo>
                    <a:pt x="1768" y="102"/>
                  </a:lnTo>
                  <a:lnTo>
                    <a:pt x="1764" y="94"/>
                  </a:lnTo>
                  <a:lnTo>
                    <a:pt x="1759" y="86"/>
                  </a:lnTo>
                  <a:lnTo>
                    <a:pt x="1753" y="78"/>
                  </a:lnTo>
                  <a:lnTo>
                    <a:pt x="1747" y="72"/>
                  </a:lnTo>
                  <a:lnTo>
                    <a:pt x="1740" y="64"/>
                  </a:lnTo>
                  <a:lnTo>
                    <a:pt x="1732" y="57"/>
                  </a:lnTo>
                  <a:lnTo>
                    <a:pt x="1724" y="51"/>
                  </a:lnTo>
                  <a:lnTo>
                    <a:pt x="1716" y="45"/>
                  </a:lnTo>
                  <a:lnTo>
                    <a:pt x="1708" y="39"/>
                  </a:lnTo>
                  <a:lnTo>
                    <a:pt x="1699" y="33"/>
                  </a:lnTo>
                  <a:lnTo>
                    <a:pt x="1691" y="29"/>
                  </a:lnTo>
                  <a:lnTo>
                    <a:pt x="1682" y="23"/>
                  </a:lnTo>
                  <a:lnTo>
                    <a:pt x="1672" y="20"/>
                  </a:lnTo>
                  <a:lnTo>
                    <a:pt x="1653" y="12"/>
                  </a:lnTo>
                  <a:lnTo>
                    <a:pt x="1643" y="10"/>
                  </a:lnTo>
                  <a:lnTo>
                    <a:pt x="1632" y="6"/>
                  </a:lnTo>
                  <a:lnTo>
                    <a:pt x="1621" y="4"/>
                  </a:lnTo>
                  <a:lnTo>
                    <a:pt x="1610" y="3"/>
                  </a:lnTo>
                  <a:lnTo>
                    <a:pt x="1598" y="2"/>
                  </a:lnTo>
                  <a:lnTo>
                    <a:pt x="1587" y="1"/>
                  </a:lnTo>
                  <a:lnTo>
                    <a:pt x="1563" y="0"/>
                  </a:lnTo>
                  <a:lnTo>
                    <a:pt x="1318" y="0"/>
                  </a:lnTo>
                  <a:lnTo>
                    <a:pt x="1318" y="729"/>
                  </a:lnTo>
                  <a:lnTo>
                    <a:pt x="1426" y="729"/>
                  </a:lnTo>
                  <a:lnTo>
                    <a:pt x="1426" y="406"/>
                  </a:lnTo>
                  <a:lnTo>
                    <a:pt x="1508" y="406"/>
                  </a:lnTo>
                  <a:lnTo>
                    <a:pt x="1515" y="407"/>
                  </a:lnTo>
                  <a:lnTo>
                    <a:pt x="1521" y="407"/>
                  </a:lnTo>
                  <a:lnTo>
                    <a:pt x="1528" y="409"/>
                  </a:lnTo>
                  <a:lnTo>
                    <a:pt x="1535" y="411"/>
                  </a:lnTo>
                  <a:lnTo>
                    <a:pt x="1542" y="415"/>
                  </a:lnTo>
                  <a:lnTo>
                    <a:pt x="1549" y="418"/>
                  </a:lnTo>
                  <a:lnTo>
                    <a:pt x="1554" y="423"/>
                  </a:lnTo>
                  <a:lnTo>
                    <a:pt x="1561" y="427"/>
                  </a:lnTo>
                  <a:lnTo>
                    <a:pt x="1567" y="433"/>
                  </a:lnTo>
                  <a:lnTo>
                    <a:pt x="1573" y="440"/>
                  </a:lnTo>
                  <a:lnTo>
                    <a:pt x="1579" y="446"/>
                  </a:lnTo>
                  <a:lnTo>
                    <a:pt x="1581" y="450"/>
                  </a:lnTo>
                  <a:lnTo>
                    <a:pt x="1585" y="453"/>
                  </a:lnTo>
                  <a:lnTo>
                    <a:pt x="1590" y="462"/>
                  </a:lnTo>
                  <a:lnTo>
                    <a:pt x="1596" y="470"/>
                  </a:lnTo>
                  <a:lnTo>
                    <a:pt x="1606" y="490"/>
                  </a:lnTo>
                  <a:lnTo>
                    <a:pt x="1645" y="568"/>
                  </a:lnTo>
                  <a:lnTo>
                    <a:pt x="1682" y="645"/>
                  </a:lnTo>
                  <a:lnTo>
                    <a:pt x="1689" y="656"/>
                  </a:lnTo>
                  <a:lnTo>
                    <a:pt x="1697" y="665"/>
                  </a:lnTo>
                  <a:lnTo>
                    <a:pt x="1705" y="674"/>
                  </a:lnTo>
                  <a:lnTo>
                    <a:pt x="1713" y="681"/>
                  </a:lnTo>
                  <a:lnTo>
                    <a:pt x="1721" y="689"/>
                  </a:lnTo>
                  <a:lnTo>
                    <a:pt x="1729" y="696"/>
                  </a:lnTo>
                  <a:lnTo>
                    <a:pt x="1738" y="702"/>
                  </a:lnTo>
                  <a:lnTo>
                    <a:pt x="1747" y="707"/>
                  </a:lnTo>
                  <a:lnTo>
                    <a:pt x="1756" y="713"/>
                  </a:lnTo>
                  <a:lnTo>
                    <a:pt x="1765" y="717"/>
                  </a:lnTo>
                  <a:lnTo>
                    <a:pt x="1775" y="721"/>
                  </a:lnTo>
                  <a:lnTo>
                    <a:pt x="1784" y="723"/>
                  </a:lnTo>
                  <a:lnTo>
                    <a:pt x="1795" y="725"/>
                  </a:lnTo>
                  <a:lnTo>
                    <a:pt x="1806" y="728"/>
                  </a:lnTo>
                  <a:lnTo>
                    <a:pt x="1816" y="729"/>
                  </a:lnTo>
                  <a:lnTo>
                    <a:pt x="1827" y="729"/>
                  </a:lnTo>
                  <a:lnTo>
                    <a:pt x="1849" y="729"/>
                  </a:lnTo>
                  <a:close/>
                  <a:moveTo>
                    <a:pt x="1677" y="190"/>
                  </a:moveTo>
                  <a:lnTo>
                    <a:pt x="1675" y="201"/>
                  </a:lnTo>
                  <a:lnTo>
                    <a:pt x="1674" y="213"/>
                  </a:lnTo>
                  <a:lnTo>
                    <a:pt x="1672" y="219"/>
                  </a:lnTo>
                  <a:lnTo>
                    <a:pt x="1671" y="225"/>
                  </a:lnTo>
                  <a:lnTo>
                    <a:pt x="1666" y="236"/>
                  </a:lnTo>
                  <a:lnTo>
                    <a:pt x="1661" y="246"/>
                  </a:lnTo>
                  <a:lnTo>
                    <a:pt x="1654" y="257"/>
                  </a:lnTo>
                  <a:lnTo>
                    <a:pt x="1646" y="266"/>
                  </a:lnTo>
                  <a:lnTo>
                    <a:pt x="1641" y="272"/>
                  </a:lnTo>
                  <a:lnTo>
                    <a:pt x="1637" y="276"/>
                  </a:lnTo>
                  <a:lnTo>
                    <a:pt x="1628" y="285"/>
                  </a:lnTo>
                  <a:lnTo>
                    <a:pt x="1618" y="292"/>
                  </a:lnTo>
                  <a:lnTo>
                    <a:pt x="1606" y="299"/>
                  </a:lnTo>
                  <a:lnTo>
                    <a:pt x="1595" y="305"/>
                  </a:lnTo>
                  <a:lnTo>
                    <a:pt x="1589" y="307"/>
                  </a:lnTo>
                  <a:lnTo>
                    <a:pt x="1584" y="309"/>
                  </a:lnTo>
                  <a:lnTo>
                    <a:pt x="1578" y="310"/>
                  </a:lnTo>
                  <a:lnTo>
                    <a:pt x="1571" y="311"/>
                  </a:lnTo>
                  <a:lnTo>
                    <a:pt x="1559" y="314"/>
                  </a:lnTo>
                  <a:lnTo>
                    <a:pt x="1545" y="314"/>
                  </a:lnTo>
                  <a:lnTo>
                    <a:pt x="1426" y="314"/>
                  </a:lnTo>
                  <a:lnTo>
                    <a:pt x="1426" y="91"/>
                  </a:lnTo>
                  <a:lnTo>
                    <a:pt x="1545" y="91"/>
                  </a:lnTo>
                  <a:lnTo>
                    <a:pt x="1559" y="91"/>
                  </a:lnTo>
                  <a:lnTo>
                    <a:pt x="1570" y="92"/>
                  </a:lnTo>
                  <a:lnTo>
                    <a:pt x="1583" y="94"/>
                  </a:lnTo>
                  <a:lnTo>
                    <a:pt x="1594" y="98"/>
                  </a:lnTo>
                  <a:lnTo>
                    <a:pt x="1605" y="101"/>
                  </a:lnTo>
                  <a:lnTo>
                    <a:pt x="1615" y="105"/>
                  </a:lnTo>
                  <a:lnTo>
                    <a:pt x="1626" y="110"/>
                  </a:lnTo>
                  <a:lnTo>
                    <a:pt x="1635" y="116"/>
                  </a:lnTo>
                  <a:lnTo>
                    <a:pt x="1645" y="123"/>
                  </a:lnTo>
                  <a:lnTo>
                    <a:pt x="1649" y="127"/>
                  </a:lnTo>
                  <a:lnTo>
                    <a:pt x="1653" y="131"/>
                  </a:lnTo>
                  <a:lnTo>
                    <a:pt x="1660" y="139"/>
                  </a:lnTo>
                  <a:lnTo>
                    <a:pt x="1663" y="144"/>
                  </a:lnTo>
                  <a:lnTo>
                    <a:pt x="1666" y="148"/>
                  </a:lnTo>
                  <a:lnTo>
                    <a:pt x="1671" y="157"/>
                  </a:lnTo>
                  <a:lnTo>
                    <a:pt x="1672" y="163"/>
                  </a:lnTo>
                  <a:lnTo>
                    <a:pt x="1673" y="167"/>
                  </a:lnTo>
                  <a:lnTo>
                    <a:pt x="1675" y="179"/>
                  </a:lnTo>
                  <a:lnTo>
                    <a:pt x="1677" y="184"/>
                  </a:lnTo>
                  <a:lnTo>
                    <a:pt x="1677" y="190"/>
                  </a:lnTo>
                  <a:close/>
                  <a:moveTo>
                    <a:pt x="2586" y="0"/>
                  </a:moveTo>
                  <a:lnTo>
                    <a:pt x="2470" y="0"/>
                  </a:lnTo>
                  <a:lnTo>
                    <a:pt x="2246" y="620"/>
                  </a:lnTo>
                  <a:lnTo>
                    <a:pt x="2020" y="0"/>
                  </a:lnTo>
                  <a:lnTo>
                    <a:pt x="1902" y="0"/>
                  </a:lnTo>
                  <a:lnTo>
                    <a:pt x="2173" y="729"/>
                  </a:lnTo>
                  <a:lnTo>
                    <a:pt x="2317" y="729"/>
                  </a:lnTo>
                  <a:lnTo>
                    <a:pt x="2586" y="0"/>
                  </a:lnTo>
                  <a:close/>
                  <a:moveTo>
                    <a:pt x="3148" y="91"/>
                  </a:moveTo>
                  <a:lnTo>
                    <a:pt x="3148" y="0"/>
                  </a:lnTo>
                  <a:lnTo>
                    <a:pt x="2734" y="0"/>
                  </a:lnTo>
                  <a:lnTo>
                    <a:pt x="2734" y="729"/>
                  </a:lnTo>
                  <a:lnTo>
                    <a:pt x="3146" y="729"/>
                  </a:lnTo>
                  <a:lnTo>
                    <a:pt x="3146" y="635"/>
                  </a:lnTo>
                  <a:lnTo>
                    <a:pt x="2841" y="635"/>
                  </a:lnTo>
                  <a:lnTo>
                    <a:pt x="2841" y="396"/>
                  </a:lnTo>
                  <a:lnTo>
                    <a:pt x="3121" y="396"/>
                  </a:lnTo>
                  <a:lnTo>
                    <a:pt x="3121" y="302"/>
                  </a:lnTo>
                  <a:lnTo>
                    <a:pt x="2841" y="302"/>
                  </a:lnTo>
                  <a:lnTo>
                    <a:pt x="2841" y="91"/>
                  </a:lnTo>
                  <a:lnTo>
                    <a:pt x="3148" y="91"/>
                  </a:lnTo>
                  <a:close/>
                  <a:moveTo>
                    <a:pt x="3935" y="0"/>
                  </a:moveTo>
                  <a:lnTo>
                    <a:pt x="3812" y="0"/>
                  </a:lnTo>
                  <a:lnTo>
                    <a:pt x="3592" y="327"/>
                  </a:lnTo>
                  <a:lnTo>
                    <a:pt x="3372" y="0"/>
                  </a:lnTo>
                  <a:lnTo>
                    <a:pt x="3249" y="0"/>
                  </a:lnTo>
                  <a:lnTo>
                    <a:pt x="3538" y="428"/>
                  </a:lnTo>
                  <a:lnTo>
                    <a:pt x="3538" y="729"/>
                  </a:lnTo>
                  <a:lnTo>
                    <a:pt x="3646" y="729"/>
                  </a:lnTo>
                  <a:lnTo>
                    <a:pt x="3646" y="428"/>
                  </a:lnTo>
                  <a:lnTo>
                    <a:pt x="3935" y="0"/>
                  </a:lnTo>
                  <a:close/>
                  <a:moveTo>
                    <a:pt x="4659" y="368"/>
                  </a:moveTo>
                  <a:lnTo>
                    <a:pt x="4659" y="348"/>
                  </a:lnTo>
                  <a:lnTo>
                    <a:pt x="4658" y="330"/>
                  </a:lnTo>
                  <a:lnTo>
                    <a:pt x="4656" y="311"/>
                  </a:lnTo>
                  <a:lnTo>
                    <a:pt x="4653" y="294"/>
                  </a:lnTo>
                  <a:lnTo>
                    <a:pt x="4650" y="276"/>
                  </a:lnTo>
                  <a:lnTo>
                    <a:pt x="4646" y="260"/>
                  </a:lnTo>
                  <a:lnTo>
                    <a:pt x="4641" y="243"/>
                  </a:lnTo>
                  <a:lnTo>
                    <a:pt x="4635" y="227"/>
                  </a:lnTo>
                  <a:lnTo>
                    <a:pt x="4629" y="211"/>
                  </a:lnTo>
                  <a:lnTo>
                    <a:pt x="4622" y="195"/>
                  </a:lnTo>
                  <a:lnTo>
                    <a:pt x="4614" y="180"/>
                  </a:lnTo>
                  <a:lnTo>
                    <a:pt x="4606" y="165"/>
                  </a:lnTo>
                  <a:lnTo>
                    <a:pt x="4596" y="150"/>
                  </a:lnTo>
                  <a:lnTo>
                    <a:pt x="4591" y="144"/>
                  </a:lnTo>
                  <a:lnTo>
                    <a:pt x="4585" y="137"/>
                  </a:lnTo>
                  <a:lnTo>
                    <a:pt x="4575" y="123"/>
                  </a:lnTo>
                  <a:lnTo>
                    <a:pt x="4563" y="110"/>
                  </a:lnTo>
                  <a:lnTo>
                    <a:pt x="4550" y="96"/>
                  </a:lnTo>
                  <a:lnTo>
                    <a:pt x="4538" y="84"/>
                  </a:lnTo>
                  <a:lnTo>
                    <a:pt x="4524" y="73"/>
                  </a:lnTo>
                  <a:lnTo>
                    <a:pt x="4510" y="62"/>
                  </a:lnTo>
                  <a:lnTo>
                    <a:pt x="4495" y="51"/>
                  </a:lnTo>
                  <a:lnTo>
                    <a:pt x="4480" y="42"/>
                  </a:lnTo>
                  <a:lnTo>
                    <a:pt x="4465" y="35"/>
                  </a:lnTo>
                  <a:lnTo>
                    <a:pt x="4449" y="27"/>
                  </a:lnTo>
                  <a:lnTo>
                    <a:pt x="4432" y="21"/>
                  </a:lnTo>
                  <a:lnTo>
                    <a:pt x="4417" y="15"/>
                  </a:lnTo>
                  <a:lnTo>
                    <a:pt x="4400" y="11"/>
                  </a:lnTo>
                  <a:lnTo>
                    <a:pt x="4381" y="6"/>
                  </a:lnTo>
                  <a:lnTo>
                    <a:pt x="4363" y="3"/>
                  </a:lnTo>
                  <a:lnTo>
                    <a:pt x="4345" y="2"/>
                  </a:lnTo>
                  <a:lnTo>
                    <a:pt x="4326" y="0"/>
                  </a:lnTo>
                  <a:lnTo>
                    <a:pt x="4307" y="0"/>
                  </a:lnTo>
                  <a:lnTo>
                    <a:pt x="4047" y="0"/>
                  </a:lnTo>
                  <a:lnTo>
                    <a:pt x="4047" y="729"/>
                  </a:lnTo>
                  <a:lnTo>
                    <a:pt x="4307" y="729"/>
                  </a:lnTo>
                  <a:lnTo>
                    <a:pt x="4326" y="729"/>
                  </a:lnTo>
                  <a:lnTo>
                    <a:pt x="4345" y="728"/>
                  </a:lnTo>
                  <a:lnTo>
                    <a:pt x="4363" y="725"/>
                  </a:lnTo>
                  <a:lnTo>
                    <a:pt x="4381" y="722"/>
                  </a:lnTo>
                  <a:lnTo>
                    <a:pt x="4400" y="719"/>
                  </a:lnTo>
                  <a:lnTo>
                    <a:pt x="4417" y="714"/>
                  </a:lnTo>
                  <a:lnTo>
                    <a:pt x="4432" y="708"/>
                  </a:lnTo>
                  <a:lnTo>
                    <a:pt x="4449" y="702"/>
                  </a:lnTo>
                  <a:lnTo>
                    <a:pt x="4465" y="695"/>
                  </a:lnTo>
                  <a:lnTo>
                    <a:pt x="4480" y="687"/>
                  </a:lnTo>
                  <a:lnTo>
                    <a:pt x="4495" y="678"/>
                  </a:lnTo>
                  <a:lnTo>
                    <a:pt x="4510" y="669"/>
                  </a:lnTo>
                  <a:lnTo>
                    <a:pt x="4524" y="658"/>
                  </a:lnTo>
                  <a:lnTo>
                    <a:pt x="4538" y="647"/>
                  </a:lnTo>
                  <a:lnTo>
                    <a:pt x="4550" y="635"/>
                  </a:lnTo>
                  <a:lnTo>
                    <a:pt x="4563" y="622"/>
                  </a:lnTo>
                  <a:lnTo>
                    <a:pt x="4575" y="609"/>
                  </a:lnTo>
                  <a:lnTo>
                    <a:pt x="4585" y="596"/>
                  </a:lnTo>
                  <a:lnTo>
                    <a:pt x="4596" y="581"/>
                  </a:lnTo>
                  <a:lnTo>
                    <a:pt x="4606" y="568"/>
                  </a:lnTo>
                  <a:lnTo>
                    <a:pt x="4609" y="560"/>
                  </a:lnTo>
                  <a:lnTo>
                    <a:pt x="4614" y="553"/>
                  </a:lnTo>
                  <a:lnTo>
                    <a:pt x="4622" y="539"/>
                  </a:lnTo>
                  <a:lnTo>
                    <a:pt x="4629" y="523"/>
                  </a:lnTo>
                  <a:lnTo>
                    <a:pt x="4635" y="507"/>
                  </a:lnTo>
                  <a:lnTo>
                    <a:pt x="4641" y="491"/>
                  </a:lnTo>
                  <a:lnTo>
                    <a:pt x="4646" y="474"/>
                  </a:lnTo>
                  <a:lnTo>
                    <a:pt x="4650" y="458"/>
                  </a:lnTo>
                  <a:lnTo>
                    <a:pt x="4653" y="441"/>
                  </a:lnTo>
                  <a:lnTo>
                    <a:pt x="4656" y="423"/>
                  </a:lnTo>
                  <a:lnTo>
                    <a:pt x="4658" y="405"/>
                  </a:lnTo>
                  <a:lnTo>
                    <a:pt x="4659" y="387"/>
                  </a:lnTo>
                  <a:lnTo>
                    <a:pt x="4659" y="368"/>
                  </a:lnTo>
                  <a:close/>
                  <a:moveTo>
                    <a:pt x="4553" y="368"/>
                  </a:moveTo>
                  <a:lnTo>
                    <a:pt x="4553" y="381"/>
                  </a:lnTo>
                  <a:lnTo>
                    <a:pt x="4551" y="395"/>
                  </a:lnTo>
                  <a:lnTo>
                    <a:pt x="4550" y="408"/>
                  </a:lnTo>
                  <a:lnTo>
                    <a:pt x="4548" y="420"/>
                  </a:lnTo>
                  <a:lnTo>
                    <a:pt x="4546" y="434"/>
                  </a:lnTo>
                  <a:lnTo>
                    <a:pt x="4544" y="446"/>
                  </a:lnTo>
                  <a:lnTo>
                    <a:pt x="4539" y="459"/>
                  </a:lnTo>
                  <a:lnTo>
                    <a:pt x="4536" y="470"/>
                  </a:lnTo>
                  <a:lnTo>
                    <a:pt x="4531" y="482"/>
                  </a:lnTo>
                  <a:lnTo>
                    <a:pt x="4527" y="494"/>
                  </a:lnTo>
                  <a:lnTo>
                    <a:pt x="4521" y="505"/>
                  </a:lnTo>
                  <a:lnTo>
                    <a:pt x="4514" y="515"/>
                  </a:lnTo>
                  <a:lnTo>
                    <a:pt x="4507" y="526"/>
                  </a:lnTo>
                  <a:lnTo>
                    <a:pt x="4500" y="536"/>
                  </a:lnTo>
                  <a:lnTo>
                    <a:pt x="4494" y="546"/>
                  </a:lnTo>
                  <a:lnTo>
                    <a:pt x="4485" y="555"/>
                  </a:lnTo>
                  <a:lnTo>
                    <a:pt x="4477" y="566"/>
                  </a:lnTo>
                  <a:lnTo>
                    <a:pt x="4468" y="575"/>
                  </a:lnTo>
                  <a:lnTo>
                    <a:pt x="4457" y="584"/>
                  </a:lnTo>
                  <a:lnTo>
                    <a:pt x="4448" y="591"/>
                  </a:lnTo>
                  <a:lnTo>
                    <a:pt x="4438" y="598"/>
                  </a:lnTo>
                  <a:lnTo>
                    <a:pt x="4428" y="605"/>
                  </a:lnTo>
                  <a:lnTo>
                    <a:pt x="4417" y="611"/>
                  </a:lnTo>
                  <a:lnTo>
                    <a:pt x="4406" y="616"/>
                  </a:lnTo>
                  <a:lnTo>
                    <a:pt x="4395" y="621"/>
                  </a:lnTo>
                  <a:lnTo>
                    <a:pt x="4383" y="624"/>
                  </a:lnTo>
                  <a:lnTo>
                    <a:pt x="4371" y="627"/>
                  </a:lnTo>
                  <a:lnTo>
                    <a:pt x="4359" y="631"/>
                  </a:lnTo>
                  <a:lnTo>
                    <a:pt x="4346" y="633"/>
                  </a:lnTo>
                  <a:lnTo>
                    <a:pt x="4334" y="634"/>
                  </a:lnTo>
                  <a:lnTo>
                    <a:pt x="4320" y="635"/>
                  </a:lnTo>
                  <a:lnTo>
                    <a:pt x="4307" y="635"/>
                  </a:lnTo>
                  <a:lnTo>
                    <a:pt x="4156" y="635"/>
                  </a:lnTo>
                  <a:lnTo>
                    <a:pt x="4156" y="93"/>
                  </a:lnTo>
                  <a:lnTo>
                    <a:pt x="4307" y="93"/>
                  </a:lnTo>
                  <a:lnTo>
                    <a:pt x="4320" y="93"/>
                  </a:lnTo>
                  <a:lnTo>
                    <a:pt x="4334" y="94"/>
                  </a:lnTo>
                  <a:lnTo>
                    <a:pt x="4346" y="95"/>
                  </a:lnTo>
                  <a:lnTo>
                    <a:pt x="4359" y="98"/>
                  </a:lnTo>
                  <a:lnTo>
                    <a:pt x="4371" y="101"/>
                  </a:lnTo>
                  <a:lnTo>
                    <a:pt x="4383" y="104"/>
                  </a:lnTo>
                  <a:lnTo>
                    <a:pt x="4395" y="109"/>
                  </a:lnTo>
                  <a:lnTo>
                    <a:pt x="4406" y="113"/>
                  </a:lnTo>
                  <a:lnTo>
                    <a:pt x="4417" y="119"/>
                  </a:lnTo>
                  <a:lnTo>
                    <a:pt x="4428" y="126"/>
                  </a:lnTo>
                  <a:lnTo>
                    <a:pt x="4438" y="132"/>
                  </a:lnTo>
                  <a:lnTo>
                    <a:pt x="4443" y="136"/>
                  </a:lnTo>
                  <a:lnTo>
                    <a:pt x="4448" y="140"/>
                  </a:lnTo>
                  <a:lnTo>
                    <a:pt x="4457" y="148"/>
                  </a:lnTo>
                  <a:lnTo>
                    <a:pt x="4468" y="157"/>
                  </a:lnTo>
                  <a:lnTo>
                    <a:pt x="4477" y="166"/>
                  </a:lnTo>
                  <a:lnTo>
                    <a:pt x="4485" y="176"/>
                  </a:lnTo>
                  <a:lnTo>
                    <a:pt x="4494" y="186"/>
                  </a:lnTo>
                  <a:lnTo>
                    <a:pt x="4500" y="197"/>
                  </a:lnTo>
                  <a:lnTo>
                    <a:pt x="4507" y="208"/>
                  </a:lnTo>
                  <a:lnTo>
                    <a:pt x="4514" y="218"/>
                  </a:lnTo>
                  <a:lnTo>
                    <a:pt x="4521" y="229"/>
                  </a:lnTo>
                  <a:lnTo>
                    <a:pt x="4527" y="240"/>
                  </a:lnTo>
                  <a:lnTo>
                    <a:pt x="4531" y="252"/>
                  </a:lnTo>
                  <a:lnTo>
                    <a:pt x="4536" y="264"/>
                  </a:lnTo>
                  <a:lnTo>
                    <a:pt x="4539" y="275"/>
                  </a:lnTo>
                  <a:lnTo>
                    <a:pt x="4544" y="288"/>
                  </a:lnTo>
                  <a:lnTo>
                    <a:pt x="4546" y="301"/>
                  </a:lnTo>
                  <a:lnTo>
                    <a:pt x="4548" y="314"/>
                  </a:lnTo>
                  <a:lnTo>
                    <a:pt x="4550" y="327"/>
                  </a:lnTo>
                  <a:lnTo>
                    <a:pt x="4551" y="339"/>
                  </a:lnTo>
                  <a:lnTo>
                    <a:pt x="4553" y="354"/>
                  </a:lnTo>
                  <a:lnTo>
                    <a:pt x="4553" y="368"/>
                  </a:lnTo>
                  <a:close/>
                  <a:moveTo>
                    <a:pt x="5238" y="91"/>
                  </a:moveTo>
                  <a:lnTo>
                    <a:pt x="5238" y="0"/>
                  </a:lnTo>
                  <a:lnTo>
                    <a:pt x="4825" y="0"/>
                  </a:lnTo>
                  <a:lnTo>
                    <a:pt x="4825" y="729"/>
                  </a:lnTo>
                  <a:lnTo>
                    <a:pt x="5236" y="729"/>
                  </a:lnTo>
                  <a:lnTo>
                    <a:pt x="5236" y="635"/>
                  </a:lnTo>
                  <a:lnTo>
                    <a:pt x="4931" y="635"/>
                  </a:lnTo>
                  <a:lnTo>
                    <a:pt x="4931" y="396"/>
                  </a:lnTo>
                  <a:lnTo>
                    <a:pt x="5211" y="396"/>
                  </a:lnTo>
                  <a:lnTo>
                    <a:pt x="5211" y="302"/>
                  </a:lnTo>
                  <a:lnTo>
                    <a:pt x="4931" y="302"/>
                  </a:lnTo>
                  <a:lnTo>
                    <a:pt x="4931" y="91"/>
                  </a:lnTo>
                  <a:lnTo>
                    <a:pt x="5238" y="91"/>
                  </a:lnTo>
                  <a:close/>
                  <a:moveTo>
                    <a:pt x="6015" y="729"/>
                  </a:moveTo>
                  <a:lnTo>
                    <a:pt x="6015" y="0"/>
                  </a:lnTo>
                  <a:lnTo>
                    <a:pt x="5907" y="0"/>
                  </a:lnTo>
                  <a:lnTo>
                    <a:pt x="5907" y="584"/>
                  </a:lnTo>
                  <a:lnTo>
                    <a:pt x="5903" y="584"/>
                  </a:lnTo>
                  <a:lnTo>
                    <a:pt x="5583" y="0"/>
                  </a:lnTo>
                  <a:lnTo>
                    <a:pt x="5444" y="0"/>
                  </a:lnTo>
                  <a:lnTo>
                    <a:pt x="5444" y="729"/>
                  </a:lnTo>
                  <a:lnTo>
                    <a:pt x="5551" y="729"/>
                  </a:lnTo>
                  <a:lnTo>
                    <a:pt x="5551" y="144"/>
                  </a:lnTo>
                  <a:lnTo>
                    <a:pt x="5555" y="144"/>
                  </a:lnTo>
                  <a:lnTo>
                    <a:pt x="5876" y="729"/>
                  </a:lnTo>
                  <a:lnTo>
                    <a:pt x="6015" y="729"/>
                  </a:lnTo>
                  <a:close/>
                  <a:moveTo>
                    <a:pt x="6765" y="527"/>
                  </a:moveTo>
                  <a:lnTo>
                    <a:pt x="6765" y="0"/>
                  </a:lnTo>
                  <a:lnTo>
                    <a:pt x="6658" y="0"/>
                  </a:lnTo>
                  <a:lnTo>
                    <a:pt x="6658" y="527"/>
                  </a:lnTo>
                  <a:lnTo>
                    <a:pt x="6658" y="541"/>
                  </a:lnTo>
                  <a:lnTo>
                    <a:pt x="6655" y="554"/>
                  </a:lnTo>
                  <a:lnTo>
                    <a:pt x="6654" y="560"/>
                  </a:lnTo>
                  <a:lnTo>
                    <a:pt x="6653" y="566"/>
                  </a:lnTo>
                  <a:lnTo>
                    <a:pt x="6652" y="571"/>
                  </a:lnTo>
                  <a:lnTo>
                    <a:pt x="6650" y="577"/>
                  </a:lnTo>
                  <a:lnTo>
                    <a:pt x="6645" y="588"/>
                  </a:lnTo>
                  <a:lnTo>
                    <a:pt x="6640" y="598"/>
                  </a:lnTo>
                  <a:lnTo>
                    <a:pt x="6634" y="607"/>
                  </a:lnTo>
                  <a:lnTo>
                    <a:pt x="6626" y="615"/>
                  </a:lnTo>
                  <a:lnTo>
                    <a:pt x="6618" y="623"/>
                  </a:lnTo>
                  <a:lnTo>
                    <a:pt x="6609" y="630"/>
                  </a:lnTo>
                  <a:lnTo>
                    <a:pt x="6604" y="632"/>
                  </a:lnTo>
                  <a:lnTo>
                    <a:pt x="6600" y="635"/>
                  </a:lnTo>
                  <a:lnTo>
                    <a:pt x="6590" y="640"/>
                  </a:lnTo>
                  <a:lnTo>
                    <a:pt x="6578" y="643"/>
                  </a:lnTo>
                  <a:lnTo>
                    <a:pt x="6566" y="645"/>
                  </a:lnTo>
                  <a:lnTo>
                    <a:pt x="6553" y="648"/>
                  </a:lnTo>
                  <a:lnTo>
                    <a:pt x="6540" y="649"/>
                  </a:lnTo>
                  <a:lnTo>
                    <a:pt x="6517" y="649"/>
                  </a:lnTo>
                  <a:lnTo>
                    <a:pt x="6507" y="649"/>
                  </a:lnTo>
                  <a:lnTo>
                    <a:pt x="6498" y="648"/>
                  </a:lnTo>
                  <a:lnTo>
                    <a:pt x="6489" y="645"/>
                  </a:lnTo>
                  <a:lnTo>
                    <a:pt x="6482" y="643"/>
                  </a:lnTo>
                  <a:lnTo>
                    <a:pt x="6475" y="641"/>
                  </a:lnTo>
                  <a:lnTo>
                    <a:pt x="6468" y="638"/>
                  </a:lnTo>
                  <a:lnTo>
                    <a:pt x="6468" y="722"/>
                  </a:lnTo>
                  <a:lnTo>
                    <a:pt x="6477" y="728"/>
                  </a:lnTo>
                  <a:lnTo>
                    <a:pt x="6487" y="731"/>
                  </a:lnTo>
                  <a:lnTo>
                    <a:pt x="6498" y="734"/>
                  </a:lnTo>
                  <a:lnTo>
                    <a:pt x="6509" y="738"/>
                  </a:lnTo>
                  <a:lnTo>
                    <a:pt x="6523" y="740"/>
                  </a:lnTo>
                  <a:lnTo>
                    <a:pt x="6536" y="741"/>
                  </a:lnTo>
                  <a:lnTo>
                    <a:pt x="6551" y="742"/>
                  </a:lnTo>
                  <a:lnTo>
                    <a:pt x="6567" y="742"/>
                  </a:lnTo>
                  <a:lnTo>
                    <a:pt x="6578" y="742"/>
                  </a:lnTo>
                  <a:lnTo>
                    <a:pt x="6590" y="741"/>
                  </a:lnTo>
                  <a:lnTo>
                    <a:pt x="6600" y="740"/>
                  </a:lnTo>
                  <a:lnTo>
                    <a:pt x="6610" y="738"/>
                  </a:lnTo>
                  <a:lnTo>
                    <a:pt x="6630" y="733"/>
                  </a:lnTo>
                  <a:lnTo>
                    <a:pt x="6641" y="730"/>
                  </a:lnTo>
                  <a:lnTo>
                    <a:pt x="6650" y="726"/>
                  </a:lnTo>
                  <a:lnTo>
                    <a:pt x="6659" y="722"/>
                  </a:lnTo>
                  <a:lnTo>
                    <a:pt x="6667" y="717"/>
                  </a:lnTo>
                  <a:lnTo>
                    <a:pt x="6676" y="713"/>
                  </a:lnTo>
                  <a:lnTo>
                    <a:pt x="6684" y="707"/>
                  </a:lnTo>
                  <a:lnTo>
                    <a:pt x="6692" y="702"/>
                  </a:lnTo>
                  <a:lnTo>
                    <a:pt x="6700" y="695"/>
                  </a:lnTo>
                  <a:lnTo>
                    <a:pt x="6706" y="688"/>
                  </a:lnTo>
                  <a:lnTo>
                    <a:pt x="6713" y="680"/>
                  </a:lnTo>
                  <a:lnTo>
                    <a:pt x="6720" y="674"/>
                  </a:lnTo>
                  <a:lnTo>
                    <a:pt x="6726" y="666"/>
                  </a:lnTo>
                  <a:lnTo>
                    <a:pt x="6731" y="658"/>
                  </a:lnTo>
                  <a:lnTo>
                    <a:pt x="6737" y="649"/>
                  </a:lnTo>
                  <a:lnTo>
                    <a:pt x="6742" y="641"/>
                  </a:lnTo>
                  <a:lnTo>
                    <a:pt x="6745" y="632"/>
                  </a:lnTo>
                  <a:lnTo>
                    <a:pt x="6753" y="613"/>
                  </a:lnTo>
                  <a:lnTo>
                    <a:pt x="6755" y="604"/>
                  </a:lnTo>
                  <a:lnTo>
                    <a:pt x="6759" y="594"/>
                  </a:lnTo>
                  <a:lnTo>
                    <a:pt x="6761" y="584"/>
                  </a:lnTo>
                  <a:lnTo>
                    <a:pt x="6762" y="572"/>
                  </a:lnTo>
                  <a:lnTo>
                    <a:pt x="6763" y="562"/>
                  </a:lnTo>
                  <a:lnTo>
                    <a:pt x="6764" y="551"/>
                  </a:lnTo>
                  <a:lnTo>
                    <a:pt x="6765" y="540"/>
                  </a:lnTo>
                  <a:lnTo>
                    <a:pt x="6765" y="527"/>
                  </a:lnTo>
                  <a:close/>
                  <a:moveTo>
                    <a:pt x="7628" y="729"/>
                  </a:moveTo>
                  <a:lnTo>
                    <a:pt x="7307" y="0"/>
                  </a:lnTo>
                  <a:lnTo>
                    <a:pt x="7205" y="0"/>
                  </a:lnTo>
                  <a:lnTo>
                    <a:pt x="6884" y="729"/>
                  </a:lnTo>
                  <a:lnTo>
                    <a:pt x="7000" y="729"/>
                  </a:lnTo>
                  <a:lnTo>
                    <a:pt x="7076" y="542"/>
                  </a:lnTo>
                  <a:lnTo>
                    <a:pt x="7436" y="542"/>
                  </a:lnTo>
                  <a:lnTo>
                    <a:pt x="7512" y="729"/>
                  </a:lnTo>
                  <a:lnTo>
                    <a:pt x="7628" y="729"/>
                  </a:lnTo>
                  <a:close/>
                  <a:moveTo>
                    <a:pt x="7402" y="459"/>
                  </a:moveTo>
                  <a:lnTo>
                    <a:pt x="7111" y="459"/>
                  </a:lnTo>
                  <a:lnTo>
                    <a:pt x="7256" y="100"/>
                  </a:lnTo>
                  <a:lnTo>
                    <a:pt x="7402" y="459"/>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9" name="Picture 16" descr="SHORT_THL_LOGO_RGB_large.jpg"/>
          <p:cNvPicPr/>
          <p:nvPr/>
        </p:nvPicPr>
        <p:blipFill>
          <a:blip r:embed="rId2"/>
          <a:stretch/>
        </p:blipFill>
        <p:spPr>
          <a:xfrm>
            <a:off x="3124080" y="4038480"/>
            <a:ext cx="2603520" cy="1063800"/>
          </a:xfrm>
          <a:prstGeom prst="rect">
            <a:avLst/>
          </a:prstGeom>
          <a:ln w="0">
            <a:noFill/>
          </a:ln>
        </p:spPr>
      </p:pic>
      <p:sp>
        <p:nvSpPr>
          <p:cNvPr id="50" name="Rectangle 2"/>
          <p:cNvSpPr/>
          <p:nvPr/>
        </p:nvSpPr>
        <p:spPr>
          <a:xfrm>
            <a:off x="0" y="0"/>
            <a:ext cx="9144000" cy="380988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lick to edit the title text format</a:t>
            </a:r>
            <a:endParaRPr b="1" lang="en-US" sz="2800" spc="-1" strike="noStrike">
              <a:solidFill>
                <a:srgbClr val="7bc143"/>
              </a:solidFill>
              <a:latin typeface="Arial"/>
            </a:endParaRPr>
          </a:p>
        </p:txBody>
      </p:sp>
      <p:sp>
        <p:nvSpPr>
          <p:cNvPr id="52"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2532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0000" indent="-27468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165320" indent="-26532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3" name="PlaceHolder 3"/>
          <p:cNvSpPr>
            <a:spLocks noGrp="1"/>
          </p:cNvSpPr>
          <p:nvPr>
            <p:ph type="dt" idx="3"/>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458E-2822-4970-A224-F57C22ACF860}" type="datetime">
              <a:rPr b="0" lang="fi-FI" sz="1000" spc="-1" strike="noStrike">
                <a:solidFill>
                  <a:srgbClr val="ffffff"/>
                </a:solidFill>
                <a:latin typeface="Times New Roman"/>
              </a:rPr>
              <a:t>29.07.26</a:t>
            </a:fld>
            <a:endParaRPr b="0" lang="en-US" sz="1000" spc="-1" strike="noStrike">
              <a:solidFill>
                <a:srgbClr val="000000"/>
              </a:solidFill>
              <a:latin typeface="Times New Roman"/>
            </a:endParaRPr>
          </a:p>
        </p:txBody>
      </p:sp>
      <p:sp>
        <p:nvSpPr>
          <p:cNvPr id="54" name="PlaceHolder 4"/>
          <p:cNvSpPr>
            <a:spLocks noGrp="1"/>
          </p:cNvSpPr>
          <p:nvPr>
            <p:ph type="ftr" idx="4"/>
          </p:nvPr>
        </p:nvSpPr>
        <p:spPr>
          <a:xfrm>
            <a:off x="1258560" y="6553080"/>
            <a:ext cx="6769080" cy="260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Times New Roman"/>
              </a:rPr>
              <a:t>http://fi.opasnet.org/fi/Tiedosto:Ilmastopolitiikka_rakennukset_ja_terveys.ppt</a:t>
            </a:r>
            <a:endParaRPr b="0" lang="en-US" sz="1400" spc="-1" strike="noStrike">
              <a:solidFill>
                <a:srgbClr val="000000"/>
              </a:solidFill>
              <a:latin typeface="Times New Roman"/>
            </a:endParaRPr>
          </a:p>
        </p:txBody>
      </p:sp>
      <p:sp>
        <p:nvSpPr>
          <p:cNvPr id="55" name="PlaceHolder 5"/>
          <p:cNvSpPr>
            <a:spLocks noGrp="1"/>
          </p:cNvSpPr>
          <p:nvPr>
            <p:ph type="sldNum" idx="5"/>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965D-DE2E-4186-8D8A-180D37A24310}"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1"/>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29"/>
          <p:cNvGrpSpPr/>
          <p:nvPr/>
        </p:nvGrpSpPr>
        <p:grpSpPr>
          <a:xfrm>
            <a:off x="5867280" y="6324480"/>
            <a:ext cx="2773440" cy="104760"/>
            <a:chOff x="5867280" y="6324480"/>
            <a:chExt cx="2773440" cy="104760"/>
          </a:xfrm>
        </p:grpSpPr>
        <p:sp>
          <p:nvSpPr>
            <p:cNvPr id="94" name="Freeform 27"/>
            <p:cNvSpPr/>
            <p:nvPr/>
          </p:nvSpPr>
          <p:spPr>
            <a:xfrm>
              <a:off x="6978600" y="6324480"/>
              <a:ext cx="1662120" cy="104760"/>
            </a:xfrm>
            <a:custGeom>
              <a:avLst/>
              <a:gdLst/>
              <a:ahLst/>
              <a:rect l="l" t="t" r="r" b="b"/>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28"/>
            <p:cNvSpPr/>
            <p:nvPr/>
          </p:nvSpPr>
          <p:spPr>
            <a:xfrm>
              <a:off x="5867280" y="6324480"/>
              <a:ext cx="1049400" cy="103320"/>
            </a:xfrm>
            <a:custGeom>
              <a:avLst/>
              <a:gdLst/>
              <a:ahLst/>
              <a:rect l="l" t="t" r="r" b="b"/>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6" name="Picture 11" descr="SHORT_THL_LOGO_WEB_186x80px.jpg"/>
          <p:cNvPicPr/>
          <p:nvPr/>
        </p:nvPicPr>
        <p:blipFill>
          <a:blip r:embed="rId2"/>
          <a:srcRect l="0" t="9674" r="0" b="12828"/>
          <a:stretch/>
        </p:blipFill>
        <p:spPr>
          <a:xfrm>
            <a:off x="152280" y="5994360"/>
            <a:ext cx="1524240" cy="507960"/>
          </a:xfrm>
          <a:prstGeom prst="rect">
            <a:avLst/>
          </a:prstGeom>
          <a:ln w="0">
            <a:noFill/>
          </a:ln>
        </p:spPr>
      </p:pic>
      <p:sp>
        <p:nvSpPr>
          <p:cNvPr id="9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lick to edit the title text format</a:t>
            </a:r>
            <a:endParaRPr b="1" lang="en-US" sz="2800" spc="-1" strike="noStrike">
              <a:solidFill>
                <a:srgbClr val="7bc143"/>
              </a:solidFill>
              <a:latin typeface="Arial"/>
            </a:endParaRPr>
          </a:p>
        </p:txBody>
      </p:sp>
      <p:sp>
        <p:nvSpPr>
          <p:cNvPr id="98"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2532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0000" indent="-27468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165320" indent="-26532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9" name="PlaceHolder 3"/>
          <p:cNvSpPr>
            <a:spLocks noGrp="1"/>
          </p:cNvSpPr>
          <p:nvPr>
            <p:ph type="dt" idx="6"/>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6E9B-E1E1-43F6-8C43-0578E3AD6EC0}" type="datetime">
              <a:rPr b="0" lang="fi-FI" sz="1000" spc="-1" strike="noStrike">
                <a:solidFill>
                  <a:srgbClr val="ffffff"/>
                </a:solidFill>
                <a:latin typeface="Times New Roman"/>
              </a:rPr>
              <a:t>29.07.26</a:t>
            </a:fld>
            <a:endParaRPr b="0" lang="en-US" sz="1000" spc="-1" strike="noStrike">
              <a:solidFill>
                <a:srgbClr val="000000"/>
              </a:solidFill>
              <a:latin typeface="Times New Roman"/>
            </a:endParaRPr>
          </a:p>
        </p:txBody>
      </p:sp>
      <p:sp>
        <p:nvSpPr>
          <p:cNvPr id="100" name="PlaceHolder 4"/>
          <p:cNvSpPr>
            <a:spLocks noGrp="1"/>
          </p:cNvSpPr>
          <p:nvPr>
            <p:ph type="ftr" idx="7"/>
          </p:nvPr>
        </p:nvSpPr>
        <p:spPr>
          <a:xfrm>
            <a:off x="1258560" y="6597720"/>
            <a:ext cx="6985080" cy="216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5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Times New Roman"/>
              </a:rPr>
              <a:t>http://fi.opasnet.org/fi/Tiedosto:Ilmastopolitiikka_rakennukset_ja_terveys.ppt</a:t>
            </a:r>
            <a:endParaRPr b="0" lang="en-US" sz="1500" spc="-1" strike="noStrike">
              <a:solidFill>
                <a:srgbClr val="000000"/>
              </a:solidFill>
              <a:latin typeface="Times New Roman"/>
            </a:endParaRPr>
          </a:p>
        </p:txBody>
      </p:sp>
      <p:sp>
        <p:nvSpPr>
          <p:cNvPr id="101" name="PlaceHolder 5"/>
          <p:cNvSpPr>
            <a:spLocks noGrp="1"/>
          </p:cNvSpPr>
          <p:nvPr>
            <p:ph type="sldNum" idx="8"/>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276A-A5D7-43D9-9BB0-1E98A52C86DD}"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11"/>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29"/>
          <p:cNvGrpSpPr/>
          <p:nvPr/>
        </p:nvGrpSpPr>
        <p:grpSpPr>
          <a:xfrm>
            <a:off x="5867280" y="6324480"/>
            <a:ext cx="2773440" cy="104760"/>
            <a:chOff x="5867280" y="6324480"/>
            <a:chExt cx="2773440" cy="104760"/>
          </a:xfrm>
        </p:grpSpPr>
        <p:sp>
          <p:nvSpPr>
            <p:cNvPr id="140" name="Freeform 27"/>
            <p:cNvSpPr/>
            <p:nvPr/>
          </p:nvSpPr>
          <p:spPr>
            <a:xfrm>
              <a:off x="6978600" y="6324480"/>
              <a:ext cx="1662120" cy="104760"/>
            </a:xfrm>
            <a:custGeom>
              <a:avLst/>
              <a:gdLst/>
              <a:ahLst/>
              <a:rect l="l" t="t" r="r" b="b"/>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28"/>
            <p:cNvSpPr/>
            <p:nvPr/>
          </p:nvSpPr>
          <p:spPr>
            <a:xfrm>
              <a:off x="5867280" y="6324480"/>
              <a:ext cx="1049400" cy="103320"/>
            </a:xfrm>
            <a:custGeom>
              <a:avLst/>
              <a:gdLst/>
              <a:ahLst/>
              <a:rect l="l" t="t" r="r" b="b"/>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2" name="Picture 11" descr="SHORT_THL_LOGO_WEB_186x80px.jpg"/>
          <p:cNvPicPr/>
          <p:nvPr/>
        </p:nvPicPr>
        <p:blipFill>
          <a:blip r:embed="rId2"/>
          <a:srcRect l="0" t="9674" r="0" b="12828"/>
          <a:stretch/>
        </p:blipFill>
        <p:spPr>
          <a:xfrm>
            <a:off x="152280" y="5994360"/>
            <a:ext cx="1524240" cy="507960"/>
          </a:xfrm>
          <a:prstGeom prst="rect">
            <a:avLst/>
          </a:prstGeom>
          <a:ln w="0">
            <a:noFill/>
          </a:ln>
        </p:spPr>
      </p:pic>
      <p:sp>
        <p:nvSpPr>
          <p:cNvPr id="14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lick to edit the title text format</a:t>
            </a:r>
            <a:endParaRPr b="1" lang="en-US" sz="2800" spc="-1" strike="noStrike">
              <a:solidFill>
                <a:srgbClr val="7bc143"/>
              </a:solidFill>
              <a:latin typeface="Arial"/>
            </a:endParaRPr>
          </a:p>
        </p:txBody>
      </p:sp>
      <p:sp>
        <p:nvSpPr>
          <p:cNvPr id="144"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2532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00000" indent="-27468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165320" indent="-26532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430280" indent="-264960">
              <a:lnSpc>
                <a:spcPct val="9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45" name="PlaceHolder 3"/>
          <p:cNvSpPr>
            <a:spLocks noGrp="1"/>
          </p:cNvSpPr>
          <p:nvPr>
            <p:ph type="dt" idx="9"/>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F7B2-4615-49ED-A7E6-F6417EBF2BF9}" type="datetime">
              <a:rPr b="0" lang="fi-FI" sz="1000" spc="-1" strike="noStrike">
                <a:solidFill>
                  <a:srgbClr val="ffffff"/>
                </a:solidFill>
                <a:latin typeface="Times New Roman"/>
              </a:rPr>
              <a:t>29.07.26</a:t>
            </a:fld>
            <a:endParaRPr b="0" lang="en-US" sz="1000" spc="-1" strike="noStrike">
              <a:solidFill>
                <a:srgbClr val="000000"/>
              </a:solidFill>
              <a:latin typeface="Times New Roman"/>
            </a:endParaRPr>
          </a:p>
        </p:txBody>
      </p:sp>
      <p:sp>
        <p:nvSpPr>
          <p:cNvPr id="146" name="PlaceHolder 4"/>
          <p:cNvSpPr>
            <a:spLocks noGrp="1"/>
          </p:cNvSpPr>
          <p:nvPr>
            <p:ph type="ftr" idx="10"/>
          </p:nvPr>
        </p:nvSpPr>
        <p:spPr>
          <a:xfrm>
            <a:off x="1258560" y="6597360"/>
            <a:ext cx="6985080" cy="260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5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Times New Roman"/>
              </a:rPr>
              <a:t>http://fi.opasnet.org/fi/Tiedosto:Ilmastopolitiikka_rakennukset_ja_terveys.ppt</a:t>
            </a:r>
            <a:endParaRPr b="0" lang="en-US" sz="1500" spc="-1" strike="noStrike">
              <a:solidFill>
                <a:srgbClr val="000000"/>
              </a:solidFill>
              <a:latin typeface="Times New Roman"/>
            </a:endParaRPr>
          </a:p>
        </p:txBody>
      </p:sp>
      <p:sp>
        <p:nvSpPr>
          <p:cNvPr id="147" name="PlaceHolder 5"/>
          <p:cNvSpPr>
            <a:spLocks noGrp="1"/>
          </p:cNvSpPr>
          <p:nvPr>
            <p:ph type="sldNum" idx="11"/>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2F69-6255-4850-82AA-351556D08AC0}" type="slidenum">
              <a:rPr b="0" lang="fi-FI"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http://en.opasnet.org/w/Building_model" TargetMode="External"/><Relationship Id="rId2" Type="http://schemas.openxmlformats.org/officeDocument/2006/relationships/hyperlink" Target="http://en.opasnet.org/en-opwiki/index.php?title=Special:RTools&amp;id=t5MWITzIsQX6IThE" TargetMode="External"/><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9.png"/><Relationship Id="rId11" Type="http://schemas.openxmlformats.org/officeDocument/2006/relationships/image" Target="../media/image11.png"/><Relationship Id="rId12" Type="http://schemas.openxmlformats.org/officeDocument/2006/relationships/slideLayout" Target="../slideLayouts/slideLayout25.xml"/><Relationship Id="rId13" Type="http://schemas.openxmlformats.org/officeDocument/2006/relationships/comments" Target="../comments/comment28.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hyperlink" Target="http://en.wikipedia.org/wiki/Thinking,_Fast_and_Slow" TargetMode="External"/><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hyperlink" Target="http://fi.opasnet.org/fi/APTK" TargetMode="External"/><Relationship Id="rId2" Type="http://schemas.openxmlformats.org/officeDocument/2006/relationships/hyperlink" Target="http://urn.fi/URN:NBN:fi-fe2014031821621" TargetMode="External"/><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slideLayout" Target="../slideLayouts/slideLayout25.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9.png"/><Relationship Id="rId11" Type="http://schemas.openxmlformats.org/officeDocument/2006/relationships/image" Target="../media/image11.png"/><Relationship Id="rId12" Type="http://schemas.openxmlformats.org/officeDocument/2006/relationships/slideLayout" Target="../slideLayouts/slideLayout25.xml"/><Relationship Id="rId13" Type="http://schemas.openxmlformats.org/officeDocument/2006/relationships/comments" Target="../comments/comment6.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9.png"/><Relationship Id="rId11" Type="http://schemas.openxmlformats.org/officeDocument/2006/relationships/image" Target="../media/image11.png"/><Relationship Id="rId12" Type="http://schemas.openxmlformats.org/officeDocument/2006/relationships/slideLayout" Target="../slideLayouts/slideLayout25.xml"/><Relationship Id="rId13" Type="http://schemas.openxmlformats.org/officeDocument/2006/relationships/comments" Target="../comments/comment7.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143000"/>
            <a:ext cx="8207280" cy="12952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ffffff"/>
                </a:solidFill>
                <a:latin typeface="Arial"/>
              </a:rPr>
              <a:t>Rakennukset, ilmasto ja terveys</a:t>
            </a:r>
            <a:endParaRPr b="1" lang="en-US" sz="3400" spc="-1" strike="noStrike">
              <a:solidFill>
                <a:srgbClr val="7bc143"/>
              </a:solidFill>
              <a:latin typeface="Arial"/>
            </a:endParaRPr>
          </a:p>
        </p:txBody>
      </p:sp>
      <p:sp>
        <p:nvSpPr>
          <p:cNvPr id="192" name="PlaceHolder 2"/>
          <p:cNvSpPr>
            <a:spLocks noGrp="1"/>
          </p:cNvSpPr>
          <p:nvPr>
            <p:ph type="subTitle"/>
          </p:nvPr>
        </p:nvSpPr>
        <p:spPr>
          <a:xfrm>
            <a:off x="468360" y="2631600"/>
            <a:ext cx="8207280" cy="949320"/>
          </a:xfrm>
          <a:prstGeom prst="rect">
            <a:avLst/>
          </a:prstGeom>
          <a:noFill/>
          <a:ln w="0">
            <a:noFill/>
          </a:ln>
        </p:spPr>
        <p:txBody>
          <a:bodyPr anchor="t">
            <a:noAutofit/>
          </a:bodyPr>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Mahdollisuuksia kehittää terveysvaikutusten arviointia kaupungin päätöksenteossa </a:t>
            </a:r>
            <a:endParaRPr b="0" lang="en-US" sz="1800" spc="-1" strike="noStrike">
              <a:solidFill>
                <a:srgbClr val="000000"/>
              </a:solidFill>
              <a:latin typeface="Arial"/>
            </a:endParaRPr>
          </a:p>
          <a:p>
            <a:pPr indent="0" algn="ctr">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Jouni Tuomisto, johtava tutkija, THL</a:t>
            </a:r>
            <a:endParaRPr b="0" lang="en-US" sz="1800" spc="-1" strike="noStrike">
              <a:solidFill>
                <a:srgbClr val="000000"/>
              </a:solidFill>
              <a:latin typeface="Arial"/>
            </a:endParaRPr>
          </a:p>
        </p:txBody>
      </p:sp>
      <p:sp>
        <p:nvSpPr>
          <p:cNvPr id="193"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0BC4F-C170-45E2-8FAA-3EA79C26D154}"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194" name="Footer Placeholder 4"/>
          <p:cNvSpPr/>
          <p:nvPr/>
        </p:nvSpPr>
        <p:spPr>
          <a:xfrm>
            <a:off x="1258920" y="6553080"/>
            <a:ext cx="6769080" cy="26064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Arial"/>
                <a:ea typeface="Arial"/>
              </a:rPr>
              <a:t>http://fi.opasnet.org/fi/Tiedosto:Ilmastopolitiikka_rakennukset_ja_terveys.ppt</a:t>
            </a:r>
            <a:endParaRPr b="0" lang="en-US" sz="1400" spc="-1" strike="noStrike">
              <a:solidFill>
                <a:srgbClr val="000000"/>
              </a:solidFill>
              <a:latin typeface="Arial"/>
            </a:endParaRPr>
          </a:p>
        </p:txBody>
      </p:sp>
      <p:sp>
        <p:nvSpPr>
          <p:cNvPr id="195"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62DE4-C6F7-42DA-A430-163A4D7A3C26}"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Kuopion ilmastopolitiikka 2009-2020</a:t>
            </a:r>
            <a:endParaRPr b="1" lang="en-US" sz="2800" spc="-1" strike="noStrike">
              <a:solidFill>
                <a:srgbClr val="7bc143"/>
              </a:solidFill>
              <a:latin typeface="Arial"/>
            </a:endParaRPr>
          </a:p>
        </p:txBody>
      </p:sp>
      <p:sp>
        <p:nvSpPr>
          <p:cNvPr id="371" name=""/>
          <p:cNvSpPr txBox="1"/>
          <p:nvPr/>
        </p:nvSpPr>
        <p:spPr>
          <a:xfrm>
            <a:off x="456840" y="1484280"/>
            <a:ext cx="8218440" cy="4392720"/>
          </a:xfrm>
          <a:prstGeom prst="rect">
            <a:avLst/>
          </a:prstGeom>
          <a:noFill/>
          <a:ln w="0">
            <a:noFill/>
          </a:ln>
        </p:spPr>
        <p:txBody>
          <a:bodyPr anchor="t">
            <a:normAutofit/>
          </a:bodyPr>
          <a:p>
            <a:pPr marL="514440" indent="-514440">
              <a:lnSpc>
                <a:spcPct val="95000"/>
              </a:lnSpc>
              <a:spcBef>
                <a:spcPts val="901"/>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ähentää kasvihuonekaasupäästöjä 40 % (1990-2020)</a:t>
            </a:r>
            <a:endParaRPr b="0" lang="en-US" sz="22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ärkein toimi: vaihdetaan </a:t>
            </a:r>
            <a:r>
              <a:rPr b="1" lang="fi-FI" sz="2000" spc="-1" strike="noStrike">
                <a:solidFill>
                  <a:srgbClr val="000000"/>
                </a:solidFill>
                <a:latin typeface="Arial"/>
              </a:rPr>
              <a:t>kaukolämmön</a:t>
            </a:r>
            <a:r>
              <a:rPr b="0" lang="fi-FI" sz="2000" spc="-1" strike="noStrike">
                <a:solidFill>
                  <a:srgbClr val="000000"/>
                </a:solidFill>
                <a:latin typeface="Arial"/>
              </a:rPr>
              <a:t> polttoainetta turpeesta (nyt 84 %) puuhun (nyt 4 %).</a:t>
            </a:r>
            <a:endParaRPr b="0" lang="en-US" sz="20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erustelu: turve on fossiilista, puu uusiutuvaa bioenergiaa.</a:t>
            </a:r>
            <a:endParaRPr b="0" lang="en-US" sz="2000" spc="-1" strike="noStrike">
              <a:solidFill>
                <a:srgbClr val="000000"/>
              </a:solidFill>
              <a:latin typeface="Arial"/>
            </a:endParaRPr>
          </a:p>
          <a:p>
            <a:pPr marL="514440" indent="-514440">
              <a:lnSpc>
                <a:spcPct val="95000"/>
              </a:lnSpc>
              <a:spcBef>
                <a:spcPts val="901"/>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ähentää julkisten rakennusten energiankulutusta 9 %.</a:t>
            </a:r>
            <a:endParaRPr b="0" lang="en-US" sz="2200" spc="-1" strike="noStrike">
              <a:solidFill>
                <a:srgbClr val="000000"/>
              </a:solidFill>
              <a:latin typeface="Arial"/>
            </a:endParaRPr>
          </a:p>
          <a:p>
            <a:pPr marL="514440" indent="-514440">
              <a:lnSpc>
                <a:spcPct val="95000"/>
              </a:lnSpc>
              <a:spcBef>
                <a:spcPts val="901"/>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älittää kansalaisille tietoa energiansäästöstä.</a:t>
            </a:r>
            <a:endParaRPr b="0" lang="en-US" sz="2200" spc="-1" strike="noStrike">
              <a:solidFill>
                <a:srgbClr val="000000"/>
              </a:solidFill>
              <a:latin typeface="Arial"/>
            </a:endParaRPr>
          </a:p>
        </p:txBody>
      </p:sp>
      <p:sp>
        <p:nvSpPr>
          <p:cNvPr id="372"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720C-DCA4-4883-98B4-6B7326999A67}"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373"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649F-AC02-42F2-84DA-E468139A8AA9}"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374"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95280" y="1267920"/>
            <a:ext cx="8207280" cy="5050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austaa</a:t>
            </a:r>
            <a:endParaRPr b="1" lang="en-US" sz="2800" spc="-1" strike="noStrike">
              <a:solidFill>
                <a:srgbClr val="7bc143"/>
              </a:solidFill>
              <a:latin typeface="Arial"/>
            </a:endParaRPr>
          </a:p>
        </p:txBody>
      </p:sp>
      <p:sp>
        <p:nvSpPr>
          <p:cNvPr id="376" name=""/>
          <p:cNvSpPr txBox="1"/>
          <p:nvPr/>
        </p:nvSpPr>
        <p:spPr>
          <a:xfrm>
            <a:off x="456840" y="1700280"/>
            <a:ext cx="8218440" cy="4176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akennukset ovat avainasemassa kasvihuonekaasupäästöjen vähentämisessä.</a:t>
            </a:r>
            <a:endParaRPr b="0" lang="en-US" sz="24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e vaativat energiaa lämmitykseen ja jäähdytykseen.</a:t>
            </a:r>
            <a:endParaRPr b="0" lang="en-US" sz="20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ri lämmitysratkaisuilla on eri päästöt ja terveysvaikutukset.</a:t>
            </a:r>
            <a:endParaRPr b="0" lang="en-US" sz="20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akennukset vaikuttavat terveyteen monin tavoin.</a:t>
            </a:r>
            <a:endParaRPr b="0" lang="en-US" sz="24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uletus, lämpö/kylmä, kosteus, biomassan poltto, radon, tupakointi, väljyys, naapurusto, …</a:t>
            </a:r>
            <a:endParaRPr b="0" lang="en-US" sz="20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uinka vähentää kasvihuonekaasuja ja edistää terveyttä samanaikaisesti?</a:t>
            </a:r>
            <a:endParaRPr b="0" lang="en-US" sz="2400" spc="-1" strike="noStrike">
              <a:solidFill>
                <a:srgbClr val="000000"/>
              </a:solidFill>
              <a:latin typeface="Arial"/>
            </a:endParaRPr>
          </a:p>
        </p:txBody>
      </p:sp>
      <p:sp>
        <p:nvSpPr>
          <p:cNvPr id="377"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C8B4-671B-4697-8FF9-E0D61C6E8055}"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378"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9793-B3DE-42D2-B556-2B49C3AD7891}"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379"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Vaikutusarviointi Opasnetissä</a:t>
            </a:r>
            <a:endParaRPr b="1" lang="en-US" sz="2800" spc="-1" strike="noStrike">
              <a:solidFill>
                <a:srgbClr val="7bc143"/>
              </a:solidFill>
              <a:latin typeface="Arial"/>
            </a:endParaRPr>
          </a:p>
        </p:txBody>
      </p:sp>
      <p:sp>
        <p:nvSpPr>
          <p:cNvPr id="381" name=""/>
          <p:cNvSpPr txBox="1"/>
          <p:nvPr/>
        </p:nvSpPr>
        <p:spPr>
          <a:xfrm>
            <a:off x="456840" y="1484280"/>
            <a:ext cx="8218440" cy="4392720"/>
          </a:xfrm>
          <a:prstGeom prst="rect">
            <a:avLst/>
          </a:prstGeom>
          <a:noFill/>
          <a:ln w="0">
            <a:noFill/>
          </a:ln>
        </p:spPr>
        <p:txBody>
          <a:bodyPr anchor="t">
            <a:normAutofit/>
          </a:bodyPr>
          <a:p>
            <a:pP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2"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3EA95-18E4-4F27-9607-0AB363ECF434}"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383"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384"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0735-57BA-46BF-9BD5-93C46BE51EDD}"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385" name="Picture 8" descr=""/>
          <p:cNvPicPr/>
          <p:nvPr/>
        </p:nvPicPr>
        <p:blipFill>
          <a:blip r:embed="rId1"/>
          <a:stretch/>
        </p:blipFill>
        <p:spPr>
          <a:xfrm>
            <a:off x="0" y="407880"/>
            <a:ext cx="9140760" cy="622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Motivaatio</a:t>
            </a:r>
            <a:endParaRPr b="1" lang="en-US" sz="2800" spc="-1" strike="noStrike">
              <a:solidFill>
                <a:srgbClr val="7bc143"/>
              </a:solidFill>
              <a:latin typeface="Arial"/>
            </a:endParaRPr>
          </a:p>
        </p:txBody>
      </p:sp>
      <p:sp>
        <p:nvSpPr>
          <p:cNvPr id="387" name=""/>
          <p:cNvSpPr txBox="1"/>
          <p:nvPr/>
        </p:nvSpPr>
        <p:spPr>
          <a:xfrm>
            <a:off x="456840" y="1484280"/>
            <a:ext cx="8218440" cy="4608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voin arviointi pyrkii tukemaan päätöksentekoa vaikutusarvioinnein ja parantamalla tiedonkulkua asiantuntijoiden ja päättäjien välillä.</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utkimuskysymys: Kuinka tieteellistä tietoa ja arvoarvostelmia voi jäsentää siten, että avoin osallistuminen on mahdollista?</a:t>
            </a:r>
            <a:endParaRPr b="0" lang="en-US" sz="2200" spc="-1" strike="noStrike">
              <a:solidFill>
                <a:srgbClr val="000000"/>
              </a:solidFill>
              <a:latin typeface="Arial"/>
            </a:endParaRPr>
          </a:p>
        </p:txBody>
      </p:sp>
      <p:sp>
        <p:nvSpPr>
          <p:cNvPr id="388"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C477-8258-4080-8613-4D6F3A755E56}"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389"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DD10-783C-46B5-8DB1-D9CB48826715}"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390"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Rakennukset ja ikä kartalla</a:t>
            </a:r>
            <a:endParaRPr b="1" lang="en-US" sz="2800" spc="-1" strike="noStrike">
              <a:solidFill>
                <a:srgbClr val="7bc143"/>
              </a:solidFill>
              <a:latin typeface="Arial"/>
            </a:endParaRPr>
          </a:p>
        </p:txBody>
      </p:sp>
      <p:sp>
        <p:nvSpPr>
          <p:cNvPr id="392" name=""/>
          <p:cNvSpPr txBox="1"/>
          <p:nvPr/>
        </p:nvSpPr>
        <p:spPr>
          <a:xfrm>
            <a:off x="456840" y="1484280"/>
            <a:ext cx="8218440" cy="4392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3"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F2A7E-6AD6-4E9F-B73E-98BB0341FC71}"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394"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395"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7483-7A46-43A5-BB5E-2C4DD5CB3C35}"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396" name="Picture 2" descr=""/>
          <p:cNvPicPr/>
          <p:nvPr/>
        </p:nvPicPr>
        <p:blipFill>
          <a:blip r:embed="rId1"/>
          <a:stretch/>
        </p:blipFill>
        <p:spPr>
          <a:xfrm>
            <a:off x="0" y="0"/>
            <a:ext cx="10715760" cy="803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1267920"/>
            <a:ext cx="8207280" cy="792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Syysuhteiden ketju</a:t>
            </a:r>
            <a:endParaRPr b="1" lang="en-US" sz="2800" spc="-1" strike="noStrike">
              <a:solidFill>
                <a:srgbClr val="7bc143"/>
              </a:solidFill>
              <a:latin typeface="Arial"/>
            </a:endParaRPr>
          </a:p>
        </p:txBody>
      </p:sp>
      <p:sp>
        <p:nvSpPr>
          <p:cNvPr id="398" name=""/>
          <p:cNvSpPr txBox="1"/>
          <p:nvPr/>
        </p:nvSpPr>
        <p:spPr>
          <a:xfrm>
            <a:off x="971640" y="2205000"/>
            <a:ext cx="7704000" cy="367200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Rakennuskanta (rakennusala)</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ämmitysenergian tarve</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ämmitysratkaisut</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ienhiukkas- ja CO</a:t>
            </a:r>
            <a:r>
              <a:rPr b="0" lang="fi-FI" sz="2200" spc="-1" strike="noStrike" baseline="-25000">
                <a:solidFill>
                  <a:srgbClr val="000000"/>
                </a:solidFill>
                <a:latin typeface="Arial"/>
              </a:rPr>
              <a:t>2</a:t>
            </a:r>
            <a:r>
              <a:rPr b="0" lang="fi-FI" sz="2200" spc="-1" strike="noStrike">
                <a:solidFill>
                  <a:srgbClr val="000000"/>
                </a:solidFill>
                <a:latin typeface="Arial"/>
              </a:rPr>
              <a:t>-päästöt</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ienhiukkasten leviäminen ja altistus</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ienhiukkasten terveysvaikutukset</a:t>
            </a:r>
            <a:endParaRPr b="0" lang="en-US" sz="2200" spc="-1" strike="noStrike">
              <a:solidFill>
                <a:srgbClr val="000000"/>
              </a:solidFill>
              <a:latin typeface="Arial"/>
            </a:endParaRPr>
          </a:p>
        </p:txBody>
      </p:sp>
      <p:sp>
        <p:nvSpPr>
          <p:cNvPr id="399"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1246-B2C8-41FB-B321-D80FFD8C6CE5}"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400"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2464A-252E-41DF-AD73-5123DF62603A}"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401" name="Down Arrow 6"/>
          <p:cNvSpPr/>
          <p:nvPr/>
        </p:nvSpPr>
        <p:spPr>
          <a:xfrm>
            <a:off x="250920" y="2276640"/>
            <a:ext cx="576000" cy="2736720"/>
          </a:xfrm>
          <a:prstGeom prst="downArrow">
            <a:avLst>
              <a:gd name="adj1" fmla="val 50000"/>
              <a:gd name="adj2" fmla="val 50020"/>
            </a:avLst>
          </a:prstGeom>
          <a:solidFill>
            <a:srgbClr val="7bc143"/>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Lähtötiedot ja mallit netissä</a:t>
            </a:r>
            <a:endParaRPr b="1" lang="en-US" sz="2800" spc="-1" strike="noStrike">
              <a:solidFill>
                <a:srgbClr val="7bc143"/>
              </a:solidFill>
              <a:latin typeface="Arial"/>
            </a:endParaRPr>
          </a:p>
        </p:txBody>
      </p:sp>
      <p:pic>
        <p:nvPicPr>
          <p:cNvPr id="404" name="Content Placeholder 6" descr=""/>
          <p:cNvPicPr/>
          <p:nvPr/>
        </p:nvPicPr>
        <p:blipFill>
          <a:blip r:embed="rId1"/>
          <a:stretch/>
        </p:blipFill>
        <p:spPr>
          <a:xfrm>
            <a:off x="453960" y="1413000"/>
            <a:ext cx="8359920" cy="4464000"/>
          </a:xfrm>
          <a:prstGeom prst="rect">
            <a:avLst/>
          </a:prstGeom>
          <a:ln w="0">
            <a:noFill/>
          </a:ln>
        </p:spPr>
      </p:pic>
      <p:sp>
        <p:nvSpPr>
          <p:cNvPr id="405"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CA4A-34E4-4832-81CE-FA6570BD8AFC}"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406"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332F-FCFB-4FEE-83F5-6EF70DF39EC9}"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407"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Mallin osia voidaan päivittää itsenäisesti</a:t>
            </a:r>
            <a:endParaRPr b="1" lang="en-US" sz="2800" spc="-1" strike="noStrike">
              <a:solidFill>
                <a:srgbClr val="7bc143"/>
              </a:solidFill>
              <a:latin typeface="Arial"/>
            </a:endParaRPr>
          </a:p>
        </p:txBody>
      </p:sp>
      <p:pic>
        <p:nvPicPr>
          <p:cNvPr id="409" name="" descr=""/>
          <p:cNvPicPr/>
          <p:nvPr/>
        </p:nvPicPr>
        <p:blipFill>
          <a:blip r:embed="rId1"/>
          <a:stretch/>
        </p:blipFill>
        <p:spPr>
          <a:xfrm>
            <a:off x="456840" y="1484280"/>
            <a:ext cx="8218440" cy="4392720"/>
          </a:xfrm>
          <a:prstGeom prst="rect">
            <a:avLst/>
          </a:prstGeom>
          <a:ln w="0">
            <a:noFill/>
          </a:ln>
        </p:spPr>
      </p:pic>
      <p:sp>
        <p:nvSpPr>
          <p:cNvPr id="410"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F528-91AC-4E9C-8C19-7871B73F5DE4}"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11"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rPr>
              <a:t>http://fi.opasnet.org/fi/Tiedosto:Ilmastopolitiikka_rakennukset_ja_terveys.ppt</a:t>
            </a:r>
            <a:endParaRPr b="0" lang="en-US" sz="1500" spc="-1" strike="noStrike">
              <a:solidFill>
                <a:srgbClr val="000000"/>
              </a:solidFill>
              <a:latin typeface="Arial"/>
            </a:endParaRPr>
          </a:p>
        </p:txBody>
      </p:sp>
      <p:sp>
        <p:nvSpPr>
          <p:cNvPr id="412"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AA4C-E281-4345-9A86-675B4AFBD32B}"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413" name="Picture 2" descr=""/>
          <p:cNvPicPr/>
          <p:nvPr/>
        </p:nvPicPr>
        <p:blipFill>
          <a:blip r:embed="rId2"/>
          <a:stretch/>
        </p:blipFill>
        <p:spPr>
          <a:xfrm>
            <a:off x="0" y="1413000"/>
            <a:ext cx="9144000" cy="504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Rakennuskannan kehitys</a:t>
            </a:r>
            <a:endParaRPr b="1" lang="en-US" sz="2800" spc="-1" strike="noStrike">
              <a:solidFill>
                <a:srgbClr val="7bc143"/>
              </a:solidFill>
              <a:latin typeface="Arial"/>
            </a:endParaRPr>
          </a:p>
        </p:txBody>
      </p:sp>
      <p:pic>
        <p:nvPicPr>
          <p:cNvPr id="415" name="Content Placeholder 6" descr=""/>
          <p:cNvPicPr/>
          <p:nvPr/>
        </p:nvPicPr>
        <p:blipFill>
          <a:blip r:embed="rId1"/>
          <a:stretch/>
        </p:blipFill>
        <p:spPr>
          <a:xfrm>
            <a:off x="0" y="-27000"/>
            <a:ext cx="9144000" cy="6531120"/>
          </a:xfrm>
          <a:prstGeom prst="rect">
            <a:avLst/>
          </a:prstGeom>
          <a:ln w="0">
            <a:noFill/>
          </a:ln>
        </p:spPr>
      </p:pic>
      <p:sp>
        <p:nvSpPr>
          <p:cNvPr id="416"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1799-906B-4C50-BA4B-1200384DC5BE}"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417"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A28D0-1010-4941-8783-216E61640268}"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418"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Lämmitysenergian tarve</a:t>
            </a:r>
            <a:endParaRPr b="1" lang="en-US" sz="2800" spc="-1" strike="noStrike">
              <a:solidFill>
                <a:srgbClr val="7bc143"/>
              </a:solidFill>
              <a:latin typeface="Arial"/>
            </a:endParaRPr>
          </a:p>
        </p:txBody>
      </p:sp>
      <p:pic>
        <p:nvPicPr>
          <p:cNvPr id="420" name="Content Placeholder 10" descr=""/>
          <p:cNvPicPr/>
          <p:nvPr/>
        </p:nvPicPr>
        <p:blipFill>
          <a:blip r:embed="rId1"/>
          <a:stretch/>
        </p:blipFill>
        <p:spPr>
          <a:xfrm>
            <a:off x="0" y="0"/>
            <a:ext cx="9136080" cy="6524640"/>
          </a:xfrm>
          <a:prstGeom prst="rect">
            <a:avLst/>
          </a:prstGeom>
          <a:ln w="0">
            <a:noFill/>
          </a:ln>
        </p:spPr>
      </p:pic>
      <p:sp>
        <p:nvSpPr>
          <p:cNvPr id="421"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E9EE-CE3F-4487-B1F6-DA74453D9999}"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422"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5D42-F14D-411E-A222-32FFE96CA57D}"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423"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Avoimuus on in ja pop valtionhallinnossa</a:t>
            </a:r>
            <a:endParaRPr b="1" lang="en-US" sz="2800" spc="-1" strike="noStrike">
              <a:solidFill>
                <a:srgbClr val="7bc143"/>
              </a:solidFill>
              <a:latin typeface="Arial"/>
            </a:endParaRPr>
          </a:p>
        </p:txBody>
      </p:sp>
      <p:pic>
        <p:nvPicPr>
          <p:cNvPr id="197" name="" descr=""/>
          <p:cNvPicPr/>
          <p:nvPr/>
        </p:nvPicPr>
        <p:blipFill>
          <a:blip r:embed="rId1"/>
          <a:stretch/>
        </p:blipFill>
        <p:spPr>
          <a:xfrm>
            <a:off x="456840" y="1484280"/>
            <a:ext cx="8218440" cy="4392720"/>
          </a:xfrm>
          <a:prstGeom prst="rect">
            <a:avLst/>
          </a:prstGeom>
          <a:ln w="0">
            <a:noFill/>
          </a:ln>
        </p:spPr>
      </p:pic>
      <p:sp>
        <p:nvSpPr>
          <p:cNvPr id="198"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DFB7-FD75-4DD4-828C-6679A78CCDB0}"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199"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200"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B4E5-9E5A-4B4E-921D-7FC42C47002F}"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201" name="Picture 2" descr=""/>
          <p:cNvPicPr/>
          <p:nvPr/>
        </p:nvPicPr>
        <p:blipFill>
          <a:blip r:embed="rId2"/>
          <a:stretch/>
        </p:blipFill>
        <p:spPr>
          <a:xfrm>
            <a:off x="0" y="1739880"/>
            <a:ext cx="9144000" cy="5118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Päästöt</a:t>
            </a:r>
            <a:endParaRPr b="1" lang="en-US" sz="2800" spc="-1" strike="noStrike">
              <a:solidFill>
                <a:srgbClr val="7bc143"/>
              </a:solidFill>
              <a:latin typeface="Arial"/>
            </a:endParaRPr>
          </a:p>
        </p:txBody>
      </p:sp>
      <p:pic>
        <p:nvPicPr>
          <p:cNvPr id="425" name="Content Placeholder 10" descr=""/>
          <p:cNvPicPr/>
          <p:nvPr/>
        </p:nvPicPr>
        <p:blipFill>
          <a:blip r:embed="rId1"/>
          <a:stretch/>
        </p:blipFill>
        <p:spPr>
          <a:xfrm>
            <a:off x="0" y="0"/>
            <a:ext cx="9144000" cy="6531120"/>
          </a:xfrm>
          <a:prstGeom prst="rect">
            <a:avLst/>
          </a:prstGeom>
          <a:ln w="0">
            <a:noFill/>
          </a:ln>
        </p:spPr>
      </p:pic>
      <p:sp>
        <p:nvSpPr>
          <p:cNvPr id="426"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2494A-1AD0-41A0-9EE9-CEA498F7A0D8}"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427"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A54D-FE6A-48E1-B103-B893CBC6CD84}"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428"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erveysvaikutukset</a:t>
            </a:r>
            <a:endParaRPr b="1" lang="en-US" sz="2800" spc="-1" strike="noStrike">
              <a:solidFill>
                <a:srgbClr val="7bc143"/>
              </a:solidFill>
              <a:latin typeface="Arial"/>
            </a:endParaRPr>
          </a:p>
        </p:txBody>
      </p:sp>
      <p:sp>
        <p:nvSpPr>
          <p:cNvPr id="430"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11FD-AC2C-44BB-ABAE-EFD32A3061B6}"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431"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A91A-1620-4F80-9E78-F4AB5232F107}"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432"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pic>
        <p:nvPicPr>
          <p:cNvPr id="433" name="" descr=""/>
          <p:cNvPicPr/>
          <p:nvPr/>
        </p:nvPicPr>
        <p:blipFill>
          <a:blip r:embed="rId1"/>
          <a:stretch/>
        </p:blipFill>
        <p:spPr>
          <a:xfrm>
            <a:off x="456840" y="1484280"/>
            <a:ext cx="8218440" cy="4392720"/>
          </a:xfrm>
          <a:prstGeom prst="rect">
            <a:avLst/>
          </a:prstGeom>
          <a:ln w="0">
            <a:noFill/>
          </a:ln>
        </p:spPr>
      </p:pic>
      <p:pic>
        <p:nvPicPr>
          <p:cNvPr id="434" name="Picture 7" descr=""/>
          <p:cNvPicPr/>
          <p:nvPr/>
        </p:nvPicPr>
        <p:blipFill>
          <a:blip r:embed="rId2"/>
          <a:stretch/>
        </p:blipFill>
        <p:spPr>
          <a:xfrm>
            <a:off x="179280" y="7920"/>
            <a:ext cx="8748720" cy="6545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7bc143"/>
                </a:solidFill>
                <a:latin typeface="Arial"/>
              </a:rPr>
              <a:t>Päätelmiä Kuopion-arvioinnista</a:t>
            </a:r>
            <a:endParaRPr b="1" lang="en-US" sz="3600" spc="-1" strike="noStrike">
              <a:solidFill>
                <a:srgbClr val="7bc143"/>
              </a:solidFill>
              <a:latin typeface="Arial"/>
            </a:endParaRPr>
          </a:p>
        </p:txBody>
      </p:sp>
      <p:sp>
        <p:nvSpPr>
          <p:cNvPr id="436" name=""/>
          <p:cNvSpPr txBox="1"/>
          <p:nvPr/>
        </p:nvSpPr>
        <p:spPr>
          <a:xfrm>
            <a:off x="456840" y="1484280"/>
            <a:ext cx="8218440" cy="4392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isäympäristön laatu:</a:t>
            </a:r>
            <a:endParaRPr b="0" lang="en-US" sz="28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riittinen tekijä ja pitää huomioida.</a:t>
            </a:r>
            <a:endParaRPr b="0" lang="en-US" sz="20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itenkaan nykymalli ei vielä sisällä vaikutuksia sisäympäristöön.</a:t>
            </a:r>
            <a:endParaRPr b="0" lang="en-US" sz="20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aikutukset terveyteen ovat pienet, MUTTA:</a:t>
            </a:r>
            <a:endParaRPr b="0" lang="en-US" sz="22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O2-päästöarviot riippuvat viitekehyksestä.</a:t>
            </a:r>
            <a:endParaRPr b="0" lang="en-US" sz="20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sälämmitys puulla aiheuttaa isot päästöt muttei vielä sisälly malliin.</a:t>
            </a:r>
            <a:endParaRPr b="0" lang="en-US" sz="2000" spc="-1" strike="noStrike">
              <a:solidFill>
                <a:srgbClr val="000000"/>
              </a:solidFill>
              <a:latin typeface="Arial"/>
            </a:endParaRPr>
          </a:p>
        </p:txBody>
      </p:sp>
      <p:sp>
        <p:nvSpPr>
          <p:cNvPr id="437"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9404-79D8-4204-B50D-DE134BCA2F21}"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438"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3113-8FA6-4599-9C9B-11827CB6D256}"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439"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ähän esimerkki uudella HIA-mallilla toteutettuna</a:t>
            </a:r>
            <a:endParaRPr b="1" lang="en-US" sz="2800" spc="-1" strike="noStrike">
              <a:solidFill>
                <a:srgbClr val="7bc143"/>
              </a:solidFill>
              <a:latin typeface="Arial"/>
            </a:endParaRPr>
          </a:p>
        </p:txBody>
      </p:sp>
      <p:pic>
        <p:nvPicPr>
          <p:cNvPr id="441" name="" descr=""/>
          <p:cNvPicPr/>
          <p:nvPr/>
        </p:nvPicPr>
        <p:blipFill>
          <a:blip r:embed="rId1"/>
          <a:stretch/>
        </p:blipFill>
        <p:spPr>
          <a:xfrm>
            <a:off x="456840" y="1484280"/>
            <a:ext cx="8218440" cy="4392720"/>
          </a:xfrm>
          <a:prstGeom prst="rect">
            <a:avLst/>
          </a:prstGeom>
          <a:ln w="0">
            <a:noFill/>
          </a:ln>
        </p:spPr>
      </p:pic>
      <p:sp>
        <p:nvSpPr>
          <p:cNvPr id="442"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F2EA4-56FC-4A08-A25E-7F8E61457753}"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43"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444"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361AE-9B03-4DC6-A2CE-C63C7BAA3B54}"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Päätelmiä arviointityöstä</a:t>
            </a:r>
            <a:endParaRPr b="1" lang="en-US" sz="2800" spc="-1" strike="noStrike">
              <a:solidFill>
                <a:srgbClr val="7bc143"/>
              </a:solidFill>
              <a:latin typeface="Arial"/>
            </a:endParaRPr>
          </a:p>
        </p:txBody>
      </p:sp>
      <p:sp>
        <p:nvSpPr>
          <p:cNvPr id="446" name=""/>
          <p:cNvSpPr txBox="1"/>
          <p:nvPr/>
        </p:nvSpPr>
        <p:spPr>
          <a:xfrm>
            <a:off x="456840" y="1197000"/>
            <a:ext cx="8218440" cy="4680000"/>
          </a:xfrm>
          <a:prstGeom prst="rect">
            <a:avLst/>
          </a:prstGeom>
          <a:noFill/>
          <a:ln w="0">
            <a:noFill/>
          </a:ln>
        </p:spPr>
        <p:txBody>
          <a:bodyPr anchor="t">
            <a:normAutofit fontScale="99000"/>
          </a:bodyPr>
          <a:p>
            <a:pPr marL="353520" indent="-3535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uka tahansa voi nyt käyttää rakennuskantamallia ja arvioida päästöjä ja terveysvaikutuksia.</a:t>
            </a:r>
            <a:endParaRPr b="0" lang="en-US" sz="2200" spc="-1" strike="noStrike">
              <a:solidFill>
                <a:srgbClr val="000000"/>
              </a:solidFill>
              <a:latin typeface="Arial"/>
            </a:endParaRPr>
          </a:p>
          <a:p>
            <a:pPr lvl="1" marL="618840" indent="-262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opion-mallin soveltaminen Baseliin vei vain kaksi työpäivää, vaikka datan rakenne poikkesi.</a:t>
            </a:r>
            <a:endParaRPr b="0" lang="en-US" sz="2000" spc="-1" strike="noStrike">
              <a:solidFill>
                <a:srgbClr val="000000"/>
              </a:solidFill>
              <a:latin typeface="Arial"/>
            </a:endParaRPr>
          </a:p>
          <a:p>
            <a:pPr marL="353520" indent="-3535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äätösvaihtoehtojen luominen on vaikeaa niin päättäjille kuin asiantuntijoille.</a:t>
            </a:r>
            <a:endParaRPr b="0" lang="en-US" sz="2200" spc="-1" strike="noStrike">
              <a:solidFill>
                <a:srgbClr val="000000"/>
              </a:solidFill>
              <a:latin typeface="Arial"/>
            </a:endParaRPr>
          </a:p>
          <a:p>
            <a:pPr lvl="1" marL="618840" indent="-262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aetun ymmärryksen tai päätösideointivaihteen saavuttaminen on hankalaa.</a:t>
            </a:r>
            <a:endParaRPr b="0" lang="en-US" sz="2000" spc="-1" strike="noStrike">
              <a:solidFill>
                <a:srgbClr val="000000"/>
              </a:solidFill>
              <a:latin typeface="Arial"/>
            </a:endParaRPr>
          </a:p>
          <a:p>
            <a:pPr marL="353520" indent="-3535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eskustelu päättäjien ja asiantuntijoiden välillä on vaikeaa.</a:t>
            </a:r>
            <a:endParaRPr b="0" lang="en-US" sz="2200" spc="-1" strike="noStrike">
              <a:solidFill>
                <a:srgbClr val="000000"/>
              </a:solidFill>
              <a:latin typeface="Arial"/>
            </a:endParaRPr>
          </a:p>
          <a:p>
            <a:pPr lvl="1" marL="618840" indent="-262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yt tietoa työnnettiin asiantuntijoiden puolelta.</a:t>
            </a:r>
            <a:endParaRPr b="0" lang="en-US" sz="2000" spc="-1" strike="noStrike">
              <a:solidFill>
                <a:srgbClr val="000000"/>
              </a:solidFill>
              <a:latin typeface="Arial"/>
            </a:endParaRPr>
          </a:p>
          <a:p>
            <a:pPr lvl="1" marL="618840" indent="-262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rvitaan myös imua päättäjien puolelta.</a:t>
            </a:r>
            <a:endParaRPr b="0" lang="en-US" sz="2000" spc="-1" strike="noStrike">
              <a:solidFill>
                <a:srgbClr val="000000"/>
              </a:solidFill>
              <a:latin typeface="Arial"/>
            </a:endParaRPr>
          </a:p>
          <a:p>
            <a:pPr marL="353520" indent="-3535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Kansalaisella pitää olla käytettävissään sama informaatio ja samat työkalut kuin asian valmistelijalla?</a:t>
            </a:r>
            <a:endParaRPr b="0" lang="en-US" sz="2200" spc="-1" strike="noStrike">
              <a:solidFill>
                <a:srgbClr val="000000"/>
              </a:solidFill>
              <a:latin typeface="Arial"/>
            </a:endParaRPr>
          </a:p>
        </p:txBody>
      </p:sp>
      <p:sp>
        <p:nvSpPr>
          <p:cNvPr id="447"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E50EF-65FA-4B68-A968-FDF8D8542C50}"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448"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EC9A-6304-4E7B-9FE3-E776E0B68322}"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449"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Avoimen datan ja algoritmien (”nettimallinnuksen”) laatukriteereitä</a:t>
            </a:r>
            <a:endParaRPr b="1" lang="en-US" sz="2800" spc="-1" strike="noStrike">
              <a:solidFill>
                <a:srgbClr val="7bc143"/>
              </a:solidFill>
              <a:latin typeface="Arial"/>
            </a:endParaRPr>
          </a:p>
        </p:txBody>
      </p:sp>
      <p:sp>
        <p:nvSpPr>
          <p:cNvPr id="451" name=""/>
          <p:cNvSpPr txBox="1"/>
          <p:nvPr/>
        </p:nvSpPr>
        <p:spPr>
          <a:xfrm>
            <a:off x="456840" y="1268280"/>
            <a:ext cx="8218440" cy="4608720"/>
          </a:xfrm>
          <a:prstGeom prst="rect">
            <a:avLst/>
          </a:prstGeom>
          <a:noFill/>
          <a:ln w="0">
            <a:noFill/>
          </a:ln>
        </p:spPr>
        <p:txBody>
          <a:bodyPr anchor="t">
            <a:normAutofit fontScale="98000"/>
          </a:bodyPr>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astaa todelliseen päätöstarpeeseen.</a:t>
            </a:r>
            <a:endParaRPr b="0" lang="en-US" sz="22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uvastaa todellisia ilmiöitä ja vaikutuksia.</a:t>
            </a:r>
            <a:endParaRPr b="0" lang="en-US" sz="22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apaasti käytettävissä. </a:t>
            </a:r>
            <a:r>
              <a:rPr b="0" lang="fi-FI" sz="1800" spc="-1" strike="noStrike">
                <a:solidFill>
                  <a:srgbClr val="000000"/>
                </a:solidFill>
                <a:latin typeface="Arial"/>
              </a:rPr>
              <a:t>(esim. Opasnetissä </a:t>
            </a:r>
            <a:r>
              <a:rPr b="0" lang="fi-FI" sz="1800" spc="-1" strike="noStrike" u="sng">
                <a:solidFill>
                  <a:srgbClr val="c1df63"/>
                </a:solidFill>
                <a:uFillTx/>
                <a:latin typeface="Arial"/>
                <a:hlinkClick r:id="rId1"/>
              </a:rPr>
              <a:t>[1]</a:t>
            </a:r>
            <a:r>
              <a:rPr b="0" lang="fi-FI" sz="1800" spc="-1" strike="noStrike">
                <a:solidFill>
                  <a:srgbClr val="000000"/>
                </a:solidFill>
                <a:latin typeface="Arial"/>
              </a:rPr>
              <a:t> )</a:t>
            </a:r>
            <a:endParaRPr b="0" lang="en-US" sz="1800" spc="-1" strike="noStrike">
              <a:solidFill>
                <a:srgbClr val="000000"/>
              </a:solidFill>
              <a:latin typeface="Arial"/>
            </a:endParaRPr>
          </a:p>
          <a:p>
            <a:pPr lvl="1" marL="612720" indent="-2595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Data aina käyttövalmiina päivitettäessäkin.</a:t>
            </a:r>
            <a:endParaRPr b="0" lang="en-US" sz="2000" spc="-1" strike="noStrike">
              <a:solidFill>
                <a:srgbClr val="000000"/>
              </a:solidFill>
              <a:latin typeface="Arial"/>
            </a:endParaRPr>
          </a:p>
          <a:p>
            <a:pPr lvl="1" marL="612720" indent="-2595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llit ajettavissa suoraan nettisivulta selaimella.</a:t>
            </a:r>
            <a:endParaRPr b="0" lang="en-US" sz="2000" spc="-1" strike="noStrike">
              <a:solidFill>
                <a:srgbClr val="000000"/>
              </a:solidFill>
              <a:latin typeface="Arial"/>
            </a:endParaRPr>
          </a:p>
          <a:p>
            <a:pPr lvl="1" marL="612720" indent="-2595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hdollisuus imuroida omalle koneelle ja jatkotyöstää.</a:t>
            </a:r>
            <a:endParaRPr b="0" lang="en-US" sz="20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aikki sisältö kritisoitavissa ja kehitettävissä.</a:t>
            </a:r>
            <a:endParaRPr b="0" lang="en-US" sz="22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ahdollisuus uusiokäyttää samantapaisissa keiseissä. </a:t>
            </a:r>
            <a:r>
              <a:rPr b="0" lang="fi-FI" sz="2200" spc="-1" strike="noStrike" u="sng">
                <a:solidFill>
                  <a:srgbClr val="c1df63"/>
                </a:solidFill>
                <a:uFillTx/>
                <a:latin typeface="Arial"/>
                <a:hlinkClick r:id="rId2"/>
              </a:rPr>
              <a:t>[2]</a:t>
            </a:r>
            <a:r>
              <a:rPr b="0" lang="fi-FI" sz="2200" spc="-1" strike="noStrike">
                <a:solidFill>
                  <a:srgbClr val="000000"/>
                </a:solidFill>
                <a:latin typeface="Arial"/>
              </a:rPr>
              <a:t>  </a:t>
            </a:r>
            <a:endParaRPr b="0" lang="en-US" sz="22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oimivat avoimen lähdekoodin tehokkailla ohjelmilla. </a:t>
            </a:r>
            <a:endParaRPr b="0" lang="en-US" sz="2200" spc="-1" strike="noStrike">
              <a:solidFill>
                <a:srgbClr val="000000"/>
              </a:solidFill>
              <a:latin typeface="Arial"/>
            </a:endParaRPr>
          </a:p>
          <a:p>
            <a:pPr lvl="1" marL="612720" indent="-2595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esim. Opasnet: käyttöliittymä (MediaWiki), laskenta (R), tietokanta (MySQL, MongoDB), CRAN-paketti OpasnetUtils)</a:t>
            </a:r>
            <a:endParaRPr b="0" lang="en-US" sz="1800" spc="-1" strike="noStrike">
              <a:solidFill>
                <a:srgbClr val="000000"/>
              </a:solidFill>
              <a:latin typeface="Arial"/>
            </a:endParaRPr>
          </a:p>
          <a:p>
            <a:pPr marL="349920" indent="-3499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mmattilainen olisi tyytyväinen tarjottuihin työkaluihin.</a:t>
            </a:r>
            <a:endParaRPr b="0" lang="en-US" sz="2200" spc="-1" strike="noStrike">
              <a:solidFill>
                <a:srgbClr val="000000"/>
              </a:solidFill>
              <a:latin typeface="Arial"/>
            </a:endParaRPr>
          </a:p>
        </p:txBody>
      </p:sp>
      <p:sp>
        <p:nvSpPr>
          <p:cNvPr id="452"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35CF-CA72-4E9C-BD6D-9691E63597E9}"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53"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454"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0805-025F-4E9E-8EF3-A595942745C4}"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Päätelmiä avoimesta datasta ja avoimesta päätöksenteosta</a:t>
            </a:r>
            <a:endParaRPr b="1" lang="en-US" sz="2800" spc="-1" strike="noStrike">
              <a:solidFill>
                <a:srgbClr val="7bc143"/>
              </a:solidFill>
              <a:latin typeface="Arial"/>
            </a:endParaRPr>
          </a:p>
        </p:txBody>
      </p:sp>
      <p:sp>
        <p:nvSpPr>
          <p:cNvPr id="456" name=""/>
          <p:cNvSpPr txBox="1"/>
          <p:nvPr/>
        </p:nvSpPr>
        <p:spPr>
          <a:xfrm>
            <a:off x="456840" y="1484280"/>
            <a:ext cx="8218440" cy="4392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altionhallinnossa on nyt isosti huomattu avoimuuden merkitys.</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livaltiosihteeri Timo Lankinen: Tarvitaan yhteinen läpinäkyvä päätöksenteon tukijärjestelmä.</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Halutaan kykyä nopeisiin selvitystyyppisiin toimeksiantoihin ja perusteltuihin vastauksiin.</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7"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6A285-3AEB-4CDE-8529-9CE5CCA2F006}"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58"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459"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FD501-FFBC-4B05-9C63-DF5F1CB044AE}"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eesit nettimallinnuksesta</a:t>
            </a:r>
            <a:endParaRPr b="1" lang="en-US" sz="2800" spc="-1" strike="noStrike">
              <a:solidFill>
                <a:srgbClr val="7bc143"/>
              </a:solidFill>
              <a:latin typeface="Arial"/>
            </a:endParaRPr>
          </a:p>
        </p:txBody>
      </p:sp>
      <p:sp>
        <p:nvSpPr>
          <p:cNvPr id="461" name=""/>
          <p:cNvSpPr txBox="1"/>
          <p:nvPr/>
        </p:nvSpPr>
        <p:spPr>
          <a:xfrm>
            <a:off x="456840" y="1484280"/>
            <a:ext cx="8218440" cy="4392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iihin perustuva mallinnus on jo käytössä ja kaikkien ulottuvilla.</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e soveltuvat yhteiskunnallisten päätösten vaikutusarviointiin.</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e soveltuvat hyvin joukkoistamiseen ja yksityiskohtaiseen keskusteluun päätöksistä.</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e soveltuvat työkaluksi päättäjien, asiantuntijoiden ja sidosryhmien yhteiselle työskentelylle jaetun ymmärryksen luomiseksi.</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Syntyykö yhteisö nettimallinnuksen edistämiseksi ja soveltamiseksi?</a:t>
            </a:r>
            <a:endParaRPr b="0" lang="en-US" sz="2200" spc="-1" strike="noStrike">
              <a:solidFill>
                <a:srgbClr val="000000"/>
              </a:solidFill>
              <a:latin typeface="Arial"/>
            </a:endParaRPr>
          </a:p>
        </p:txBody>
      </p:sp>
      <p:sp>
        <p:nvSpPr>
          <p:cNvPr id="462"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2C4D8-06EA-42B5-8B33-3EB9FB67E8F1}"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463"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464"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AB7B-F4D8-4078-9C62-19F3C9ADE176}"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28760" y="274680"/>
            <a:ext cx="8229600" cy="7984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500" spc="-1" strike="noStrike">
                <a:solidFill>
                  <a:srgbClr val="7bc143"/>
                </a:solidFill>
                <a:latin typeface="Arial"/>
              </a:rPr>
              <a:t>Tiedonkulku päätösvalmistelussa tulevaisuudessa</a:t>
            </a:r>
            <a:endParaRPr b="1" lang="en-US" sz="2500" spc="-1" strike="noStrike">
              <a:solidFill>
                <a:srgbClr val="7bc143"/>
              </a:solidFill>
              <a:latin typeface="Arial"/>
            </a:endParaRPr>
          </a:p>
        </p:txBody>
      </p:sp>
      <p:grpSp>
        <p:nvGrpSpPr>
          <p:cNvPr id="466" name="Group 7170"/>
          <p:cNvGrpSpPr/>
          <p:nvPr/>
        </p:nvGrpSpPr>
        <p:grpSpPr>
          <a:xfrm>
            <a:off x="0" y="1233360"/>
            <a:ext cx="8817120" cy="5401440"/>
            <a:chOff x="0" y="1233360"/>
            <a:chExt cx="8817120" cy="5401440"/>
          </a:xfrm>
        </p:grpSpPr>
        <p:sp>
          <p:nvSpPr>
            <p:cNvPr id="467" name="Rectangle 42"/>
            <p:cNvSpPr/>
            <p:nvPr/>
          </p:nvSpPr>
          <p:spPr>
            <a:xfrm>
              <a:off x="323280" y="5965920"/>
              <a:ext cx="1805040" cy="447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Picture 10" descr=""/>
            <p:cNvPicPr/>
            <p:nvPr/>
          </p:nvPicPr>
          <p:blipFill>
            <a:blip r:embed="rId1"/>
            <a:stretch/>
          </p:blipFill>
          <p:spPr>
            <a:xfrm>
              <a:off x="5603760" y="4874400"/>
              <a:ext cx="623520" cy="814320"/>
            </a:xfrm>
            <a:prstGeom prst="rect">
              <a:avLst/>
            </a:prstGeom>
            <a:ln w="0">
              <a:noFill/>
            </a:ln>
          </p:spPr>
        </p:pic>
        <p:pic>
          <p:nvPicPr>
            <p:cNvPr id="469" name="Picture 15" descr=""/>
            <p:cNvPicPr/>
            <p:nvPr/>
          </p:nvPicPr>
          <p:blipFill>
            <a:blip r:embed="rId2"/>
            <a:stretch/>
          </p:blipFill>
          <p:spPr>
            <a:xfrm>
              <a:off x="5797800" y="3951360"/>
              <a:ext cx="990360" cy="942840"/>
            </a:xfrm>
            <a:prstGeom prst="rect">
              <a:avLst/>
            </a:prstGeom>
            <a:ln w="0">
              <a:noFill/>
            </a:ln>
          </p:spPr>
        </p:pic>
        <p:pic>
          <p:nvPicPr>
            <p:cNvPr id="470" name="Picture 16" descr=""/>
            <p:cNvPicPr/>
            <p:nvPr/>
          </p:nvPicPr>
          <p:blipFill>
            <a:blip r:embed="rId3"/>
            <a:stretch/>
          </p:blipFill>
          <p:spPr>
            <a:xfrm>
              <a:off x="5259600" y="1662840"/>
              <a:ext cx="1104840" cy="923760"/>
            </a:xfrm>
            <a:prstGeom prst="rect">
              <a:avLst/>
            </a:prstGeom>
            <a:ln w="0">
              <a:noFill/>
            </a:ln>
          </p:spPr>
        </p:pic>
        <p:pic>
          <p:nvPicPr>
            <p:cNvPr id="471" name="Picture 17" descr=""/>
            <p:cNvPicPr/>
            <p:nvPr/>
          </p:nvPicPr>
          <p:blipFill>
            <a:blip r:embed="rId4"/>
            <a:stretch/>
          </p:blipFill>
          <p:spPr>
            <a:xfrm>
              <a:off x="514080" y="4486320"/>
              <a:ext cx="747360" cy="718920"/>
            </a:xfrm>
            <a:prstGeom prst="rect">
              <a:avLst/>
            </a:prstGeom>
            <a:ln w="0">
              <a:noFill/>
            </a:ln>
          </p:spPr>
        </p:pic>
        <p:pic>
          <p:nvPicPr>
            <p:cNvPr id="472" name="Picture 18" descr=""/>
            <p:cNvPicPr/>
            <p:nvPr/>
          </p:nvPicPr>
          <p:blipFill>
            <a:blip r:embed="rId5"/>
            <a:stretch/>
          </p:blipFill>
          <p:spPr>
            <a:xfrm>
              <a:off x="3170160" y="5251320"/>
              <a:ext cx="693720" cy="679320"/>
            </a:xfrm>
            <a:prstGeom prst="rect">
              <a:avLst/>
            </a:prstGeom>
            <a:ln w="0">
              <a:noFill/>
            </a:ln>
          </p:spPr>
        </p:pic>
        <p:pic>
          <p:nvPicPr>
            <p:cNvPr id="473" name="Picture 20" descr=""/>
            <p:cNvPicPr/>
            <p:nvPr/>
          </p:nvPicPr>
          <p:blipFill>
            <a:blip r:embed="rId6"/>
            <a:stretch/>
          </p:blipFill>
          <p:spPr>
            <a:xfrm>
              <a:off x="2131920" y="2052360"/>
              <a:ext cx="914040" cy="923760"/>
            </a:xfrm>
            <a:prstGeom prst="rect">
              <a:avLst/>
            </a:prstGeom>
            <a:ln w="0">
              <a:noFill/>
            </a:ln>
          </p:spPr>
        </p:pic>
        <p:pic>
          <p:nvPicPr>
            <p:cNvPr id="474" name="Picture 21" descr=""/>
            <p:cNvPicPr/>
            <p:nvPr/>
          </p:nvPicPr>
          <p:blipFill>
            <a:blip r:embed="rId7"/>
            <a:stretch/>
          </p:blipFill>
          <p:spPr>
            <a:xfrm>
              <a:off x="3916080" y="1233360"/>
              <a:ext cx="1056960" cy="933480"/>
            </a:xfrm>
            <a:prstGeom prst="rect">
              <a:avLst/>
            </a:prstGeom>
            <a:ln w="0">
              <a:noFill/>
            </a:ln>
          </p:spPr>
        </p:pic>
        <p:cxnSp>
          <p:nvCxnSpPr>
            <p:cNvPr id="475" name="Straight Arrow Connector 22"/>
            <p:cNvCxnSpPr/>
            <p:nvPr/>
          </p:nvCxnSpPr>
          <p:spPr>
            <a:xfrm flipH="1">
              <a:off x="4972680" y="2776320"/>
              <a:ext cx="1049400" cy="357840"/>
            </a:xfrm>
            <a:prstGeom prst="straightConnector1">
              <a:avLst/>
            </a:prstGeom>
            <a:ln w="9360">
              <a:solidFill>
                <a:srgbClr val="000000"/>
              </a:solidFill>
              <a:miter/>
              <a:tailEnd len="med" type="arrow" w="med"/>
            </a:ln>
          </p:spPr>
        </p:cxnSp>
        <p:cxnSp>
          <p:nvCxnSpPr>
            <p:cNvPr id="476" name="Straight Arrow Connector 23"/>
            <p:cNvCxnSpPr/>
            <p:nvPr/>
          </p:nvCxnSpPr>
          <p:spPr>
            <a:xfrm flipV="1">
              <a:off x="2013840" y="5393880"/>
              <a:ext cx="6840" cy="311760"/>
            </a:xfrm>
            <a:prstGeom prst="straightConnector1">
              <a:avLst/>
            </a:prstGeom>
            <a:ln w="9360">
              <a:solidFill>
                <a:srgbClr val="000000"/>
              </a:solidFill>
              <a:miter/>
              <a:tailEnd len="med" type="arrow" w="med"/>
            </a:ln>
          </p:spPr>
        </p:cxnSp>
        <p:cxnSp>
          <p:nvCxnSpPr>
            <p:cNvPr id="477" name="Straight Arrow Connector 24"/>
            <p:cNvCxnSpPr/>
            <p:nvPr/>
          </p:nvCxnSpPr>
          <p:spPr>
            <a:xfrm flipH="1" flipV="1">
              <a:off x="2327760" y="5369760"/>
              <a:ext cx="432360" cy="423000"/>
            </a:xfrm>
            <a:prstGeom prst="straightConnector1">
              <a:avLst/>
            </a:prstGeom>
            <a:ln w="9360">
              <a:solidFill>
                <a:srgbClr val="000000"/>
              </a:solidFill>
              <a:miter/>
              <a:tailEnd len="med" type="arrow" w="med"/>
            </a:ln>
          </p:spPr>
        </p:cxnSp>
        <p:cxnSp>
          <p:nvCxnSpPr>
            <p:cNvPr id="478" name="Straight Arrow Connector 25"/>
            <p:cNvCxnSpPr/>
            <p:nvPr/>
          </p:nvCxnSpPr>
          <p:spPr>
            <a:xfrm flipV="1">
              <a:off x="1385640" y="5384160"/>
              <a:ext cx="429120" cy="415080"/>
            </a:xfrm>
            <a:prstGeom prst="straightConnector1">
              <a:avLst/>
            </a:prstGeom>
            <a:ln w="9360">
              <a:solidFill>
                <a:srgbClr val="000000"/>
              </a:solidFill>
              <a:miter/>
              <a:tailEnd len="med" type="arrow" w="med"/>
            </a:ln>
          </p:spPr>
        </p:cxnSp>
        <p:cxnSp>
          <p:nvCxnSpPr>
            <p:cNvPr id="479" name="Straight Arrow Connector 27"/>
            <p:cNvCxnSpPr/>
            <p:nvPr/>
          </p:nvCxnSpPr>
          <p:spPr>
            <a:xfrm flipV="1">
              <a:off x="4209840" y="2166120"/>
              <a:ext cx="111600" cy="548280"/>
            </a:xfrm>
            <a:prstGeom prst="straightConnector1">
              <a:avLst/>
            </a:prstGeom>
            <a:ln w="9360">
              <a:solidFill>
                <a:srgbClr val="000000"/>
              </a:solidFill>
              <a:miter/>
              <a:headEnd len="med" type="arrow" w="med"/>
              <a:tailEnd len="med" type="arrow" w="med"/>
            </a:ln>
          </p:spPr>
        </p:cxnSp>
        <p:cxnSp>
          <p:nvCxnSpPr>
            <p:cNvPr id="480" name="Straight Arrow Connector 28"/>
            <p:cNvCxnSpPr>
              <a:endCxn id="470" idx="1"/>
            </p:cNvCxnSpPr>
            <p:nvPr/>
          </p:nvCxnSpPr>
          <p:spPr>
            <a:xfrm>
              <a:off x="4839480" y="1882440"/>
              <a:ext cx="420120" cy="242640"/>
            </a:xfrm>
            <a:prstGeom prst="straightConnector1">
              <a:avLst/>
            </a:prstGeom>
            <a:ln w="9360">
              <a:solidFill>
                <a:srgbClr val="000000"/>
              </a:solidFill>
              <a:prstDash val="dash"/>
              <a:miter/>
              <a:headEnd len="med" type="arrow" w="med"/>
              <a:tailEnd len="med" type="arrow" w="med"/>
            </a:ln>
          </p:spPr>
        </p:cxnSp>
        <p:sp>
          <p:nvSpPr>
            <p:cNvPr id="481" name="TextBox 29"/>
            <p:cNvSpPr/>
            <p:nvPr/>
          </p:nvSpPr>
          <p:spPr>
            <a:xfrm>
              <a:off x="3071880" y="5931000"/>
              <a:ext cx="188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Avoin alkuperäisdata</a:t>
              </a:r>
              <a:endParaRPr b="0" lang="en-US" sz="2000" spc="-1" strike="noStrike">
                <a:solidFill>
                  <a:srgbClr val="000000"/>
                </a:solidFill>
                <a:latin typeface="Arial"/>
              </a:endParaRPr>
            </a:p>
          </p:txBody>
        </p:sp>
        <p:sp>
          <p:nvSpPr>
            <p:cNvPr id="482" name="TextBox 30"/>
            <p:cNvSpPr/>
            <p:nvPr/>
          </p:nvSpPr>
          <p:spPr>
            <a:xfrm>
              <a:off x="2557080" y="442908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Tieteen tilannekatsaus</a:t>
              </a:r>
              <a:endParaRPr b="0" lang="en-US" sz="2000" spc="-1" strike="noStrike">
                <a:solidFill>
                  <a:srgbClr val="000000"/>
                </a:solidFill>
                <a:latin typeface="Arial"/>
              </a:endParaRPr>
            </a:p>
          </p:txBody>
        </p:sp>
        <p:pic>
          <p:nvPicPr>
            <p:cNvPr id="483" name="Picture 2" descr=""/>
            <p:cNvPicPr/>
            <p:nvPr/>
          </p:nvPicPr>
          <p:blipFill>
            <a:blip r:embed="rId8"/>
            <a:stretch/>
          </p:blipFill>
          <p:spPr>
            <a:xfrm>
              <a:off x="1463400" y="4390920"/>
              <a:ext cx="1125360" cy="966600"/>
            </a:xfrm>
            <a:prstGeom prst="rect">
              <a:avLst/>
            </a:prstGeom>
            <a:ln w="0">
              <a:noFill/>
            </a:ln>
          </p:spPr>
        </p:pic>
        <p:sp>
          <p:nvSpPr>
            <p:cNvPr id="484" name="Can 36"/>
            <p:cNvSpPr/>
            <p:nvPr/>
          </p:nvSpPr>
          <p:spPr>
            <a:xfrm>
              <a:off x="1157040" y="6033960"/>
              <a:ext cx="368280" cy="455400"/>
            </a:xfrm>
            <a:prstGeom prst="can">
              <a:avLst>
                <a:gd name="adj" fmla="val 2020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Can 37"/>
            <p:cNvSpPr/>
            <p:nvPr/>
          </p:nvSpPr>
          <p:spPr>
            <a:xfrm>
              <a:off x="2584080" y="6037200"/>
              <a:ext cx="368280" cy="457200"/>
            </a:xfrm>
            <a:prstGeom prst="can">
              <a:avLst>
                <a:gd name="adj" fmla="val 2013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Can 38"/>
            <p:cNvSpPr/>
            <p:nvPr/>
          </p:nvSpPr>
          <p:spPr>
            <a:xfrm>
              <a:off x="1869840" y="6033960"/>
              <a:ext cx="368280" cy="455400"/>
            </a:xfrm>
            <a:prstGeom prst="can">
              <a:avLst>
                <a:gd name="adj" fmla="val 2020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39"/>
            <p:cNvSpPr/>
            <p:nvPr/>
          </p:nvSpPr>
          <p:spPr>
            <a:xfrm>
              <a:off x="1792080" y="4630680"/>
              <a:ext cx="434880" cy="214200"/>
            </a:xfrm>
            <a:custGeom>
              <a:avLst/>
              <a:gdLst/>
              <a:ahLst/>
              <a:rect l="l" t="t" r="r" b="b"/>
              <a:pathLst>
                <a:path w="434743" h="214830">
                  <a:moveTo>
                    <a:pt x="0" y="212304"/>
                  </a:moveTo>
                  <a:cubicBezTo>
                    <a:pt x="6803" y="107529"/>
                    <a:pt x="13607" y="2754"/>
                    <a:pt x="81643" y="33"/>
                  </a:cubicBezTo>
                  <a:cubicBezTo>
                    <a:pt x="149679" y="-2688"/>
                    <a:pt x="356507" y="163319"/>
                    <a:pt x="408214" y="195976"/>
                  </a:cubicBezTo>
                  <a:cubicBezTo>
                    <a:pt x="459921" y="228633"/>
                    <a:pt x="425903" y="212304"/>
                    <a:pt x="391886" y="195976"/>
                  </a:cubicBezTo>
                </a:path>
              </a:pathLst>
            </a:custGeom>
            <a:noFill/>
            <a:ln w="25560">
              <a:solidFill>
                <a:srgbClr val="598d2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88" name="Straight Arrow Connector 40"/>
            <p:cNvCxnSpPr/>
            <p:nvPr/>
          </p:nvCxnSpPr>
          <p:spPr>
            <a:xfrm flipV="1">
              <a:off x="1261800" y="4720320"/>
              <a:ext cx="373680" cy="124200"/>
            </a:xfrm>
            <a:prstGeom prst="straightConnector1">
              <a:avLst/>
            </a:prstGeom>
            <a:ln w="9360">
              <a:solidFill>
                <a:srgbClr val="000000"/>
              </a:solidFill>
              <a:miter/>
              <a:headEnd len="med" type="arrow" w="med"/>
              <a:tailEnd len="med" type="arrow" w="med"/>
            </a:ln>
          </p:spPr>
        </p:cxnSp>
        <p:cxnSp>
          <p:nvCxnSpPr>
            <p:cNvPr id="489" name="Straight Arrow Connector 41"/>
            <p:cNvCxnSpPr/>
            <p:nvPr/>
          </p:nvCxnSpPr>
          <p:spPr>
            <a:xfrm>
              <a:off x="2583720" y="5101920"/>
              <a:ext cx="586440" cy="292680"/>
            </a:xfrm>
            <a:prstGeom prst="straightConnector1">
              <a:avLst/>
            </a:prstGeom>
            <a:ln w="9360">
              <a:solidFill>
                <a:srgbClr val="000000"/>
              </a:solidFill>
              <a:miter/>
              <a:headEnd len="med" type="arrow" w="med"/>
              <a:tailEnd len="med" type="arrow" w="med"/>
            </a:ln>
          </p:spPr>
        </p:cxnSp>
        <p:pic>
          <p:nvPicPr>
            <p:cNvPr id="490" name="Picture 2" descr=""/>
            <p:cNvPicPr/>
            <p:nvPr/>
          </p:nvPicPr>
          <p:blipFill>
            <a:blip r:embed="rId9"/>
            <a:stretch/>
          </p:blipFill>
          <p:spPr>
            <a:xfrm>
              <a:off x="3320640" y="2814480"/>
              <a:ext cx="1519200" cy="1401840"/>
            </a:xfrm>
            <a:prstGeom prst="rect">
              <a:avLst/>
            </a:prstGeom>
            <a:ln w="0">
              <a:noFill/>
            </a:ln>
          </p:spPr>
        </p:pic>
        <p:grpSp>
          <p:nvGrpSpPr>
            <p:cNvPr id="491" name="Group 53"/>
            <p:cNvGrpSpPr/>
            <p:nvPr/>
          </p:nvGrpSpPr>
          <p:grpSpPr>
            <a:xfrm>
              <a:off x="3835080" y="3287520"/>
              <a:ext cx="647640" cy="250560"/>
              <a:chOff x="3835080" y="3287520"/>
              <a:chExt cx="647640" cy="250560"/>
            </a:xfrm>
          </p:grpSpPr>
          <p:sp>
            <p:nvSpPr>
              <p:cNvPr id="492" name="Rectangle 49"/>
              <p:cNvSpPr/>
              <p:nvPr/>
            </p:nvSpPr>
            <p:spPr>
              <a:xfrm>
                <a:off x="3911040" y="3287520"/>
                <a:ext cx="160200" cy="250560"/>
              </a:xfrm>
              <a:prstGeom prst="rect">
                <a:avLst/>
              </a:prstGeom>
              <a:solidFill>
                <a:srgbClr val="7bc143"/>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50"/>
              <p:cNvSpPr/>
              <p:nvPr/>
            </p:nvSpPr>
            <p:spPr>
              <a:xfrm>
                <a:off x="4184280" y="3382560"/>
                <a:ext cx="189000" cy="155520"/>
              </a:xfrm>
              <a:prstGeom prst="rect">
                <a:avLst/>
              </a:prstGeom>
              <a:solidFill>
                <a:srgbClr val="6bc9c7"/>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Straight Connector 52"/>
              <p:cNvSpPr/>
              <p:nvPr/>
            </p:nvSpPr>
            <p:spPr>
              <a:xfrm>
                <a:off x="3835080" y="3538080"/>
                <a:ext cx="647640" cy="0"/>
              </a:xfrm>
              <a:prstGeom prst="line">
                <a:avLst/>
              </a:prstGeom>
              <a:ln w="2844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Straight Connector 57"/>
            <p:cNvSpPr/>
            <p:nvPr/>
          </p:nvSpPr>
          <p:spPr>
            <a:xfrm>
              <a:off x="3877920" y="310032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Straight Connector 58"/>
            <p:cNvSpPr/>
            <p:nvPr/>
          </p:nvSpPr>
          <p:spPr>
            <a:xfrm>
              <a:off x="3900240" y="313812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Straight Connector 59"/>
            <p:cNvSpPr/>
            <p:nvPr/>
          </p:nvSpPr>
          <p:spPr>
            <a:xfrm>
              <a:off x="3889080" y="320976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98" name="Straight Arrow Connector 61"/>
            <p:cNvCxnSpPr/>
            <p:nvPr/>
          </p:nvCxnSpPr>
          <p:spPr>
            <a:xfrm flipV="1">
              <a:off x="2414520" y="3807360"/>
              <a:ext cx="1008720" cy="541800"/>
            </a:xfrm>
            <a:prstGeom prst="straightConnector1">
              <a:avLst/>
            </a:prstGeom>
            <a:ln w="9360">
              <a:solidFill>
                <a:srgbClr val="000000"/>
              </a:solidFill>
              <a:miter/>
              <a:headEnd len="med" type="arrow" w="med"/>
              <a:tailEnd len="med" type="arrow" w="med"/>
            </a:ln>
          </p:spPr>
        </p:cxnSp>
        <p:cxnSp>
          <p:nvCxnSpPr>
            <p:cNvPr id="499" name="Straight Arrow Connector 63"/>
            <p:cNvCxnSpPr/>
            <p:nvPr/>
          </p:nvCxnSpPr>
          <p:spPr>
            <a:xfrm>
              <a:off x="3045960" y="2579400"/>
              <a:ext cx="456120" cy="397440"/>
            </a:xfrm>
            <a:prstGeom prst="straightConnector1">
              <a:avLst/>
            </a:prstGeom>
            <a:ln w="9360">
              <a:solidFill>
                <a:srgbClr val="000000"/>
              </a:solidFill>
              <a:miter/>
              <a:headEnd len="med" type="arrow" w="med"/>
              <a:tailEnd len="med" type="arrow" w="med"/>
            </a:ln>
          </p:spPr>
        </p:cxnSp>
        <p:cxnSp>
          <p:nvCxnSpPr>
            <p:cNvPr id="500" name="Straight Arrow Connector 34"/>
            <p:cNvCxnSpPr/>
            <p:nvPr/>
          </p:nvCxnSpPr>
          <p:spPr>
            <a:xfrm flipH="1" flipV="1">
              <a:off x="4728600" y="3807360"/>
              <a:ext cx="875520" cy="1037160"/>
            </a:xfrm>
            <a:prstGeom prst="straightConnector1">
              <a:avLst/>
            </a:prstGeom>
            <a:ln w="9360">
              <a:solidFill>
                <a:srgbClr val="000000"/>
              </a:solidFill>
              <a:miter/>
              <a:tailEnd len="med" type="arrow" w="med"/>
            </a:ln>
          </p:spPr>
        </p:cxnSp>
        <p:cxnSp>
          <p:nvCxnSpPr>
            <p:cNvPr id="501" name="Straight Arrow Connector 71"/>
            <p:cNvCxnSpPr/>
            <p:nvPr/>
          </p:nvCxnSpPr>
          <p:spPr>
            <a:xfrm flipV="1">
              <a:off x="4728960" y="2513880"/>
              <a:ext cx="645840" cy="524160"/>
            </a:xfrm>
            <a:prstGeom prst="straightConnector1">
              <a:avLst/>
            </a:prstGeom>
            <a:ln w="9360">
              <a:solidFill>
                <a:srgbClr val="000000"/>
              </a:solidFill>
              <a:miter/>
              <a:headEnd len="med" type="arrow" w="med"/>
              <a:tailEnd len="med" type="arrow" w="med"/>
            </a:ln>
          </p:spPr>
        </p:cxnSp>
        <p:cxnSp>
          <p:nvCxnSpPr>
            <p:cNvPr id="502" name="Straight Arrow Connector 73"/>
            <p:cNvCxnSpPr/>
            <p:nvPr/>
          </p:nvCxnSpPr>
          <p:spPr>
            <a:xfrm flipV="1">
              <a:off x="2988720" y="1881720"/>
              <a:ext cx="875160" cy="309960"/>
            </a:xfrm>
            <a:prstGeom prst="straightConnector1">
              <a:avLst/>
            </a:prstGeom>
            <a:ln w="9360">
              <a:solidFill>
                <a:srgbClr val="000000"/>
              </a:solidFill>
              <a:prstDash val="dash"/>
              <a:miter/>
              <a:headEnd len="med" type="arrow" w="med"/>
              <a:tailEnd len="med" type="arrow" w="med"/>
            </a:ln>
          </p:spPr>
        </p:cxnSp>
        <p:pic>
          <p:nvPicPr>
            <p:cNvPr id="503" name="Picture 7" descr=""/>
            <p:cNvPicPr/>
            <p:nvPr/>
          </p:nvPicPr>
          <p:blipFill>
            <a:blip r:embed="rId10"/>
            <a:stretch/>
          </p:blipFill>
          <p:spPr>
            <a:xfrm>
              <a:off x="1710720" y="2805120"/>
              <a:ext cx="620640" cy="612720"/>
            </a:xfrm>
            <a:prstGeom prst="rect">
              <a:avLst/>
            </a:prstGeom>
            <a:ln w="0">
              <a:noFill/>
            </a:ln>
          </p:spPr>
        </p:pic>
        <p:sp>
          <p:nvSpPr>
            <p:cNvPr id="504" name="TextBox 32"/>
            <p:cNvSpPr/>
            <p:nvPr/>
          </p:nvSpPr>
          <p:spPr>
            <a:xfrm>
              <a:off x="0" y="2739240"/>
              <a:ext cx="18601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Muu tieteelli-nen kirjallisuus</a:t>
              </a:r>
              <a:endParaRPr b="0" lang="en-US" sz="2000" spc="-1" strike="noStrike">
                <a:solidFill>
                  <a:srgbClr val="000000"/>
                </a:solidFill>
                <a:latin typeface="Arial"/>
              </a:endParaRPr>
            </a:p>
          </p:txBody>
        </p:sp>
        <p:cxnSp>
          <p:nvCxnSpPr>
            <p:cNvPr id="505" name="Straight Arrow Connector 26"/>
            <p:cNvCxnSpPr/>
            <p:nvPr/>
          </p:nvCxnSpPr>
          <p:spPr>
            <a:xfrm>
              <a:off x="2428200" y="3057480"/>
              <a:ext cx="998640" cy="152640"/>
            </a:xfrm>
            <a:prstGeom prst="straightConnector1">
              <a:avLst/>
            </a:prstGeom>
            <a:ln w="9360">
              <a:solidFill>
                <a:srgbClr val="000000"/>
              </a:solidFill>
              <a:miter/>
              <a:tailEnd len="med" type="arrow" w="med"/>
            </a:ln>
          </p:spPr>
        </p:cxnSp>
        <p:pic>
          <p:nvPicPr>
            <p:cNvPr id="506" name="Picture 11" descr=""/>
            <p:cNvPicPr/>
            <p:nvPr/>
          </p:nvPicPr>
          <p:blipFill>
            <a:blip r:embed="rId11"/>
            <a:stretch/>
          </p:blipFill>
          <p:spPr>
            <a:xfrm>
              <a:off x="6166080" y="2329560"/>
              <a:ext cx="971280" cy="769680"/>
            </a:xfrm>
            <a:prstGeom prst="rect">
              <a:avLst/>
            </a:prstGeom>
            <a:ln w="0">
              <a:noFill/>
            </a:ln>
          </p:spPr>
        </p:pic>
        <p:cxnSp>
          <p:nvCxnSpPr>
            <p:cNvPr id="507" name="Straight Arrow Connector 20"/>
            <p:cNvCxnSpPr/>
            <p:nvPr/>
          </p:nvCxnSpPr>
          <p:spPr>
            <a:xfrm flipH="1" flipV="1">
              <a:off x="4660560" y="3524760"/>
              <a:ext cx="1150920" cy="691920"/>
            </a:xfrm>
            <a:prstGeom prst="straightConnector1">
              <a:avLst/>
            </a:prstGeom>
            <a:ln w="9360">
              <a:solidFill>
                <a:srgbClr val="000000"/>
              </a:solidFill>
              <a:miter/>
              <a:headEnd len="med" type="arrow" w="med"/>
              <a:tailEnd len="med" type="arrow" w="med"/>
            </a:ln>
          </p:spPr>
        </p:cxnSp>
        <p:sp>
          <p:nvSpPr>
            <p:cNvPr id="508" name="TextBox 32"/>
            <p:cNvSpPr/>
            <p:nvPr/>
          </p:nvSpPr>
          <p:spPr>
            <a:xfrm>
              <a:off x="3659760" y="4042800"/>
              <a:ext cx="1211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Avoin arviointi</a:t>
              </a:r>
              <a:endParaRPr b="0" lang="en-US" sz="2000" spc="-1" strike="noStrike">
                <a:solidFill>
                  <a:srgbClr val="000000"/>
                </a:solidFill>
                <a:latin typeface="Arial"/>
              </a:endParaRPr>
            </a:p>
          </p:txBody>
        </p:sp>
        <p:sp>
          <p:nvSpPr>
            <p:cNvPr id="509" name="TextBox 51"/>
            <p:cNvSpPr/>
            <p:nvPr/>
          </p:nvSpPr>
          <p:spPr>
            <a:xfrm>
              <a:off x="6156000" y="4927680"/>
              <a:ext cx="1888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irkamies-raportti</a:t>
              </a:r>
              <a:endParaRPr b="0" lang="en-US" sz="2000" spc="-1" strike="noStrike">
                <a:solidFill>
                  <a:srgbClr val="000000"/>
                </a:solidFill>
                <a:latin typeface="Arial"/>
              </a:endParaRPr>
            </a:p>
          </p:txBody>
        </p:sp>
        <p:sp>
          <p:nvSpPr>
            <p:cNvPr id="510" name="TextBox 52"/>
            <p:cNvSpPr/>
            <p:nvPr/>
          </p:nvSpPr>
          <p:spPr>
            <a:xfrm>
              <a:off x="7065720" y="2206440"/>
              <a:ext cx="1751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Lobbaus ja kokemus-peräinen tieto</a:t>
              </a:r>
              <a:endParaRPr b="0" lang="en-US" sz="2000" spc="-1" strike="noStrike">
                <a:solidFill>
                  <a:srgbClr val="000000"/>
                </a:solidFill>
                <a:latin typeface="Arial"/>
              </a:endParaRPr>
            </a:p>
          </p:txBody>
        </p:sp>
        <p:sp>
          <p:nvSpPr>
            <p:cNvPr id="511" name="TextBox 7169"/>
            <p:cNvSpPr/>
            <p:nvPr/>
          </p:nvSpPr>
          <p:spPr>
            <a:xfrm>
              <a:off x="6948000" y="4245840"/>
              <a:ext cx="151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Virkamies, valmistelija</a:t>
              </a:r>
              <a:endParaRPr b="0" lang="en-US" sz="2000" spc="-1" strike="noStrike">
                <a:solidFill>
                  <a:srgbClr val="000000"/>
                </a:solidFill>
                <a:latin typeface="Arial"/>
              </a:endParaRPr>
            </a:p>
          </p:txBody>
        </p:sp>
        <p:sp>
          <p:nvSpPr>
            <p:cNvPr id="512" name="TextBox 72"/>
            <p:cNvSpPr/>
            <p:nvPr/>
          </p:nvSpPr>
          <p:spPr>
            <a:xfrm>
              <a:off x="6453720" y="1724400"/>
              <a:ext cx="186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Sidosryhmät</a:t>
              </a:r>
              <a:endParaRPr b="0" lang="en-US" sz="2000" spc="-1" strike="noStrike">
                <a:solidFill>
                  <a:srgbClr val="000000"/>
                </a:solidFill>
                <a:latin typeface="Arial"/>
              </a:endParaRPr>
            </a:p>
          </p:txBody>
        </p:sp>
        <p:sp>
          <p:nvSpPr>
            <p:cNvPr id="513" name="TextBox 74"/>
            <p:cNvSpPr/>
            <p:nvPr/>
          </p:nvSpPr>
          <p:spPr>
            <a:xfrm>
              <a:off x="3900240" y="5406480"/>
              <a:ext cx="136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Tutkijoita</a:t>
              </a:r>
              <a:endParaRPr b="0" lang="en-US" sz="2000" spc="-1" strike="noStrike">
                <a:solidFill>
                  <a:srgbClr val="000000"/>
                </a:solidFill>
                <a:latin typeface="Arial"/>
              </a:endParaRPr>
            </a:p>
          </p:txBody>
        </p:sp>
        <p:sp>
          <p:nvSpPr>
            <p:cNvPr id="514" name="TextBox 75"/>
            <p:cNvSpPr/>
            <p:nvPr/>
          </p:nvSpPr>
          <p:spPr>
            <a:xfrm>
              <a:off x="514080" y="2240640"/>
              <a:ext cx="1555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Asiantuntija</a:t>
              </a:r>
              <a:endParaRPr b="0" lang="en-US" sz="2000" spc="-1" strike="noStrike">
                <a:solidFill>
                  <a:srgbClr val="000000"/>
                </a:solidFill>
                <a:latin typeface="Arial"/>
              </a:endParaRPr>
            </a:p>
          </p:txBody>
        </p:sp>
        <p:sp>
          <p:nvSpPr>
            <p:cNvPr id="515" name="TextBox 76"/>
            <p:cNvSpPr/>
            <p:nvPr/>
          </p:nvSpPr>
          <p:spPr>
            <a:xfrm>
              <a:off x="2760480" y="1315080"/>
              <a:ext cx="118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Päättäjä</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bc143"/>
              </a:solidFill>
              <a:latin typeface="Arial"/>
            </a:endParaRPr>
          </a:p>
        </p:txBody>
      </p:sp>
      <p:pic>
        <p:nvPicPr>
          <p:cNvPr id="517" name="" descr=""/>
          <p:cNvPicPr/>
          <p:nvPr/>
        </p:nvPicPr>
        <p:blipFill>
          <a:blip r:embed="rId1"/>
          <a:stretch/>
        </p:blipFill>
        <p:spPr>
          <a:xfrm>
            <a:off x="456840" y="1484280"/>
            <a:ext cx="8218440" cy="4392720"/>
          </a:xfrm>
          <a:prstGeom prst="rect">
            <a:avLst/>
          </a:prstGeom>
          <a:ln w="0">
            <a:noFill/>
          </a:ln>
        </p:spPr>
      </p:pic>
      <p:sp>
        <p:nvSpPr>
          <p:cNvPr id="518"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C664-0C32-48F8-A482-821371367E57}"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519"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520"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7B22-BE73-417E-845E-F2D49C37A156}"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
        <p:nvSpPr>
          <p:cNvPr id="521" name="Rectangle 6"/>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Avoin data laajasti edustettuna</a:t>
            </a:r>
            <a:endParaRPr b="1" lang="en-US" sz="2800" spc="-1" strike="noStrike">
              <a:solidFill>
                <a:srgbClr val="7bc143"/>
              </a:solidFill>
              <a:latin typeface="Arial"/>
            </a:endParaRPr>
          </a:p>
        </p:txBody>
      </p:sp>
      <p:pic>
        <p:nvPicPr>
          <p:cNvPr id="203" name="Content Placeholder 6" descr=""/>
          <p:cNvPicPr/>
          <p:nvPr/>
        </p:nvPicPr>
        <p:blipFill>
          <a:blip r:embed="rId1"/>
          <a:stretch/>
        </p:blipFill>
        <p:spPr>
          <a:xfrm>
            <a:off x="1271520" y="1484280"/>
            <a:ext cx="6589800" cy="4392720"/>
          </a:xfrm>
          <a:prstGeom prst="rect">
            <a:avLst/>
          </a:prstGeom>
          <a:ln w="0">
            <a:noFill/>
          </a:ln>
        </p:spPr>
      </p:pic>
      <p:sp>
        <p:nvSpPr>
          <p:cNvPr id="204"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4FA13-9D43-464C-8346-B490627135D3}"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205"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206"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CEED-7304-4826-A80E-193E29B0BDAA}"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
        <p:nvSpPr>
          <p:cNvPr id="207" name="TextBox 7"/>
          <p:cNvSpPr/>
          <p:nvPr/>
        </p:nvSpPr>
        <p:spPr>
          <a:xfrm>
            <a:off x="1476360" y="5445000"/>
            <a:ext cx="684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ea typeface="Arial"/>
              </a:rPr>
              <a:t>Tuomas Sauliala / Valtioneuvoston kanslia CC-BY-NC-ND</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Miten tämä on mahdollista </a:t>
            </a:r>
            <a:endParaRPr b="1" lang="en-US" sz="2800" spc="-1" strike="noStrike">
              <a:solidFill>
                <a:srgbClr val="7bc143"/>
              </a:solidFill>
              <a:latin typeface="Arial"/>
            </a:endParaRPr>
          </a:p>
        </p:txBody>
      </p:sp>
      <p:sp>
        <p:nvSpPr>
          <p:cNvPr id="523" name=""/>
          <p:cNvSpPr txBox="1"/>
          <p:nvPr/>
        </p:nvSpPr>
        <p:spPr>
          <a:xfrm>
            <a:off x="456840" y="1484280"/>
            <a:ext cx="8218440" cy="4392720"/>
          </a:xfrm>
          <a:prstGeom prst="rect">
            <a:avLst/>
          </a:prstGeom>
          <a:noFill/>
          <a:ln w="0">
            <a:noFill/>
          </a:ln>
        </p:spPr>
        <p:txBody>
          <a:bodyPr anchor="t">
            <a:normAutofit/>
          </a:bodyPr>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ieto on yksinkertaista ja rakenteeltaan selkeää: Kuka on esiintynyt elokuvassa x? Missä elokuvissa y on esiintynyt?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Imdb ja Wikipedia sisältävät hyvin kattavasti tämäntyyppisen tiedon.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Suuri joukko vapaaehtoisia päivittää ja jäsentää tietoa, joka on heille merkityksellistä.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äätöksenteossa tämä toimintamalli on vasta lapsenkengissä. Miksi? </a:t>
            </a:r>
            <a:endParaRPr b="0" lang="en-US" sz="2200" spc="-1" strike="noStrike">
              <a:solidFill>
                <a:srgbClr val="000000"/>
              </a:solidFill>
              <a:latin typeface="Arial"/>
            </a:endParaRPr>
          </a:p>
        </p:txBody>
      </p:sp>
      <p:sp>
        <p:nvSpPr>
          <p:cNvPr id="524" name="Date Placeholder 1"/>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4C83-3944-4BA7-B46F-42B73B9EF136}"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525" name="Footer Placeholder 2"/>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526" name="Slide Number Placeholder 3"/>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BFAC-BD33-40EB-A4A4-84E969A430EF}"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ieto-ongelmia päätöksenteossa</a:t>
            </a:r>
            <a:endParaRPr b="1" lang="en-US" sz="2800" spc="-1" strike="noStrike">
              <a:solidFill>
                <a:srgbClr val="7bc143"/>
              </a:solidFill>
              <a:latin typeface="Arial"/>
            </a:endParaRPr>
          </a:p>
        </p:txBody>
      </p:sp>
      <p:sp>
        <p:nvSpPr>
          <p:cNvPr id="528" name=""/>
          <p:cNvSpPr txBox="1"/>
          <p:nvPr/>
        </p:nvSpPr>
        <p:spPr>
          <a:xfrm>
            <a:off x="456840" y="1484280"/>
            <a:ext cx="8218440" cy="4392720"/>
          </a:xfrm>
          <a:prstGeom prst="rect">
            <a:avLst/>
          </a:prstGeom>
          <a:noFill/>
          <a:ln w="0">
            <a:noFill/>
          </a:ln>
        </p:spPr>
        <p:txBody>
          <a:bodyPr anchor="t">
            <a:normAutofit/>
          </a:bodyPr>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i ajatella että tutkimuksen ja päätösvalmistelun tieto kuuluu kaikille.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ietorakenteet ovat paljon monimutkaisempia ja ihmisille oudompia kuin Imdbssä. Ei edes ajatella että sitä voisi vakioida.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uitenkin vakiokysymyksiä voi käyttää:</a:t>
            </a:r>
            <a:endParaRPr b="0" lang="en-US" sz="2200" spc="-1" strike="noStrike">
              <a:solidFill>
                <a:srgbClr val="000000"/>
              </a:solidFill>
              <a:latin typeface="Arial"/>
            </a:endParaRPr>
          </a:p>
          <a:p>
            <a:pPr lvl="1" marL="776160" indent="-4143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kä toimenpiteet on ehdotettu tehtäväksi? </a:t>
            </a:r>
            <a:endParaRPr b="0" lang="en-US" sz="2000" spc="-1" strike="noStrike">
              <a:solidFill>
                <a:srgbClr val="000000"/>
              </a:solidFill>
              <a:latin typeface="Arial"/>
            </a:endParaRPr>
          </a:p>
          <a:p>
            <a:pPr lvl="1" marL="776160" indent="-4143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hin asioihin ne vaikuttaisivat? </a:t>
            </a:r>
            <a:endParaRPr b="0" lang="en-US" sz="2000" spc="-1" strike="noStrike">
              <a:solidFill>
                <a:srgbClr val="000000"/>
              </a:solidFill>
              <a:latin typeface="Arial"/>
            </a:endParaRPr>
          </a:p>
          <a:p>
            <a:pPr lvl="1" marL="776160" indent="-4143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en tärkeinä pidämme niitä asioita, jotka toimenpiteen takia muuttuisivat? </a:t>
            </a:r>
            <a:endParaRPr b="0" lang="en-US" sz="20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Vaaditaan halu ymmärtää kaikkia eikä voittaa väittelyä.</a:t>
            </a:r>
            <a:endParaRPr b="0" lang="en-US" sz="2200" spc="-1" strike="noStrike">
              <a:solidFill>
                <a:srgbClr val="000000"/>
              </a:solidFill>
              <a:latin typeface="Arial"/>
            </a:endParaRPr>
          </a:p>
        </p:txBody>
      </p:sp>
      <p:sp>
        <p:nvSpPr>
          <p:cNvPr id="529" name="Date Placeholder 1"/>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611C9-B113-421A-A7EF-1B0A56691024}"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530" name="Footer Placeholder 3"/>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531" name="Slide Number Placeholder 4"/>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78F3-1C78-4270-96C4-9B9377394EC7}"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Milloin kannattaa vakioida?</a:t>
            </a:r>
            <a:endParaRPr b="1" lang="en-US" sz="2800" spc="-1" strike="noStrike">
              <a:solidFill>
                <a:srgbClr val="7bc143"/>
              </a:solidFill>
              <a:latin typeface="Arial"/>
            </a:endParaRPr>
          </a:p>
        </p:txBody>
      </p:sp>
      <p:sp>
        <p:nvSpPr>
          <p:cNvPr id="533" name=""/>
          <p:cNvSpPr txBox="1"/>
          <p:nvPr/>
        </p:nvSpPr>
        <p:spPr>
          <a:xfrm>
            <a:off x="456840" y="1484280"/>
            <a:ext cx="8218440" cy="4392720"/>
          </a:xfrm>
          <a:prstGeom prst="rect">
            <a:avLst/>
          </a:prstGeom>
          <a:noFill/>
          <a:ln w="0">
            <a:noFill/>
          </a:ln>
        </p:spPr>
        <p:txBody>
          <a:bodyPr anchor="t">
            <a:normAutofit/>
          </a:bodyPr>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Jos tietyntyyppiset päätöstilanteet toistuvat yhä uudestaan (rakennuksen tai kaupungin lämmitystapa).</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Jos näppituntuma oikeasta ratkaisusta on väärä.</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Jos tarvitaan hidasta ajattelua.</a:t>
            </a:r>
            <a:endParaRPr b="0" lang="en-US" sz="2200" spc="-1" strike="noStrike">
              <a:solidFill>
                <a:srgbClr val="000000"/>
              </a:solidFill>
              <a:latin typeface="Arial"/>
            </a:endParaRPr>
          </a:p>
        </p:txBody>
      </p:sp>
      <p:sp>
        <p:nvSpPr>
          <p:cNvPr id="534" name="Date Placeholder 1"/>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C9CE-FB8C-439C-8B79-386B4515FB71}"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535" name="Footer Placeholder 2"/>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536" name="Slide Number Placeholder 3"/>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677E-D546-4ECA-8B42-E9804CCBFAA8}"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Hidas ajattelu</a:t>
            </a:r>
            <a:endParaRPr b="1" lang="en-US" sz="2800" spc="-1" strike="noStrike">
              <a:solidFill>
                <a:srgbClr val="7bc143"/>
              </a:solidFill>
              <a:latin typeface="Arial"/>
            </a:endParaRPr>
          </a:p>
        </p:txBody>
      </p:sp>
      <p:sp>
        <p:nvSpPr>
          <p:cNvPr id="538" name=""/>
          <p:cNvSpPr txBox="1"/>
          <p:nvPr/>
        </p:nvSpPr>
        <p:spPr>
          <a:xfrm>
            <a:off x="456840" y="1484280"/>
            <a:ext cx="8218440" cy="4392720"/>
          </a:xfrm>
          <a:prstGeom prst="rect">
            <a:avLst/>
          </a:prstGeom>
          <a:noFill/>
          <a:ln w="0">
            <a:noFill/>
          </a:ln>
        </p:spPr>
        <p:txBody>
          <a:bodyPr anchor="t">
            <a:normAutofit/>
          </a:bodyPr>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opea ajattelu: nopeaa, automaattista, toistuvaa, tunteisiin pohjautuvaa, kaavamaista, alitajuista.</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Hidas ajattelu: hidasta, työlästä, harvakseltaan, loogista, laskelmoivaa, harkittua.</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opeaa ajattelua tekevät kaikki (mutta älykkäät pystyvät keksimään uskottavamman perustelun toiminnalleen jälkikäteen). </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aloustieteilijä, nobelisti Daniel Kahneman:</a:t>
            </a:r>
            <a:endParaRPr b="0" lang="en-US" sz="2200" spc="-1" strike="noStrike">
              <a:solidFill>
                <a:srgbClr val="000000"/>
              </a:solidFill>
              <a:latin typeface="Arial"/>
            </a:endParaRPr>
          </a:p>
          <a:p>
            <a:pPr marL="414360" indent="-41436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u="sng">
                <a:solidFill>
                  <a:srgbClr val="c1df63"/>
                </a:solidFill>
                <a:uFillTx/>
                <a:latin typeface="Arial"/>
                <a:hlinkClick r:id="rId1"/>
              </a:rPr>
              <a:t>http://en.wikipedia.org/wiki/Thinking,_Fast_and_Slow</a:t>
            </a:r>
            <a:r>
              <a:rPr b="0" lang="fi-FI" sz="2200" spc="-1" strike="noStrike">
                <a:solidFill>
                  <a:srgbClr val="000000"/>
                </a:solidFill>
                <a:latin typeface="Arial"/>
              </a:rPr>
              <a:t>  </a:t>
            </a:r>
            <a:endParaRPr b="0" lang="en-US" sz="2200" spc="-1" strike="noStrike">
              <a:solidFill>
                <a:srgbClr val="000000"/>
              </a:solidFill>
              <a:latin typeface="Arial"/>
            </a:endParaRPr>
          </a:p>
        </p:txBody>
      </p:sp>
      <p:sp>
        <p:nvSpPr>
          <p:cNvPr id="539" name="Date Placeholder 1"/>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37E7D-DC90-47FC-B59B-1E735A9CF641}"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540" name="Footer Placeholder 2"/>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541" name="Slide Number Placeholder 3"/>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3F46-982F-4DEB-807E-24B95EC056D5}"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bc143"/>
                </a:solidFill>
                <a:latin typeface="Arial"/>
              </a:rPr>
              <a:t>Six principles are applied:</a:t>
            </a:r>
            <a:endParaRPr b="1" lang="en-US" sz="2800" spc="-1" strike="noStrike">
              <a:solidFill>
                <a:srgbClr val="7bc143"/>
              </a:solidFill>
              <a:latin typeface="Arial"/>
            </a:endParaRPr>
          </a:p>
        </p:txBody>
      </p:sp>
      <p:sp>
        <p:nvSpPr>
          <p:cNvPr id="543" name=""/>
          <p:cNvSpPr txBox="1"/>
          <p:nvPr/>
        </p:nvSpPr>
        <p:spPr>
          <a:xfrm>
            <a:off x="456840" y="1341000"/>
            <a:ext cx="8218440" cy="4535640"/>
          </a:xfrm>
          <a:prstGeom prst="rect">
            <a:avLst/>
          </a:prstGeom>
          <a:noFill/>
          <a:ln w="0">
            <a:noFill/>
          </a:ln>
        </p:spPr>
        <p:txBody>
          <a:bodyPr anchor="t">
            <a:normAutofit fontScale="97000"/>
          </a:bodyPr>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ntionality</a:t>
            </a:r>
            <a:r>
              <a:rPr b="0" lang="en-US" sz="2000" spc="-1" strike="noStrike">
                <a:solidFill>
                  <a:srgbClr val="000000"/>
                </a:solidFill>
                <a:latin typeface="Arial"/>
              </a:rPr>
              <a:t>: </a:t>
            </a:r>
            <a:r>
              <a:rPr b="0" lang="en-US" sz="1800" spc="-1" strike="noStrike">
                <a:solidFill>
                  <a:srgbClr val="000000"/>
                </a:solidFill>
                <a:latin typeface="Arial"/>
              </a:rPr>
              <a:t>All </a:t>
            </a:r>
            <a:r>
              <a:rPr b="0" lang="en-GB" sz="1800" spc="-1" strike="noStrike">
                <a:solidFill>
                  <a:srgbClr val="000000"/>
                </a:solidFill>
                <a:latin typeface="Arial"/>
              </a:rPr>
              <a:t>that</a:t>
            </a:r>
            <a:r>
              <a:rPr b="0" lang="en-US" sz="1800" spc="-1" strike="noStrike">
                <a:solidFill>
                  <a:srgbClr val="000000"/>
                </a:solidFill>
                <a:latin typeface="Arial"/>
              </a:rPr>
              <a:t> is done aims to offer better understanding to the decision maker about outcomes of the decision. </a:t>
            </a:r>
            <a:endParaRPr b="0" lang="en-US" sz="18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information objects</a:t>
            </a:r>
            <a:r>
              <a:rPr b="0" lang="en-US" sz="2000" spc="-1" strike="noStrike">
                <a:solidFill>
                  <a:srgbClr val="000000"/>
                </a:solidFill>
                <a:latin typeface="Arial"/>
              </a:rPr>
              <a:t>: </a:t>
            </a:r>
            <a:r>
              <a:rPr b="0" lang="en-US" sz="1800" spc="-1" strike="noStrike">
                <a:solidFill>
                  <a:srgbClr val="000000"/>
                </a:solidFill>
                <a:latin typeface="Arial"/>
              </a:rPr>
              <a:t>all information is shared using a systematic structure and a common workspace where all participants can work. </a:t>
            </a:r>
            <a:endParaRPr b="0" lang="en-US" sz="18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sality</a:t>
            </a:r>
            <a:r>
              <a:rPr b="0" lang="en-US" sz="2000" spc="-1" strike="noStrike">
                <a:solidFill>
                  <a:srgbClr val="000000"/>
                </a:solidFill>
                <a:latin typeface="Arial"/>
              </a:rPr>
              <a:t>: </a:t>
            </a:r>
            <a:r>
              <a:rPr b="0" lang="en-US" sz="1800" spc="-1" strike="noStrike">
                <a:solidFill>
                  <a:srgbClr val="000000"/>
                </a:solidFill>
                <a:latin typeface="Arial"/>
              </a:rPr>
              <a:t>The focus is on understanding the causal relations between the decision options and the intended outcomes.</a:t>
            </a:r>
            <a:r>
              <a:rPr b="0" lang="en-US" sz="2000" spc="-1" strike="noStrike">
                <a:solidFill>
                  <a:srgbClr val="000000"/>
                </a:solidFill>
                <a:latin typeface="Arial"/>
              </a:rPr>
              <a:t> </a:t>
            </a:r>
            <a:endParaRPr b="0" lang="en-US" sz="20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que</a:t>
            </a:r>
            <a:r>
              <a:rPr b="0" lang="en-US" sz="2000" spc="-1" strike="noStrike">
                <a:solidFill>
                  <a:srgbClr val="000000"/>
                </a:solidFill>
                <a:latin typeface="Arial"/>
              </a:rPr>
              <a:t>: </a:t>
            </a:r>
            <a:r>
              <a:rPr b="0" lang="en-US" sz="1800" spc="-1" strike="noStrike">
                <a:solidFill>
                  <a:srgbClr val="000000"/>
                </a:solidFill>
                <a:latin typeface="Arial"/>
              </a:rPr>
              <a:t>All information presented can be criticised based on relevance and accordance to observations. </a:t>
            </a:r>
            <a:endParaRPr b="0" lang="en-US" sz="18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use</a:t>
            </a:r>
            <a:r>
              <a:rPr b="0" lang="en-US" sz="2000" spc="-1" strike="noStrike">
                <a:solidFill>
                  <a:srgbClr val="000000"/>
                </a:solidFill>
                <a:latin typeface="Arial"/>
              </a:rPr>
              <a:t>: </a:t>
            </a:r>
            <a:r>
              <a:rPr b="0" lang="en-US" sz="1800" spc="-1" strike="noStrike">
                <a:solidFill>
                  <a:srgbClr val="000000"/>
                </a:solidFill>
                <a:latin typeface="Arial"/>
              </a:rPr>
              <a:t>All information is produced in a format that can easily be used for other purposes by other people. </a:t>
            </a:r>
            <a:endParaRPr b="0" lang="en-US" sz="18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ness</a:t>
            </a:r>
            <a:r>
              <a:rPr b="0" lang="en-US" sz="2000" spc="-1" strike="noStrike">
                <a:solidFill>
                  <a:srgbClr val="000000"/>
                </a:solidFill>
                <a:latin typeface="Arial"/>
              </a:rPr>
              <a:t>: </a:t>
            </a:r>
            <a:r>
              <a:rPr b="0" lang="en-US" sz="1800" spc="-1" strike="noStrike">
                <a:solidFill>
                  <a:srgbClr val="000000"/>
                </a:solidFill>
                <a:latin typeface="Arial"/>
              </a:rPr>
              <a:t>All work and all information is openly available to anyone interested. Participation is free. If there are exceptions, these must be publicly justified. </a:t>
            </a:r>
            <a:endParaRPr b="0" lang="en-US" sz="1800" spc="-1" strike="noStrike">
              <a:solidFill>
                <a:srgbClr val="000000"/>
              </a:solidFill>
              <a:latin typeface="Arial"/>
            </a:endParaRPr>
          </a:p>
          <a:p>
            <a:pPr lvl="1" marL="606240" indent="-2566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1df63"/>
                </a:solidFill>
                <a:uFillTx/>
                <a:latin typeface="Arial"/>
                <a:hlinkClick r:id="rId1"/>
              </a:rPr>
              <a:t>http://fi.opasnet.org/fi/APTK</a:t>
            </a:r>
            <a:r>
              <a:rPr b="0" lang="en-US" sz="1800" spc="-1" strike="noStrike">
                <a:solidFill>
                  <a:srgbClr val="000000"/>
                </a:solidFill>
                <a:latin typeface="Arial"/>
              </a:rPr>
              <a:t>    </a:t>
            </a:r>
            <a:r>
              <a:rPr b="0" lang="en-US" sz="1800" spc="-1" strike="noStrike" u="sng">
                <a:solidFill>
                  <a:srgbClr val="c1df63"/>
                </a:solidFill>
                <a:uFillTx/>
                <a:latin typeface="Arial"/>
                <a:hlinkClick r:id="rId2"/>
              </a:rPr>
              <a:t>http://urn.fi/URN:NBN:fi-fe2014031821621</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44"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3EEA-95AC-4712-9697-111705A1F63A}"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545"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44F8-BF64-44EA-ADC6-B4CBFB504614}"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546"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Arviointi</a:t>
            </a:r>
            <a:endParaRPr b="1" lang="en-US" sz="2800" spc="-1" strike="noStrike">
              <a:solidFill>
                <a:srgbClr val="7bc143"/>
              </a:solidFill>
              <a:latin typeface="Arial"/>
            </a:endParaRPr>
          </a:p>
        </p:txBody>
      </p:sp>
      <p:sp>
        <p:nvSpPr>
          <p:cNvPr id="548" name=""/>
          <p:cNvSpPr txBox="1"/>
          <p:nvPr/>
        </p:nvSpPr>
        <p:spPr>
          <a:xfrm>
            <a:off x="456840" y="1484280"/>
            <a:ext cx="8218440" cy="4392720"/>
          </a:xfrm>
          <a:prstGeom prst="rect">
            <a:avLst/>
          </a:prstGeom>
          <a:noFill/>
          <a:ln w="0">
            <a:noFill/>
          </a:ln>
        </p:spPr>
        <p:txBody>
          <a:bodyPr anchor="t">
            <a:normAutofit/>
          </a:bodyPr>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Rakennuskantamalli ennustamaan mennyttä ja tulevaa energiantarvetta Kuopiossa.</a:t>
            </a:r>
            <a:endParaRPr b="0" lang="en-US" sz="2200" spc="-1" strike="noStrike">
              <a:solidFill>
                <a:srgbClr val="000000"/>
              </a:solidFill>
              <a:latin typeface="Arial"/>
            </a:endParaRPr>
          </a:p>
          <a:p>
            <a:pPr marL="357120" indent="-3571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Sisältää kaksi eri päätöstä:</a:t>
            </a:r>
            <a:endParaRPr b="0" lang="en-US" sz="22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olttoainepäätös</a:t>
            </a:r>
            <a:endParaRPr b="0" lang="en-US" sz="2000" spc="-1" strike="noStrike">
              <a:solidFill>
                <a:srgbClr val="000000"/>
              </a:solidFill>
              <a:latin typeface="Arial"/>
            </a:endParaRPr>
          </a:p>
          <a:p>
            <a:pPr lvl="2" marL="900000" indent="-274680">
              <a:lnSpc>
                <a:spcPct val="95000"/>
              </a:lnSpc>
              <a:spcBef>
                <a:spcPts val="53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AU (business as usual, tätä menoa): Haapaniemen CHP-voimala käyttää 85 % turvetta.</a:t>
            </a:r>
            <a:endParaRPr b="0" lang="en-US" sz="1800" spc="-1" strike="noStrike">
              <a:solidFill>
                <a:srgbClr val="000000"/>
              </a:solidFill>
              <a:latin typeface="Arial"/>
            </a:endParaRPr>
          </a:p>
          <a:p>
            <a:pPr lvl="2" marL="900000" indent="-274680">
              <a:lnSpc>
                <a:spcPct val="95000"/>
              </a:lnSpc>
              <a:spcBef>
                <a:spcPts val="53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ioenergian lisäys: 25 % turvetta, 60 % puuta.</a:t>
            </a:r>
            <a:endParaRPr b="0" lang="en-US" sz="1800" spc="-1" strike="noStrike">
              <a:solidFill>
                <a:srgbClr val="000000"/>
              </a:solidFill>
              <a:latin typeface="Arial"/>
            </a:endParaRPr>
          </a:p>
          <a:p>
            <a:pPr lvl="1" marL="625320" indent="-2649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akennusten korjausrakentaminen</a:t>
            </a:r>
            <a:endParaRPr b="0" lang="en-US" sz="2000" spc="-1" strike="noStrike">
              <a:solidFill>
                <a:srgbClr val="000000"/>
              </a:solidFill>
              <a:latin typeface="Arial"/>
            </a:endParaRPr>
          </a:p>
          <a:p>
            <a:pPr lvl="2" marL="900000" indent="-274680">
              <a:lnSpc>
                <a:spcPct val="95000"/>
              </a:lnSpc>
              <a:spcBef>
                <a:spcPts val="53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AU: 3 % rakennuksista energiakorjataan vuodessa.</a:t>
            </a:r>
            <a:endParaRPr b="0" lang="en-US" sz="1800" spc="-1" strike="noStrike">
              <a:solidFill>
                <a:srgbClr val="000000"/>
              </a:solidFill>
              <a:latin typeface="Arial"/>
            </a:endParaRPr>
          </a:p>
          <a:p>
            <a:pPr lvl="2" marL="900000" indent="-274680">
              <a:lnSpc>
                <a:spcPct val="95000"/>
              </a:lnSpc>
              <a:spcBef>
                <a:spcPts val="53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ehostettu korjaus: 4.5 % energiakorjataan.</a:t>
            </a:r>
            <a:endParaRPr b="0" lang="en-US" sz="1800" spc="-1" strike="noStrike">
              <a:solidFill>
                <a:srgbClr val="000000"/>
              </a:solidFill>
              <a:latin typeface="Arial"/>
            </a:endParaRPr>
          </a:p>
        </p:txBody>
      </p:sp>
      <p:sp>
        <p:nvSpPr>
          <p:cNvPr id="549"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DF9D1-E1CC-400E-9300-D6ADC54D7085}"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550"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DC12-7AE7-4667-A982-C4EE018C18B1}"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551"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c143"/>
                </a:solidFill>
                <a:latin typeface="Arial"/>
              </a:rPr>
              <a:t>City-specific data needed in the model</a:t>
            </a:r>
            <a:endParaRPr b="1" lang="en-US" sz="2800" spc="-1" strike="noStrike">
              <a:solidFill>
                <a:srgbClr val="7bc143"/>
              </a:solidFill>
              <a:latin typeface="Arial"/>
            </a:endParaRPr>
          </a:p>
        </p:txBody>
      </p:sp>
      <p:sp>
        <p:nvSpPr>
          <p:cNvPr id="553" name=""/>
          <p:cNvSpPr txBox="1"/>
          <p:nvPr/>
        </p:nvSpPr>
        <p:spPr>
          <a:xfrm>
            <a:off x="456840" y="1484280"/>
            <a:ext cx="8218440" cy="4392720"/>
          </a:xfrm>
          <a:prstGeom prst="rect">
            <a:avLst/>
          </a:prstGeom>
          <a:noFill/>
          <a:ln w="0">
            <a:noFill/>
          </a:ln>
        </p:spPr>
        <p:txBody>
          <a:bodyPr anchor="t">
            <a:norm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 information is in parenthesis)</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types and floor areas (georeferenced)</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s of heating types in the building stock</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consumption per floor area unit (separately for different energy classes of buildings)</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ission factors for heating options</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georeferenced)</a:t>
            </a:r>
            <a:endParaRPr b="0" lang="en-US" sz="2000" spc="-1" strike="noStrike">
              <a:solidFill>
                <a:srgbClr val="000000"/>
              </a:solidFill>
              <a:latin typeface="Arial"/>
            </a:endParaRPr>
          </a:p>
          <a:p>
            <a:pPr>
              <a:lnSpc>
                <a:spcPct val="8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want to follow situation in time:</a:t>
            </a:r>
            <a:endParaRPr b="0" lang="en-US" sz="2000" spc="-1" strike="noStrike">
              <a:solidFill>
                <a:srgbClr val="000000"/>
              </a:solidFill>
              <a:latin typeface="Arial"/>
            </a:endParaRPr>
          </a:p>
          <a:p>
            <a:pPr lvl="1" marL="625320" indent="-26496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action of buildings renovated per year; impact on energy efficiency)</a:t>
            </a:r>
            <a:endParaRPr b="0" lang="en-US" sz="1900" spc="-1" strike="noStrike">
              <a:solidFill>
                <a:srgbClr val="000000"/>
              </a:solidFill>
              <a:latin typeface="Arial"/>
            </a:endParaRPr>
          </a:p>
          <a:p>
            <a:pPr lvl="1" marL="625320" indent="-26496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truction of new buildings per year</a:t>
            </a:r>
            <a:endParaRPr b="0" lang="en-US" sz="1900" spc="-1" strike="noStrike">
              <a:solidFill>
                <a:srgbClr val="000000"/>
              </a:solidFill>
              <a:latin typeface="Arial"/>
            </a:endParaRPr>
          </a:p>
          <a:p>
            <a:pPr lvl="1" marL="625320" indent="-26496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olished buildings per year</a:t>
            </a:r>
            <a:endParaRPr b="0" lang="en-US" sz="1900" spc="-1" strike="noStrike">
              <a:solidFill>
                <a:srgbClr val="000000"/>
              </a:solidFill>
              <a:latin typeface="Arial"/>
            </a:endParaRPr>
          </a:p>
        </p:txBody>
      </p:sp>
      <p:sp>
        <p:nvSpPr>
          <p:cNvPr id="554"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3E36-271A-4D19-9CF8-34256229532B}"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555"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BCF8-F874-45CC-B305-FE22FCF09570}"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556"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FinICT edistää nettimalleja</a:t>
            </a:r>
            <a:endParaRPr b="1" lang="en-US" sz="2800" spc="-1" strike="noStrike">
              <a:solidFill>
                <a:srgbClr val="7bc143"/>
              </a:solidFill>
              <a:latin typeface="Arial"/>
            </a:endParaRPr>
          </a:p>
        </p:txBody>
      </p:sp>
      <p:pic>
        <p:nvPicPr>
          <p:cNvPr id="209" name="" descr=""/>
          <p:cNvPicPr/>
          <p:nvPr/>
        </p:nvPicPr>
        <p:blipFill>
          <a:blip r:embed="rId1"/>
          <a:stretch/>
        </p:blipFill>
        <p:spPr>
          <a:xfrm>
            <a:off x="456840" y="1484280"/>
            <a:ext cx="8218440" cy="4392720"/>
          </a:xfrm>
          <a:prstGeom prst="rect">
            <a:avLst/>
          </a:prstGeom>
          <a:ln w="0">
            <a:noFill/>
          </a:ln>
        </p:spPr>
      </p:pic>
      <p:sp>
        <p:nvSpPr>
          <p:cNvPr id="210"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6C5A7-5D13-4EF7-8CB1-5FB87914A453}"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211"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212"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FDE8-2CCF-46C2-B64C-E4E0132A4BAF}"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pic>
        <p:nvPicPr>
          <p:cNvPr id="213" name="Picture 3" descr=""/>
          <p:cNvPicPr/>
          <p:nvPr/>
        </p:nvPicPr>
        <p:blipFill>
          <a:blip r:embed="rId2"/>
          <a:stretch/>
        </p:blipFill>
        <p:spPr>
          <a:xfrm>
            <a:off x="0" y="0"/>
            <a:ext cx="9161640" cy="6929280"/>
          </a:xfrm>
          <a:prstGeom prst="rect">
            <a:avLst/>
          </a:prstGeom>
          <a:ln w="0">
            <a:noFill/>
          </a:ln>
        </p:spPr>
      </p:pic>
      <p:sp>
        <p:nvSpPr>
          <p:cNvPr id="214" name="TextBox 6"/>
          <p:cNvSpPr/>
          <p:nvPr/>
        </p:nvSpPr>
        <p:spPr>
          <a:xfrm>
            <a:off x="2268360" y="907920"/>
            <a:ext cx="231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7bc143"/>
                </a:solidFill>
                <a:latin typeface="Arial"/>
                <a:ea typeface="Arial"/>
              </a:rPr>
              <a:t>http://finict.f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7984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Tiedonkulku päätösvalmistelussa nyt</a:t>
            </a:r>
            <a:endParaRPr b="1" lang="en-US" sz="2800" spc="-1" strike="noStrike">
              <a:solidFill>
                <a:srgbClr val="7bc143"/>
              </a:solidFill>
              <a:latin typeface="Arial"/>
            </a:endParaRPr>
          </a:p>
        </p:txBody>
      </p:sp>
      <p:grpSp>
        <p:nvGrpSpPr>
          <p:cNvPr id="216" name="Group 17"/>
          <p:cNvGrpSpPr/>
          <p:nvPr/>
        </p:nvGrpSpPr>
        <p:grpSpPr>
          <a:xfrm>
            <a:off x="270000" y="1155600"/>
            <a:ext cx="8584920" cy="5384880"/>
            <a:chOff x="270000" y="1155600"/>
            <a:chExt cx="8584920" cy="5384880"/>
          </a:xfrm>
        </p:grpSpPr>
        <p:sp>
          <p:nvSpPr>
            <p:cNvPr id="217" name="Rectangle 40"/>
            <p:cNvSpPr/>
            <p:nvPr/>
          </p:nvSpPr>
          <p:spPr>
            <a:xfrm>
              <a:off x="270000" y="6021720"/>
              <a:ext cx="1452240" cy="44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3" descr=""/>
            <p:cNvPicPr/>
            <p:nvPr/>
          </p:nvPicPr>
          <p:blipFill>
            <a:blip r:embed="rId1"/>
            <a:stretch/>
          </p:blipFill>
          <p:spPr>
            <a:xfrm>
              <a:off x="403200" y="5034240"/>
              <a:ext cx="514080" cy="838080"/>
            </a:xfrm>
            <a:prstGeom prst="rect">
              <a:avLst/>
            </a:prstGeom>
            <a:ln w="0">
              <a:noFill/>
            </a:ln>
          </p:spPr>
        </p:pic>
        <p:pic>
          <p:nvPicPr>
            <p:cNvPr id="219" name="Picture 6" descr=""/>
            <p:cNvPicPr/>
            <p:nvPr/>
          </p:nvPicPr>
          <p:blipFill>
            <a:blip r:embed="rId2"/>
            <a:stretch/>
          </p:blipFill>
          <p:spPr>
            <a:xfrm>
              <a:off x="2828160" y="1897560"/>
              <a:ext cx="495720" cy="648000"/>
            </a:xfrm>
            <a:prstGeom prst="rect">
              <a:avLst/>
            </a:prstGeom>
            <a:ln w="0">
              <a:noFill/>
            </a:ln>
          </p:spPr>
        </p:pic>
        <p:pic>
          <p:nvPicPr>
            <p:cNvPr id="220" name="Picture 7" descr=""/>
            <p:cNvPicPr/>
            <p:nvPr/>
          </p:nvPicPr>
          <p:blipFill>
            <a:blip r:embed="rId3"/>
            <a:stretch/>
          </p:blipFill>
          <p:spPr>
            <a:xfrm>
              <a:off x="1002240" y="2850840"/>
              <a:ext cx="620280" cy="613800"/>
            </a:xfrm>
            <a:prstGeom prst="rect">
              <a:avLst/>
            </a:prstGeom>
            <a:ln w="0">
              <a:noFill/>
            </a:ln>
          </p:spPr>
        </p:pic>
        <p:pic>
          <p:nvPicPr>
            <p:cNvPr id="221" name="Picture 10" descr=""/>
            <p:cNvPicPr/>
            <p:nvPr/>
          </p:nvPicPr>
          <p:blipFill>
            <a:blip r:embed="rId4"/>
            <a:stretch/>
          </p:blipFill>
          <p:spPr>
            <a:xfrm>
              <a:off x="5341320" y="4271760"/>
              <a:ext cx="623160" cy="813600"/>
            </a:xfrm>
            <a:prstGeom prst="rect">
              <a:avLst/>
            </a:prstGeom>
            <a:ln w="0">
              <a:noFill/>
            </a:ln>
          </p:spPr>
        </p:pic>
        <p:pic>
          <p:nvPicPr>
            <p:cNvPr id="222" name="Picture 11" descr=""/>
            <p:cNvPicPr/>
            <p:nvPr/>
          </p:nvPicPr>
          <p:blipFill>
            <a:blip r:embed="rId5"/>
            <a:stretch/>
          </p:blipFill>
          <p:spPr>
            <a:xfrm>
              <a:off x="7194600" y="2296080"/>
              <a:ext cx="970560" cy="769320"/>
            </a:xfrm>
            <a:prstGeom prst="rect">
              <a:avLst/>
            </a:prstGeom>
            <a:ln w="0">
              <a:noFill/>
            </a:ln>
          </p:spPr>
        </p:pic>
        <p:pic>
          <p:nvPicPr>
            <p:cNvPr id="223" name="Picture 15" descr=""/>
            <p:cNvPicPr/>
            <p:nvPr/>
          </p:nvPicPr>
          <p:blipFill>
            <a:blip r:embed="rId6"/>
            <a:stretch/>
          </p:blipFill>
          <p:spPr>
            <a:xfrm>
              <a:off x="4428360" y="4149360"/>
              <a:ext cx="990360" cy="942840"/>
            </a:xfrm>
            <a:prstGeom prst="rect">
              <a:avLst/>
            </a:prstGeom>
            <a:ln w="0">
              <a:noFill/>
            </a:ln>
          </p:spPr>
        </p:pic>
        <p:pic>
          <p:nvPicPr>
            <p:cNvPr id="224" name="Picture 16" descr=""/>
            <p:cNvPicPr/>
            <p:nvPr/>
          </p:nvPicPr>
          <p:blipFill>
            <a:blip r:embed="rId7"/>
            <a:stretch/>
          </p:blipFill>
          <p:spPr>
            <a:xfrm>
              <a:off x="6126840" y="2680920"/>
              <a:ext cx="1104840" cy="923760"/>
            </a:xfrm>
            <a:prstGeom prst="rect">
              <a:avLst/>
            </a:prstGeom>
            <a:ln w="0">
              <a:noFill/>
            </a:ln>
          </p:spPr>
        </p:pic>
        <p:pic>
          <p:nvPicPr>
            <p:cNvPr id="225" name="Picture 17" descr=""/>
            <p:cNvPicPr/>
            <p:nvPr/>
          </p:nvPicPr>
          <p:blipFill>
            <a:blip r:embed="rId8"/>
            <a:stretch/>
          </p:blipFill>
          <p:spPr>
            <a:xfrm>
              <a:off x="565200" y="5821560"/>
              <a:ext cx="747360" cy="718920"/>
            </a:xfrm>
            <a:prstGeom prst="rect">
              <a:avLst/>
            </a:prstGeom>
            <a:ln w="0">
              <a:noFill/>
            </a:ln>
          </p:spPr>
        </p:pic>
        <p:pic>
          <p:nvPicPr>
            <p:cNvPr id="226" name="Picture 18" descr=""/>
            <p:cNvPicPr/>
            <p:nvPr/>
          </p:nvPicPr>
          <p:blipFill>
            <a:blip r:embed="rId9"/>
            <a:stretch/>
          </p:blipFill>
          <p:spPr>
            <a:xfrm>
              <a:off x="1795320" y="5790240"/>
              <a:ext cx="694440" cy="680040"/>
            </a:xfrm>
            <a:prstGeom prst="rect">
              <a:avLst/>
            </a:prstGeom>
            <a:ln w="0">
              <a:noFill/>
            </a:ln>
          </p:spPr>
        </p:pic>
        <p:pic>
          <p:nvPicPr>
            <p:cNvPr id="227" name="Picture 20" descr=""/>
            <p:cNvPicPr/>
            <p:nvPr/>
          </p:nvPicPr>
          <p:blipFill>
            <a:blip r:embed="rId10"/>
            <a:stretch/>
          </p:blipFill>
          <p:spPr>
            <a:xfrm>
              <a:off x="3100680" y="2500560"/>
              <a:ext cx="914400" cy="923760"/>
            </a:xfrm>
            <a:prstGeom prst="rect">
              <a:avLst/>
            </a:prstGeom>
            <a:ln w="0">
              <a:noFill/>
            </a:ln>
          </p:spPr>
        </p:pic>
        <p:pic>
          <p:nvPicPr>
            <p:cNvPr id="228" name="Picture 21" descr=""/>
            <p:cNvPicPr/>
            <p:nvPr/>
          </p:nvPicPr>
          <p:blipFill>
            <a:blip r:embed="rId11"/>
            <a:stretch/>
          </p:blipFill>
          <p:spPr>
            <a:xfrm>
              <a:off x="4559400" y="1464840"/>
              <a:ext cx="1056960" cy="933480"/>
            </a:xfrm>
            <a:prstGeom prst="rect">
              <a:avLst/>
            </a:prstGeom>
            <a:ln w="0">
              <a:noFill/>
            </a:ln>
          </p:spPr>
        </p:pic>
        <p:pic>
          <p:nvPicPr>
            <p:cNvPr id="229" name="Picture 3" descr=""/>
            <p:cNvPicPr/>
            <p:nvPr/>
          </p:nvPicPr>
          <p:blipFill>
            <a:blip r:embed="rId12"/>
            <a:stretch/>
          </p:blipFill>
          <p:spPr>
            <a:xfrm>
              <a:off x="1819080" y="5034240"/>
              <a:ext cx="514080" cy="838080"/>
            </a:xfrm>
            <a:prstGeom prst="rect">
              <a:avLst/>
            </a:prstGeom>
            <a:ln w="0">
              <a:noFill/>
            </a:ln>
          </p:spPr>
        </p:pic>
        <p:pic>
          <p:nvPicPr>
            <p:cNvPr id="230" name="Picture 3" descr=""/>
            <p:cNvPicPr/>
            <p:nvPr/>
          </p:nvPicPr>
          <p:blipFill>
            <a:blip r:embed="rId13"/>
            <a:stretch/>
          </p:blipFill>
          <p:spPr>
            <a:xfrm>
              <a:off x="1099440" y="5034240"/>
              <a:ext cx="514080" cy="838080"/>
            </a:xfrm>
            <a:prstGeom prst="rect">
              <a:avLst/>
            </a:prstGeom>
            <a:ln w="0">
              <a:noFill/>
            </a:ln>
          </p:spPr>
        </p:pic>
        <p:pic>
          <p:nvPicPr>
            <p:cNvPr id="231" name="Picture 9" descr=""/>
            <p:cNvPicPr/>
            <p:nvPr/>
          </p:nvPicPr>
          <p:blipFill>
            <a:blip r:embed="rId14"/>
            <a:stretch/>
          </p:blipFill>
          <p:spPr>
            <a:xfrm>
              <a:off x="1807200" y="4010400"/>
              <a:ext cx="526320" cy="615240"/>
            </a:xfrm>
            <a:prstGeom prst="rect">
              <a:avLst/>
            </a:prstGeom>
            <a:ln w="0">
              <a:noFill/>
            </a:ln>
          </p:spPr>
        </p:pic>
        <p:pic>
          <p:nvPicPr>
            <p:cNvPr id="232" name="Picture 9" descr=""/>
            <p:cNvPicPr/>
            <p:nvPr/>
          </p:nvPicPr>
          <p:blipFill>
            <a:blip r:embed="rId15"/>
            <a:stretch/>
          </p:blipFill>
          <p:spPr>
            <a:xfrm>
              <a:off x="1096200" y="3994560"/>
              <a:ext cx="526320" cy="615240"/>
            </a:xfrm>
            <a:prstGeom prst="rect">
              <a:avLst/>
            </a:prstGeom>
            <a:ln w="0">
              <a:noFill/>
            </a:ln>
          </p:spPr>
        </p:pic>
        <p:pic>
          <p:nvPicPr>
            <p:cNvPr id="233" name="Picture 9" descr=""/>
            <p:cNvPicPr/>
            <p:nvPr/>
          </p:nvPicPr>
          <p:blipFill>
            <a:blip r:embed="rId16"/>
            <a:stretch/>
          </p:blipFill>
          <p:spPr>
            <a:xfrm>
              <a:off x="403200" y="4010400"/>
              <a:ext cx="526320" cy="615240"/>
            </a:xfrm>
            <a:prstGeom prst="rect">
              <a:avLst/>
            </a:prstGeom>
            <a:ln w="0">
              <a:noFill/>
            </a:ln>
          </p:spPr>
        </p:pic>
        <p:cxnSp>
          <p:nvCxnSpPr>
            <p:cNvPr id="234" name="Straight Arrow Connector 6"/>
            <p:cNvCxnSpPr/>
            <p:nvPr/>
          </p:nvCxnSpPr>
          <p:spPr>
            <a:xfrm flipV="1">
              <a:off x="659880" y="4625640"/>
              <a:ext cx="6840" cy="309960"/>
            </a:xfrm>
            <a:prstGeom prst="straightConnector1">
              <a:avLst/>
            </a:prstGeom>
            <a:ln w="9360">
              <a:solidFill>
                <a:srgbClr val="000000"/>
              </a:solidFill>
              <a:miter/>
              <a:tailEnd len="med" type="arrow" w="med"/>
            </a:ln>
          </p:spPr>
        </p:cxnSp>
        <p:cxnSp>
          <p:nvCxnSpPr>
            <p:cNvPr id="235" name="Straight Arrow Connector 35"/>
            <p:cNvCxnSpPr/>
            <p:nvPr/>
          </p:nvCxnSpPr>
          <p:spPr>
            <a:xfrm flipV="1">
              <a:off x="2063160" y="4611600"/>
              <a:ext cx="6840" cy="311760"/>
            </a:xfrm>
            <a:prstGeom prst="straightConnector1">
              <a:avLst/>
            </a:prstGeom>
            <a:ln w="9360">
              <a:solidFill>
                <a:srgbClr val="000000"/>
              </a:solidFill>
              <a:miter/>
              <a:tailEnd len="med" type="arrow" w="med"/>
            </a:ln>
          </p:spPr>
        </p:cxnSp>
        <p:cxnSp>
          <p:nvCxnSpPr>
            <p:cNvPr id="236" name="Straight Arrow Connector 36"/>
            <p:cNvCxnSpPr/>
            <p:nvPr/>
          </p:nvCxnSpPr>
          <p:spPr>
            <a:xfrm flipV="1">
              <a:off x="1358640" y="4606560"/>
              <a:ext cx="6840" cy="309960"/>
            </a:xfrm>
            <a:prstGeom prst="straightConnector1">
              <a:avLst/>
            </a:prstGeom>
            <a:ln w="9360">
              <a:solidFill>
                <a:srgbClr val="000000"/>
              </a:solidFill>
              <a:miter/>
              <a:tailEnd len="med" type="arrow" w="med"/>
            </a:ln>
          </p:spPr>
        </p:cxnSp>
        <p:cxnSp>
          <p:nvCxnSpPr>
            <p:cNvPr id="237" name="Straight Arrow Connector 37"/>
            <p:cNvCxnSpPr/>
            <p:nvPr/>
          </p:nvCxnSpPr>
          <p:spPr>
            <a:xfrm flipV="1">
              <a:off x="1299600" y="3508200"/>
              <a:ext cx="6840" cy="311760"/>
            </a:xfrm>
            <a:prstGeom prst="straightConnector1">
              <a:avLst/>
            </a:prstGeom>
            <a:ln w="9360">
              <a:solidFill>
                <a:srgbClr val="000000"/>
              </a:solidFill>
              <a:miter/>
              <a:tailEnd len="med" type="arrow" w="med"/>
            </a:ln>
          </p:spPr>
        </p:cxnSp>
        <p:cxnSp>
          <p:nvCxnSpPr>
            <p:cNvPr id="238" name="Straight Arrow Connector 38"/>
            <p:cNvCxnSpPr/>
            <p:nvPr/>
          </p:nvCxnSpPr>
          <p:spPr>
            <a:xfrm flipH="1" flipV="1">
              <a:off x="1613520" y="3484080"/>
              <a:ext cx="430920" cy="423000"/>
            </a:xfrm>
            <a:prstGeom prst="straightConnector1">
              <a:avLst/>
            </a:prstGeom>
            <a:ln w="9360">
              <a:solidFill>
                <a:srgbClr val="000000"/>
              </a:solidFill>
              <a:miter/>
              <a:tailEnd len="med" type="arrow" w="med"/>
            </a:ln>
          </p:spPr>
        </p:cxnSp>
        <p:cxnSp>
          <p:nvCxnSpPr>
            <p:cNvPr id="239" name="Straight Arrow Connector 39"/>
            <p:cNvCxnSpPr/>
            <p:nvPr/>
          </p:nvCxnSpPr>
          <p:spPr>
            <a:xfrm flipV="1">
              <a:off x="671400" y="3498840"/>
              <a:ext cx="429120" cy="414720"/>
            </a:xfrm>
            <a:prstGeom prst="straightConnector1">
              <a:avLst/>
            </a:prstGeom>
            <a:ln w="9360">
              <a:solidFill>
                <a:srgbClr val="000000"/>
              </a:solidFill>
              <a:miter/>
              <a:tailEnd len="med" type="arrow" w="med"/>
            </a:ln>
          </p:spPr>
        </p:cxnSp>
        <p:cxnSp>
          <p:nvCxnSpPr>
            <p:cNvPr id="240" name="Straight Arrow Connector 42"/>
            <p:cNvCxnSpPr/>
            <p:nvPr/>
          </p:nvCxnSpPr>
          <p:spPr>
            <a:xfrm flipV="1">
              <a:off x="1669320" y="2474640"/>
              <a:ext cx="1058040" cy="376200"/>
            </a:xfrm>
            <a:prstGeom prst="straightConnector1">
              <a:avLst/>
            </a:prstGeom>
            <a:ln w="9360">
              <a:solidFill>
                <a:srgbClr val="000000"/>
              </a:solidFill>
              <a:miter/>
              <a:tailEnd len="med" type="arrow" w="med"/>
            </a:ln>
          </p:spPr>
        </p:cxnSp>
        <p:cxnSp>
          <p:nvCxnSpPr>
            <p:cNvPr id="241" name="Straight Arrow Connector 43"/>
            <p:cNvCxnSpPr/>
            <p:nvPr/>
          </p:nvCxnSpPr>
          <p:spPr>
            <a:xfrm flipV="1">
              <a:off x="4023360" y="2208960"/>
              <a:ext cx="498960" cy="267120"/>
            </a:xfrm>
            <a:prstGeom prst="straightConnector1">
              <a:avLst/>
            </a:prstGeom>
            <a:ln w="9360">
              <a:solidFill>
                <a:srgbClr val="000000"/>
              </a:solidFill>
              <a:miter/>
              <a:headEnd len="med" type="arrow" w="med"/>
              <a:tailEnd len="med" type="arrow" w="med"/>
            </a:ln>
          </p:spPr>
        </p:cxnSp>
        <p:cxnSp>
          <p:nvCxnSpPr>
            <p:cNvPr id="242" name="Straight Arrow Connector 45"/>
            <p:cNvCxnSpPr/>
            <p:nvPr/>
          </p:nvCxnSpPr>
          <p:spPr>
            <a:xfrm>
              <a:off x="5524560" y="2085120"/>
              <a:ext cx="602280" cy="765720"/>
            </a:xfrm>
            <a:prstGeom prst="straightConnector1">
              <a:avLst/>
            </a:prstGeom>
            <a:ln w="9360">
              <a:solidFill>
                <a:srgbClr val="000000"/>
              </a:solidFill>
              <a:miter/>
              <a:headEnd len="med" type="arrow" w="med"/>
              <a:tailEnd len="med" type="arrow" w="med"/>
            </a:ln>
          </p:spPr>
        </p:cxnSp>
        <p:sp>
          <p:nvSpPr>
            <p:cNvPr id="243" name="TextBox 13"/>
            <p:cNvSpPr/>
            <p:nvPr/>
          </p:nvSpPr>
          <p:spPr>
            <a:xfrm>
              <a:off x="2398680" y="5252040"/>
              <a:ext cx="188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Alkuperäisdata</a:t>
              </a:r>
              <a:endParaRPr b="0" lang="en-US" sz="2000" spc="-1" strike="noStrike">
                <a:solidFill>
                  <a:srgbClr val="000000"/>
                </a:solidFill>
                <a:latin typeface="Arial"/>
              </a:endParaRPr>
            </a:p>
          </p:txBody>
        </p:sp>
        <p:sp>
          <p:nvSpPr>
            <p:cNvPr id="244" name="TextBox 48"/>
            <p:cNvSpPr/>
            <p:nvPr/>
          </p:nvSpPr>
          <p:spPr>
            <a:xfrm>
              <a:off x="2398680" y="4074840"/>
              <a:ext cx="1888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Tieteelliset julkaisut</a:t>
              </a:r>
              <a:endParaRPr b="0" lang="en-US" sz="2000" spc="-1" strike="noStrike">
                <a:solidFill>
                  <a:srgbClr val="000000"/>
                </a:solidFill>
                <a:latin typeface="Arial"/>
              </a:endParaRPr>
            </a:p>
          </p:txBody>
        </p:sp>
        <p:sp>
          <p:nvSpPr>
            <p:cNvPr id="245" name="TextBox 49"/>
            <p:cNvSpPr/>
            <p:nvPr/>
          </p:nvSpPr>
          <p:spPr>
            <a:xfrm>
              <a:off x="650880" y="1731600"/>
              <a:ext cx="214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Ennakkoarviointi, YVA tm. suositus</a:t>
              </a:r>
              <a:endParaRPr b="0" lang="en-US" sz="2000" spc="-1" strike="noStrike">
                <a:solidFill>
                  <a:srgbClr val="000000"/>
                </a:solidFill>
                <a:latin typeface="Arial"/>
              </a:endParaRPr>
            </a:p>
          </p:txBody>
        </p:sp>
        <p:sp>
          <p:nvSpPr>
            <p:cNvPr id="246" name="TextBox 50"/>
            <p:cNvSpPr/>
            <p:nvPr/>
          </p:nvSpPr>
          <p:spPr>
            <a:xfrm>
              <a:off x="1669680" y="2894760"/>
              <a:ext cx="1888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Tieteellinen katsaus</a:t>
              </a:r>
              <a:endParaRPr b="0" lang="en-US" sz="2000" spc="-1" strike="noStrike">
                <a:solidFill>
                  <a:srgbClr val="000000"/>
                </a:solidFill>
                <a:latin typeface="Arial"/>
              </a:endParaRPr>
            </a:p>
          </p:txBody>
        </p:sp>
        <p:sp>
          <p:nvSpPr>
            <p:cNvPr id="247" name="TextBox 51"/>
            <p:cNvSpPr/>
            <p:nvPr/>
          </p:nvSpPr>
          <p:spPr>
            <a:xfrm>
              <a:off x="5910840" y="4271760"/>
              <a:ext cx="1888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irkamies-raportti</a:t>
              </a:r>
              <a:endParaRPr b="0" lang="en-US" sz="2000" spc="-1" strike="noStrike">
                <a:solidFill>
                  <a:srgbClr val="000000"/>
                </a:solidFill>
                <a:latin typeface="Arial"/>
              </a:endParaRPr>
            </a:p>
          </p:txBody>
        </p:sp>
        <p:cxnSp>
          <p:nvCxnSpPr>
            <p:cNvPr id="248" name="Straight Arrow Connector 53"/>
            <p:cNvCxnSpPr>
              <a:stCxn id="223" idx="0"/>
            </p:cNvCxnSpPr>
            <p:nvPr/>
          </p:nvCxnSpPr>
          <p:spPr>
            <a:xfrm flipV="1">
              <a:off x="4923720" y="2499840"/>
              <a:ext cx="164520" cy="1649160"/>
            </a:xfrm>
            <a:prstGeom prst="straightConnector1">
              <a:avLst/>
            </a:prstGeom>
            <a:ln w="9360">
              <a:solidFill>
                <a:srgbClr val="000000"/>
              </a:solidFill>
              <a:miter/>
              <a:headEnd len="med" type="arrow" w="med"/>
              <a:tailEnd len="med" type="arrow" w="med"/>
            </a:ln>
          </p:spPr>
        </p:cxnSp>
        <p:cxnSp>
          <p:nvCxnSpPr>
            <p:cNvPr id="249" name="Straight Arrow Connector 41"/>
            <p:cNvCxnSpPr/>
            <p:nvPr/>
          </p:nvCxnSpPr>
          <p:spPr>
            <a:xfrm flipV="1">
              <a:off x="3342960" y="2085120"/>
              <a:ext cx="1124640" cy="119520"/>
            </a:xfrm>
            <a:prstGeom prst="straightConnector1">
              <a:avLst/>
            </a:prstGeom>
            <a:ln w="9360">
              <a:solidFill>
                <a:srgbClr val="000000"/>
              </a:solidFill>
              <a:prstDash val="dash"/>
              <a:miter/>
              <a:tailEnd len="med" type="arrow" w="med"/>
            </a:ln>
          </p:spPr>
        </p:cxnSp>
        <p:cxnSp>
          <p:nvCxnSpPr>
            <p:cNvPr id="250" name="Straight Arrow Connector 44"/>
            <p:cNvCxnSpPr>
              <a:stCxn id="221" idx="0"/>
            </p:cNvCxnSpPr>
            <p:nvPr/>
          </p:nvCxnSpPr>
          <p:spPr>
            <a:xfrm flipH="1" flipV="1">
              <a:off x="5340960" y="2545560"/>
              <a:ext cx="311760" cy="1726560"/>
            </a:xfrm>
            <a:prstGeom prst="straightConnector1">
              <a:avLst/>
            </a:prstGeom>
            <a:ln w="9360">
              <a:solidFill>
                <a:srgbClr val="000000"/>
              </a:solidFill>
              <a:prstDash val="dash"/>
              <a:miter/>
              <a:tailEnd len="med" type="arrow" w="med"/>
            </a:ln>
          </p:spPr>
        </p:cxnSp>
        <p:cxnSp>
          <p:nvCxnSpPr>
            <p:cNvPr id="251" name="Straight Arrow Connector 46"/>
            <p:cNvCxnSpPr/>
            <p:nvPr/>
          </p:nvCxnSpPr>
          <p:spPr>
            <a:xfrm flipH="1" flipV="1">
              <a:off x="5616000" y="1815840"/>
              <a:ext cx="1487520" cy="729720"/>
            </a:xfrm>
            <a:prstGeom prst="straightConnector1">
              <a:avLst/>
            </a:prstGeom>
            <a:ln w="9360">
              <a:solidFill>
                <a:srgbClr val="000000"/>
              </a:solidFill>
              <a:prstDash val="dash"/>
              <a:miter/>
              <a:tailEnd len="med" type="arrow" w="med"/>
            </a:ln>
          </p:spPr>
        </p:cxnSp>
        <p:sp>
          <p:nvSpPr>
            <p:cNvPr id="252" name="TextBox 52"/>
            <p:cNvSpPr/>
            <p:nvPr/>
          </p:nvSpPr>
          <p:spPr>
            <a:xfrm>
              <a:off x="7103520" y="3059280"/>
              <a:ext cx="1751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Lobbaus ja kokemus-peräinen tieto</a:t>
              </a:r>
              <a:endParaRPr b="0" lang="en-US" sz="2000" spc="-1" strike="noStrike">
                <a:solidFill>
                  <a:srgbClr val="000000"/>
                </a:solidFill>
                <a:latin typeface="Arial"/>
              </a:endParaRPr>
            </a:p>
          </p:txBody>
        </p:sp>
        <p:sp>
          <p:nvSpPr>
            <p:cNvPr id="253" name="TextBox 56"/>
            <p:cNvSpPr/>
            <p:nvPr/>
          </p:nvSpPr>
          <p:spPr>
            <a:xfrm>
              <a:off x="4585320" y="5113800"/>
              <a:ext cx="151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Virkamies, valmistelija</a:t>
              </a:r>
              <a:endParaRPr b="0" lang="en-US" sz="2000" spc="-1" strike="noStrike">
                <a:solidFill>
                  <a:srgbClr val="000000"/>
                </a:solidFill>
                <a:latin typeface="Arial"/>
              </a:endParaRPr>
            </a:p>
          </p:txBody>
        </p:sp>
        <p:sp>
          <p:nvSpPr>
            <p:cNvPr id="254" name="TextBox 57"/>
            <p:cNvSpPr/>
            <p:nvPr/>
          </p:nvSpPr>
          <p:spPr>
            <a:xfrm>
              <a:off x="5653080" y="3555720"/>
              <a:ext cx="171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Sidosryhmät</a:t>
              </a:r>
              <a:endParaRPr b="0" lang="en-US" sz="2000" spc="-1" strike="noStrike">
                <a:solidFill>
                  <a:srgbClr val="000000"/>
                </a:solidFill>
                <a:latin typeface="Arial"/>
              </a:endParaRPr>
            </a:p>
          </p:txBody>
        </p:sp>
        <p:sp>
          <p:nvSpPr>
            <p:cNvPr id="255" name="TextBox 58"/>
            <p:cNvSpPr/>
            <p:nvPr/>
          </p:nvSpPr>
          <p:spPr>
            <a:xfrm>
              <a:off x="2542320" y="5981040"/>
              <a:ext cx="136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Tutkijoita</a:t>
              </a:r>
              <a:endParaRPr b="0" lang="en-US" sz="2000" spc="-1" strike="noStrike">
                <a:solidFill>
                  <a:srgbClr val="000000"/>
                </a:solidFill>
                <a:latin typeface="Arial"/>
              </a:endParaRPr>
            </a:p>
          </p:txBody>
        </p:sp>
        <p:sp>
          <p:nvSpPr>
            <p:cNvPr id="256" name="TextBox 59"/>
            <p:cNvSpPr/>
            <p:nvPr/>
          </p:nvSpPr>
          <p:spPr>
            <a:xfrm>
              <a:off x="2796480" y="3402720"/>
              <a:ext cx="1555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Asiantuntija</a:t>
              </a:r>
              <a:endParaRPr b="0" lang="en-US" sz="2000" spc="-1" strike="noStrike">
                <a:solidFill>
                  <a:srgbClr val="000000"/>
                </a:solidFill>
                <a:latin typeface="Arial"/>
              </a:endParaRPr>
            </a:p>
          </p:txBody>
        </p:sp>
        <p:sp>
          <p:nvSpPr>
            <p:cNvPr id="257" name="TextBox 60"/>
            <p:cNvSpPr/>
            <p:nvPr/>
          </p:nvSpPr>
          <p:spPr>
            <a:xfrm>
              <a:off x="3552840" y="1155600"/>
              <a:ext cx="118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Päättäjä</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28760" y="274680"/>
            <a:ext cx="8229600" cy="7984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500" spc="-1" strike="noStrike">
                <a:solidFill>
                  <a:srgbClr val="7bc143"/>
                </a:solidFill>
                <a:latin typeface="Arial"/>
              </a:rPr>
              <a:t>Tiedonkulku päätösvalmistelussa tulevaisuudessa</a:t>
            </a:r>
            <a:endParaRPr b="1" lang="en-US" sz="2500" spc="-1" strike="noStrike">
              <a:solidFill>
                <a:srgbClr val="7bc143"/>
              </a:solidFill>
              <a:latin typeface="Arial"/>
            </a:endParaRPr>
          </a:p>
        </p:txBody>
      </p:sp>
      <p:grpSp>
        <p:nvGrpSpPr>
          <p:cNvPr id="259" name="Group 7170"/>
          <p:cNvGrpSpPr/>
          <p:nvPr/>
        </p:nvGrpSpPr>
        <p:grpSpPr>
          <a:xfrm>
            <a:off x="0" y="1233360"/>
            <a:ext cx="8817120" cy="5401440"/>
            <a:chOff x="0" y="1233360"/>
            <a:chExt cx="8817120" cy="5401440"/>
          </a:xfrm>
        </p:grpSpPr>
        <p:sp>
          <p:nvSpPr>
            <p:cNvPr id="260" name="Rectangle 42"/>
            <p:cNvSpPr/>
            <p:nvPr/>
          </p:nvSpPr>
          <p:spPr>
            <a:xfrm>
              <a:off x="323280" y="5965920"/>
              <a:ext cx="1805040" cy="447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Picture 10" descr=""/>
            <p:cNvPicPr/>
            <p:nvPr/>
          </p:nvPicPr>
          <p:blipFill>
            <a:blip r:embed="rId1"/>
            <a:stretch/>
          </p:blipFill>
          <p:spPr>
            <a:xfrm>
              <a:off x="5603760" y="4874400"/>
              <a:ext cx="623520" cy="814320"/>
            </a:xfrm>
            <a:prstGeom prst="rect">
              <a:avLst/>
            </a:prstGeom>
            <a:ln w="0">
              <a:noFill/>
            </a:ln>
          </p:spPr>
        </p:pic>
        <p:pic>
          <p:nvPicPr>
            <p:cNvPr id="262" name="Picture 15" descr=""/>
            <p:cNvPicPr/>
            <p:nvPr/>
          </p:nvPicPr>
          <p:blipFill>
            <a:blip r:embed="rId2"/>
            <a:stretch/>
          </p:blipFill>
          <p:spPr>
            <a:xfrm>
              <a:off x="5797800" y="3951360"/>
              <a:ext cx="990360" cy="942840"/>
            </a:xfrm>
            <a:prstGeom prst="rect">
              <a:avLst/>
            </a:prstGeom>
            <a:ln w="0">
              <a:noFill/>
            </a:ln>
          </p:spPr>
        </p:pic>
        <p:pic>
          <p:nvPicPr>
            <p:cNvPr id="263" name="Picture 16" descr=""/>
            <p:cNvPicPr/>
            <p:nvPr/>
          </p:nvPicPr>
          <p:blipFill>
            <a:blip r:embed="rId3"/>
            <a:stretch/>
          </p:blipFill>
          <p:spPr>
            <a:xfrm>
              <a:off x="5259600" y="1662840"/>
              <a:ext cx="1104840" cy="923760"/>
            </a:xfrm>
            <a:prstGeom prst="rect">
              <a:avLst/>
            </a:prstGeom>
            <a:ln w="0">
              <a:noFill/>
            </a:ln>
          </p:spPr>
        </p:pic>
        <p:pic>
          <p:nvPicPr>
            <p:cNvPr id="264" name="Picture 17" descr=""/>
            <p:cNvPicPr/>
            <p:nvPr/>
          </p:nvPicPr>
          <p:blipFill>
            <a:blip r:embed="rId4"/>
            <a:stretch/>
          </p:blipFill>
          <p:spPr>
            <a:xfrm>
              <a:off x="514080" y="4486320"/>
              <a:ext cx="747360" cy="718920"/>
            </a:xfrm>
            <a:prstGeom prst="rect">
              <a:avLst/>
            </a:prstGeom>
            <a:ln w="0">
              <a:noFill/>
            </a:ln>
          </p:spPr>
        </p:pic>
        <p:pic>
          <p:nvPicPr>
            <p:cNvPr id="265" name="Picture 18" descr=""/>
            <p:cNvPicPr/>
            <p:nvPr/>
          </p:nvPicPr>
          <p:blipFill>
            <a:blip r:embed="rId5"/>
            <a:stretch/>
          </p:blipFill>
          <p:spPr>
            <a:xfrm>
              <a:off x="3170160" y="5251320"/>
              <a:ext cx="693720" cy="679320"/>
            </a:xfrm>
            <a:prstGeom prst="rect">
              <a:avLst/>
            </a:prstGeom>
            <a:ln w="0">
              <a:noFill/>
            </a:ln>
          </p:spPr>
        </p:pic>
        <p:pic>
          <p:nvPicPr>
            <p:cNvPr id="266" name="Picture 20" descr=""/>
            <p:cNvPicPr/>
            <p:nvPr/>
          </p:nvPicPr>
          <p:blipFill>
            <a:blip r:embed="rId6"/>
            <a:stretch/>
          </p:blipFill>
          <p:spPr>
            <a:xfrm>
              <a:off x="2131920" y="2052360"/>
              <a:ext cx="914040" cy="923760"/>
            </a:xfrm>
            <a:prstGeom prst="rect">
              <a:avLst/>
            </a:prstGeom>
            <a:ln w="0">
              <a:noFill/>
            </a:ln>
          </p:spPr>
        </p:pic>
        <p:pic>
          <p:nvPicPr>
            <p:cNvPr id="267" name="Picture 21" descr=""/>
            <p:cNvPicPr/>
            <p:nvPr/>
          </p:nvPicPr>
          <p:blipFill>
            <a:blip r:embed="rId7"/>
            <a:stretch/>
          </p:blipFill>
          <p:spPr>
            <a:xfrm>
              <a:off x="3916080" y="1233360"/>
              <a:ext cx="1056960" cy="933480"/>
            </a:xfrm>
            <a:prstGeom prst="rect">
              <a:avLst/>
            </a:prstGeom>
            <a:ln w="0">
              <a:noFill/>
            </a:ln>
          </p:spPr>
        </p:pic>
        <p:cxnSp>
          <p:nvCxnSpPr>
            <p:cNvPr id="268" name="Straight Arrow Connector 22"/>
            <p:cNvCxnSpPr/>
            <p:nvPr/>
          </p:nvCxnSpPr>
          <p:spPr>
            <a:xfrm flipH="1">
              <a:off x="4972680" y="2776320"/>
              <a:ext cx="1049400" cy="357840"/>
            </a:xfrm>
            <a:prstGeom prst="straightConnector1">
              <a:avLst/>
            </a:prstGeom>
            <a:ln w="9360">
              <a:solidFill>
                <a:srgbClr val="000000"/>
              </a:solidFill>
              <a:miter/>
              <a:tailEnd len="med" type="arrow" w="med"/>
            </a:ln>
          </p:spPr>
        </p:cxnSp>
        <p:cxnSp>
          <p:nvCxnSpPr>
            <p:cNvPr id="269" name="Straight Arrow Connector 23"/>
            <p:cNvCxnSpPr/>
            <p:nvPr/>
          </p:nvCxnSpPr>
          <p:spPr>
            <a:xfrm flipV="1">
              <a:off x="2013840" y="5393880"/>
              <a:ext cx="6840" cy="311760"/>
            </a:xfrm>
            <a:prstGeom prst="straightConnector1">
              <a:avLst/>
            </a:prstGeom>
            <a:ln w="9360">
              <a:solidFill>
                <a:srgbClr val="000000"/>
              </a:solidFill>
              <a:miter/>
              <a:tailEnd len="med" type="arrow" w="med"/>
            </a:ln>
          </p:spPr>
        </p:cxnSp>
        <p:cxnSp>
          <p:nvCxnSpPr>
            <p:cNvPr id="270" name="Straight Arrow Connector 24"/>
            <p:cNvCxnSpPr/>
            <p:nvPr/>
          </p:nvCxnSpPr>
          <p:spPr>
            <a:xfrm flipH="1" flipV="1">
              <a:off x="2327760" y="5369760"/>
              <a:ext cx="432360" cy="423000"/>
            </a:xfrm>
            <a:prstGeom prst="straightConnector1">
              <a:avLst/>
            </a:prstGeom>
            <a:ln w="9360">
              <a:solidFill>
                <a:srgbClr val="000000"/>
              </a:solidFill>
              <a:miter/>
              <a:tailEnd len="med" type="arrow" w="med"/>
            </a:ln>
          </p:spPr>
        </p:cxnSp>
        <p:cxnSp>
          <p:nvCxnSpPr>
            <p:cNvPr id="271" name="Straight Arrow Connector 25"/>
            <p:cNvCxnSpPr/>
            <p:nvPr/>
          </p:nvCxnSpPr>
          <p:spPr>
            <a:xfrm flipV="1">
              <a:off x="1385640" y="5384160"/>
              <a:ext cx="429120" cy="415080"/>
            </a:xfrm>
            <a:prstGeom prst="straightConnector1">
              <a:avLst/>
            </a:prstGeom>
            <a:ln w="9360">
              <a:solidFill>
                <a:srgbClr val="000000"/>
              </a:solidFill>
              <a:miter/>
              <a:tailEnd len="med" type="arrow" w="med"/>
            </a:ln>
          </p:spPr>
        </p:cxnSp>
        <p:cxnSp>
          <p:nvCxnSpPr>
            <p:cNvPr id="272" name="Straight Arrow Connector 27"/>
            <p:cNvCxnSpPr/>
            <p:nvPr/>
          </p:nvCxnSpPr>
          <p:spPr>
            <a:xfrm flipV="1">
              <a:off x="4209840" y="2166120"/>
              <a:ext cx="111600" cy="548280"/>
            </a:xfrm>
            <a:prstGeom prst="straightConnector1">
              <a:avLst/>
            </a:prstGeom>
            <a:ln w="9360">
              <a:solidFill>
                <a:srgbClr val="000000"/>
              </a:solidFill>
              <a:miter/>
              <a:headEnd len="med" type="arrow" w="med"/>
              <a:tailEnd len="med" type="arrow" w="med"/>
            </a:ln>
          </p:spPr>
        </p:cxnSp>
        <p:cxnSp>
          <p:nvCxnSpPr>
            <p:cNvPr id="273" name="Straight Arrow Connector 28"/>
            <p:cNvCxnSpPr>
              <a:endCxn id="263" idx="1"/>
            </p:cNvCxnSpPr>
            <p:nvPr/>
          </p:nvCxnSpPr>
          <p:spPr>
            <a:xfrm>
              <a:off x="4839480" y="1882440"/>
              <a:ext cx="420120" cy="242640"/>
            </a:xfrm>
            <a:prstGeom prst="straightConnector1">
              <a:avLst/>
            </a:prstGeom>
            <a:ln w="9360">
              <a:solidFill>
                <a:srgbClr val="000000"/>
              </a:solidFill>
              <a:prstDash val="dash"/>
              <a:miter/>
              <a:headEnd len="med" type="arrow" w="med"/>
              <a:tailEnd len="med" type="arrow" w="med"/>
            </a:ln>
          </p:spPr>
        </p:cxnSp>
        <p:sp>
          <p:nvSpPr>
            <p:cNvPr id="274" name="TextBox 29"/>
            <p:cNvSpPr/>
            <p:nvPr/>
          </p:nvSpPr>
          <p:spPr>
            <a:xfrm>
              <a:off x="3071880" y="5931000"/>
              <a:ext cx="188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Avoin alkuperäisdata</a:t>
              </a:r>
              <a:endParaRPr b="0" lang="en-US" sz="2000" spc="-1" strike="noStrike">
                <a:solidFill>
                  <a:srgbClr val="000000"/>
                </a:solidFill>
                <a:latin typeface="Arial"/>
              </a:endParaRPr>
            </a:p>
          </p:txBody>
        </p:sp>
        <p:sp>
          <p:nvSpPr>
            <p:cNvPr id="275" name="TextBox 30"/>
            <p:cNvSpPr/>
            <p:nvPr/>
          </p:nvSpPr>
          <p:spPr>
            <a:xfrm>
              <a:off x="2557080" y="442908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Tieteen tilannekatsaus</a:t>
              </a:r>
              <a:endParaRPr b="0" lang="en-US" sz="2000" spc="-1" strike="noStrike">
                <a:solidFill>
                  <a:srgbClr val="000000"/>
                </a:solidFill>
                <a:latin typeface="Arial"/>
              </a:endParaRPr>
            </a:p>
          </p:txBody>
        </p:sp>
        <p:pic>
          <p:nvPicPr>
            <p:cNvPr id="276" name="Picture 2" descr=""/>
            <p:cNvPicPr/>
            <p:nvPr/>
          </p:nvPicPr>
          <p:blipFill>
            <a:blip r:embed="rId8"/>
            <a:stretch/>
          </p:blipFill>
          <p:spPr>
            <a:xfrm>
              <a:off x="1463400" y="4390920"/>
              <a:ext cx="1125360" cy="966600"/>
            </a:xfrm>
            <a:prstGeom prst="rect">
              <a:avLst/>
            </a:prstGeom>
            <a:ln w="0">
              <a:noFill/>
            </a:ln>
          </p:spPr>
        </p:pic>
        <p:sp>
          <p:nvSpPr>
            <p:cNvPr id="277" name="Can 36"/>
            <p:cNvSpPr/>
            <p:nvPr/>
          </p:nvSpPr>
          <p:spPr>
            <a:xfrm>
              <a:off x="1157040" y="6033960"/>
              <a:ext cx="368280" cy="455400"/>
            </a:xfrm>
            <a:prstGeom prst="can">
              <a:avLst>
                <a:gd name="adj" fmla="val 2020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Can 37"/>
            <p:cNvSpPr/>
            <p:nvPr/>
          </p:nvSpPr>
          <p:spPr>
            <a:xfrm>
              <a:off x="2584080" y="6037200"/>
              <a:ext cx="368280" cy="457200"/>
            </a:xfrm>
            <a:prstGeom prst="can">
              <a:avLst>
                <a:gd name="adj" fmla="val 2013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Can 38"/>
            <p:cNvSpPr/>
            <p:nvPr/>
          </p:nvSpPr>
          <p:spPr>
            <a:xfrm>
              <a:off x="1869840" y="6033960"/>
              <a:ext cx="368280" cy="455400"/>
            </a:xfrm>
            <a:prstGeom prst="can">
              <a:avLst>
                <a:gd name="adj" fmla="val 2020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39"/>
            <p:cNvSpPr/>
            <p:nvPr/>
          </p:nvSpPr>
          <p:spPr>
            <a:xfrm>
              <a:off x="1792080" y="4630680"/>
              <a:ext cx="434880" cy="214200"/>
            </a:xfrm>
            <a:custGeom>
              <a:avLst/>
              <a:gdLst/>
              <a:ahLst/>
              <a:rect l="l" t="t" r="r" b="b"/>
              <a:pathLst>
                <a:path w="434743" h="214830">
                  <a:moveTo>
                    <a:pt x="0" y="212304"/>
                  </a:moveTo>
                  <a:cubicBezTo>
                    <a:pt x="6803" y="107529"/>
                    <a:pt x="13607" y="2754"/>
                    <a:pt x="81643" y="33"/>
                  </a:cubicBezTo>
                  <a:cubicBezTo>
                    <a:pt x="149679" y="-2688"/>
                    <a:pt x="356507" y="163319"/>
                    <a:pt x="408214" y="195976"/>
                  </a:cubicBezTo>
                  <a:cubicBezTo>
                    <a:pt x="459921" y="228633"/>
                    <a:pt x="425903" y="212304"/>
                    <a:pt x="391886" y="195976"/>
                  </a:cubicBezTo>
                </a:path>
              </a:pathLst>
            </a:custGeom>
            <a:noFill/>
            <a:ln w="25560">
              <a:solidFill>
                <a:srgbClr val="598d2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81" name="Straight Arrow Connector 40"/>
            <p:cNvCxnSpPr/>
            <p:nvPr/>
          </p:nvCxnSpPr>
          <p:spPr>
            <a:xfrm flipV="1">
              <a:off x="1261800" y="4720320"/>
              <a:ext cx="373680" cy="124200"/>
            </a:xfrm>
            <a:prstGeom prst="straightConnector1">
              <a:avLst/>
            </a:prstGeom>
            <a:ln w="9360">
              <a:solidFill>
                <a:srgbClr val="000000"/>
              </a:solidFill>
              <a:miter/>
              <a:headEnd len="med" type="arrow" w="med"/>
              <a:tailEnd len="med" type="arrow" w="med"/>
            </a:ln>
          </p:spPr>
        </p:cxnSp>
        <p:cxnSp>
          <p:nvCxnSpPr>
            <p:cNvPr id="282" name="Straight Arrow Connector 41"/>
            <p:cNvCxnSpPr/>
            <p:nvPr/>
          </p:nvCxnSpPr>
          <p:spPr>
            <a:xfrm>
              <a:off x="2583720" y="5101920"/>
              <a:ext cx="586440" cy="292680"/>
            </a:xfrm>
            <a:prstGeom prst="straightConnector1">
              <a:avLst/>
            </a:prstGeom>
            <a:ln w="9360">
              <a:solidFill>
                <a:srgbClr val="000000"/>
              </a:solidFill>
              <a:miter/>
              <a:headEnd len="med" type="arrow" w="med"/>
              <a:tailEnd len="med" type="arrow" w="med"/>
            </a:ln>
          </p:spPr>
        </p:cxnSp>
        <p:pic>
          <p:nvPicPr>
            <p:cNvPr id="283" name="Picture 2" descr=""/>
            <p:cNvPicPr/>
            <p:nvPr/>
          </p:nvPicPr>
          <p:blipFill>
            <a:blip r:embed="rId9"/>
            <a:stretch/>
          </p:blipFill>
          <p:spPr>
            <a:xfrm>
              <a:off x="3320640" y="2814480"/>
              <a:ext cx="1519200" cy="1401840"/>
            </a:xfrm>
            <a:prstGeom prst="rect">
              <a:avLst/>
            </a:prstGeom>
            <a:ln w="0">
              <a:noFill/>
            </a:ln>
          </p:spPr>
        </p:pic>
        <p:grpSp>
          <p:nvGrpSpPr>
            <p:cNvPr id="284" name="Group 53"/>
            <p:cNvGrpSpPr/>
            <p:nvPr/>
          </p:nvGrpSpPr>
          <p:grpSpPr>
            <a:xfrm>
              <a:off x="3835080" y="3287520"/>
              <a:ext cx="647640" cy="250560"/>
              <a:chOff x="3835080" y="3287520"/>
              <a:chExt cx="647640" cy="250560"/>
            </a:xfrm>
          </p:grpSpPr>
          <p:sp>
            <p:nvSpPr>
              <p:cNvPr id="285" name="Rectangle 49"/>
              <p:cNvSpPr/>
              <p:nvPr/>
            </p:nvSpPr>
            <p:spPr>
              <a:xfrm>
                <a:off x="3911040" y="3287520"/>
                <a:ext cx="160200" cy="250560"/>
              </a:xfrm>
              <a:prstGeom prst="rect">
                <a:avLst/>
              </a:prstGeom>
              <a:solidFill>
                <a:srgbClr val="7bc143"/>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50"/>
              <p:cNvSpPr/>
              <p:nvPr/>
            </p:nvSpPr>
            <p:spPr>
              <a:xfrm>
                <a:off x="4184280" y="3382560"/>
                <a:ext cx="189000" cy="155520"/>
              </a:xfrm>
              <a:prstGeom prst="rect">
                <a:avLst/>
              </a:prstGeom>
              <a:solidFill>
                <a:srgbClr val="6bc9c7"/>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Straight Connector 52"/>
              <p:cNvSpPr/>
              <p:nvPr/>
            </p:nvSpPr>
            <p:spPr>
              <a:xfrm>
                <a:off x="3835080" y="3538080"/>
                <a:ext cx="647640" cy="0"/>
              </a:xfrm>
              <a:prstGeom prst="line">
                <a:avLst/>
              </a:prstGeom>
              <a:ln w="2844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Straight Connector 57"/>
            <p:cNvSpPr/>
            <p:nvPr/>
          </p:nvSpPr>
          <p:spPr>
            <a:xfrm>
              <a:off x="3877920" y="310032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Straight Connector 58"/>
            <p:cNvSpPr/>
            <p:nvPr/>
          </p:nvSpPr>
          <p:spPr>
            <a:xfrm>
              <a:off x="3900240" y="313812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Straight Connector 59"/>
            <p:cNvSpPr/>
            <p:nvPr/>
          </p:nvSpPr>
          <p:spPr>
            <a:xfrm>
              <a:off x="3889080" y="320976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91" name="Straight Arrow Connector 61"/>
            <p:cNvCxnSpPr/>
            <p:nvPr/>
          </p:nvCxnSpPr>
          <p:spPr>
            <a:xfrm flipV="1">
              <a:off x="2414520" y="3807360"/>
              <a:ext cx="1008720" cy="541800"/>
            </a:xfrm>
            <a:prstGeom prst="straightConnector1">
              <a:avLst/>
            </a:prstGeom>
            <a:ln w="9360">
              <a:solidFill>
                <a:srgbClr val="000000"/>
              </a:solidFill>
              <a:miter/>
              <a:headEnd len="med" type="arrow" w="med"/>
              <a:tailEnd len="med" type="arrow" w="med"/>
            </a:ln>
          </p:spPr>
        </p:cxnSp>
        <p:cxnSp>
          <p:nvCxnSpPr>
            <p:cNvPr id="292" name="Straight Arrow Connector 63"/>
            <p:cNvCxnSpPr/>
            <p:nvPr/>
          </p:nvCxnSpPr>
          <p:spPr>
            <a:xfrm>
              <a:off x="3045960" y="2579400"/>
              <a:ext cx="456120" cy="397440"/>
            </a:xfrm>
            <a:prstGeom prst="straightConnector1">
              <a:avLst/>
            </a:prstGeom>
            <a:ln w="9360">
              <a:solidFill>
                <a:srgbClr val="000000"/>
              </a:solidFill>
              <a:miter/>
              <a:headEnd len="med" type="arrow" w="med"/>
              <a:tailEnd len="med" type="arrow" w="med"/>
            </a:ln>
          </p:spPr>
        </p:cxnSp>
        <p:cxnSp>
          <p:nvCxnSpPr>
            <p:cNvPr id="293" name="Straight Arrow Connector 34"/>
            <p:cNvCxnSpPr/>
            <p:nvPr/>
          </p:nvCxnSpPr>
          <p:spPr>
            <a:xfrm flipH="1" flipV="1">
              <a:off x="4728600" y="3807360"/>
              <a:ext cx="875520" cy="1037160"/>
            </a:xfrm>
            <a:prstGeom prst="straightConnector1">
              <a:avLst/>
            </a:prstGeom>
            <a:ln w="9360">
              <a:solidFill>
                <a:srgbClr val="000000"/>
              </a:solidFill>
              <a:miter/>
              <a:tailEnd len="med" type="arrow" w="med"/>
            </a:ln>
          </p:spPr>
        </p:cxnSp>
        <p:cxnSp>
          <p:nvCxnSpPr>
            <p:cNvPr id="294" name="Straight Arrow Connector 71"/>
            <p:cNvCxnSpPr/>
            <p:nvPr/>
          </p:nvCxnSpPr>
          <p:spPr>
            <a:xfrm flipV="1">
              <a:off x="4728960" y="2513880"/>
              <a:ext cx="645840" cy="524160"/>
            </a:xfrm>
            <a:prstGeom prst="straightConnector1">
              <a:avLst/>
            </a:prstGeom>
            <a:ln w="9360">
              <a:solidFill>
                <a:srgbClr val="000000"/>
              </a:solidFill>
              <a:miter/>
              <a:headEnd len="med" type="arrow" w="med"/>
              <a:tailEnd len="med" type="arrow" w="med"/>
            </a:ln>
          </p:spPr>
        </p:cxnSp>
        <p:cxnSp>
          <p:nvCxnSpPr>
            <p:cNvPr id="295" name="Straight Arrow Connector 73"/>
            <p:cNvCxnSpPr/>
            <p:nvPr/>
          </p:nvCxnSpPr>
          <p:spPr>
            <a:xfrm flipV="1">
              <a:off x="2988720" y="1881720"/>
              <a:ext cx="875160" cy="309960"/>
            </a:xfrm>
            <a:prstGeom prst="straightConnector1">
              <a:avLst/>
            </a:prstGeom>
            <a:ln w="9360">
              <a:solidFill>
                <a:srgbClr val="000000"/>
              </a:solidFill>
              <a:prstDash val="dash"/>
              <a:miter/>
              <a:headEnd len="med" type="arrow" w="med"/>
              <a:tailEnd len="med" type="arrow" w="med"/>
            </a:ln>
          </p:spPr>
        </p:cxnSp>
        <p:pic>
          <p:nvPicPr>
            <p:cNvPr id="296" name="Picture 7" descr=""/>
            <p:cNvPicPr/>
            <p:nvPr/>
          </p:nvPicPr>
          <p:blipFill>
            <a:blip r:embed="rId10"/>
            <a:stretch/>
          </p:blipFill>
          <p:spPr>
            <a:xfrm>
              <a:off x="1710720" y="2805120"/>
              <a:ext cx="620640" cy="612720"/>
            </a:xfrm>
            <a:prstGeom prst="rect">
              <a:avLst/>
            </a:prstGeom>
            <a:ln w="0">
              <a:noFill/>
            </a:ln>
          </p:spPr>
        </p:pic>
        <p:sp>
          <p:nvSpPr>
            <p:cNvPr id="297" name="TextBox 32"/>
            <p:cNvSpPr/>
            <p:nvPr/>
          </p:nvSpPr>
          <p:spPr>
            <a:xfrm>
              <a:off x="0" y="2739240"/>
              <a:ext cx="18601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Muu tieteelli-nen kirjallisuus</a:t>
              </a:r>
              <a:endParaRPr b="0" lang="en-US" sz="2000" spc="-1" strike="noStrike">
                <a:solidFill>
                  <a:srgbClr val="000000"/>
                </a:solidFill>
                <a:latin typeface="Arial"/>
              </a:endParaRPr>
            </a:p>
          </p:txBody>
        </p:sp>
        <p:cxnSp>
          <p:nvCxnSpPr>
            <p:cNvPr id="298" name="Straight Arrow Connector 26"/>
            <p:cNvCxnSpPr/>
            <p:nvPr/>
          </p:nvCxnSpPr>
          <p:spPr>
            <a:xfrm>
              <a:off x="2428200" y="3057480"/>
              <a:ext cx="998640" cy="152640"/>
            </a:xfrm>
            <a:prstGeom prst="straightConnector1">
              <a:avLst/>
            </a:prstGeom>
            <a:ln w="9360">
              <a:solidFill>
                <a:srgbClr val="000000"/>
              </a:solidFill>
              <a:miter/>
              <a:tailEnd len="med" type="arrow" w="med"/>
            </a:ln>
          </p:spPr>
        </p:cxnSp>
        <p:pic>
          <p:nvPicPr>
            <p:cNvPr id="299" name="Picture 11" descr=""/>
            <p:cNvPicPr/>
            <p:nvPr/>
          </p:nvPicPr>
          <p:blipFill>
            <a:blip r:embed="rId11"/>
            <a:stretch/>
          </p:blipFill>
          <p:spPr>
            <a:xfrm>
              <a:off x="6166080" y="2329560"/>
              <a:ext cx="971280" cy="769680"/>
            </a:xfrm>
            <a:prstGeom prst="rect">
              <a:avLst/>
            </a:prstGeom>
            <a:ln w="0">
              <a:noFill/>
            </a:ln>
          </p:spPr>
        </p:pic>
        <p:cxnSp>
          <p:nvCxnSpPr>
            <p:cNvPr id="300" name="Straight Arrow Connector 20"/>
            <p:cNvCxnSpPr/>
            <p:nvPr/>
          </p:nvCxnSpPr>
          <p:spPr>
            <a:xfrm flipH="1" flipV="1">
              <a:off x="4660560" y="3524760"/>
              <a:ext cx="1150920" cy="691920"/>
            </a:xfrm>
            <a:prstGeom prst="straightConnector1">
              <a:avLst/>
            </a:prstGeom>
            <a:ln w="9360">
              <a:solidFill>
                <a:srgbClr val="000000"/>
              </a:solidFill>
              <a:miter/>
              <a:headEnd len="med" type="arrow" w="med"/>
              <a:tailEnd len="med" type="arrow" w="med"/>
            </a:ln>
          </p:spPr>
        </p:cxnSp>
        <p:sp>
          <p:nvSpPr>
            <p:cNvPr id="301" name="TextBox 32"/>
            <p:cNvSpPr/>
            <p:nvPr/>
          </p:nvSpPr>
          <p:spPr>
            <a:xfrm>
              <a:off x="3659760" y="4042800"/>
              <a:ext cx="1211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Avoin arviointi</a:t>
              </a:r>
              <a:endParaRPr b="0" lang="en-US" sz="2000" spc="-1" strike="noStrike">
                <a:solidFill>
                  <a:srgbClr val="000000"/>
                </a:solidFill>
                <a:latin typeface="Arial"/>
              </a:endParaRPr>
            </a:p>
          </p:txBody>
        </p:sp>
        <p:sp>
          <p:nvSpPr>
            <p:cNvPr id="302" name="TextBox 51"/>
            <p:cNvSpPr/>
            <p:nvPr/>
          </p:nvSpPr>
          <p:spPr>
            <a:xfrm>
              <a:off x="6156000" y="4927680"/>
              <a:ext cx="1888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Virkamies-raportti</a:t>
              </a:r>
              <a:endParaRPr b="0" lang="en-US" sz="2000" spc="-1" strike="noStrike">
                <a:solidFill>
                  <a:srgbClr val="000000"/>
                </a:solidFill>
                <a:latin typeface="Arial"/>
              </a:endParaRPr>
            </a:p>
          </p:txBody>
        </p:sp>
        <p:sp>
          <p:nvSpPr>
            <p:cNvPr id="303" name="TextBox 52"/>
            <p:cNvSpPr/>
            <p:nvPr/>
          </p:nvSpPr>
          <p:spPr>
            <a:xfrm>
              <a:off x="7065720" y="2206440"/>
              <a:ext cx="1751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Lobbaus ja kokemus-peräinen tieto</a:t>
              </a:r>
              <a:endParaRPr b="0" lang="en-US" sz="2000" spc="-1" strike="noStrike">
                <a:solidFill>
                  <a:srgbClr val="000000"/>
                </a:solidFill>
                <a:latin typeface="Arial"/>
              </a:endParaRPr>
            </a:p>
          </p:txBody>
        </p:sp>
        <p:sp>
          <p:nvSpPr>
            <p:cNvPr id="304" name="TextBox 7169"/>
            <p:cNvSpPr/>
            <p:nvPr/>
          </p:nvSpPr>
          <p:spPr>
            <a:xfrm>
              <a:off x="6948000" y="4245840"/>
              <a:ext cx="151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Virkamies, valmistelija</a:t>
              </a:r>
              <a:endParaRPr b="0" lang="en-US" sz="2000" spc="-1" strike="noStrike">
                <a:solidFill>
                  <a:srgbClr val="000000"/>
                </a:solidFill>
                <a:latin typeface="Arial"/>
              </a:endParaRPr>
            </a:p>
          </p:txBody>
        </p:sp>
        <p:sp>
          <p:nvSpPr>
            <p:cNvPr id="305" name="TextBox 72"/>
            <p:cNvSpPr/>
            <p:nvPr/>
          </p:nvSpPr>
          <p:spPr>
            <a:xfrm>
              <a:off x="6453720" y="1724400"/>
              <a:ext cx="186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Sidosryhmät</a:t>
              </a:r>
              <a:endParaRPr b="0" lang="en-US" sz="2000" spc="-1" strike="noStrike">
                <a:solidFill>
                  <a:srgbClr val="000000"/>
                </a:solidFill>
                <a:latin typeface="Arial"/>
              </a:endParaRPr>
            </a:p>
          </p:txBody>
        </p:sp>
        <p:sp>
          <p:nvSpPr>
            <p:cNvPr id="306" name="TextBox 74"/>
            <p:cNvSpPr/>
            <p:nvPr/>
          </p:nvSpPr>
          <p:spPr>
            <a:xfrm>
              <a:off x="3900240" y="5406480"/>
              <a:ext cx="136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Tutkijoita</a:t>
              </a:r>
              <a:endParaRPr b="0" lang="en-US" sz="2000" spc="-1" strike="noStrike">
                <a:solidFill>
                  <a:srgbClr val="000000"/>
                </a:solidFill>
                <a:latin typeface="Arial"/>
              </a:endParaRPr>
            </a:p>
          </p:txBody>
        </p:sp>
        <p:sp>
          <p:nvSpPr>
            <p:cNvPr id="307" name="TextBox 75"/>
            <p:cNvSpPr/>
            <p:nvPr/>
          </p:nvSpPr>
          <p:spPr>
            <a:xfrm>
              <a:off x="514080" y="2240640"/>
              <a:ext cx="1555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Asiantuntija</a:t>
              </a:r>
              <a:endParaRPr b="0" lang="en-US" sz="2000" spc="-1" strike="noStrike">
                <a:solidFill>
                  <a:srgbClr val="000000"/>
                </a:solidFill>
                <a:latin typeface="Arial"/>
              </a:endParaRPr>
            </a:p>
          </p:txBody>
        </p:sp>
        <p:sp>
          <p:nvSpPr>
            <p:cNvPr id="308" name="TextBox 76"/>
            <p:cNvSpPr/>
            <p:nvPr/>
          </p:nvSpPr>
          <p:spPr>
            <a:xfrm>
              <a:off x="2760480" y="1315080"/>
              <a:ext cx="118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Päättäjä</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28760" y="274680"/>
            <a:ext cx="8229600" cy="7984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500" spc="-1" strike="noStrike">
                <a:solidFill>
                  <a:srgbClr val="7bc143"/>
                </a:solidFill>
                <a:latin typeface="Arial"/>
              </a:rPr>
              <a:t>Information flow in decision support in the future</a:t>
            </a:r>
            <a:endParaRPr b="1" lang="en-US" sz="2500" spc="-1" strike="noStrike">
              <a:solidFill>
                <a:srgbClr val="7bc143"/>
              </a:solidFill>
              <a:latin typeface="Arial"/>
            </a:endParaRPr>
          </a:p>
        </p:txBody>
      </p:sp>
      <p:grpSp>
        <p:nvGrpSpPr>
          <p:cNvPr id="310" name="Group 7170"/>
          <p:cNvGrpSpPr/>
          <p:nvPr/>
        </p:nvGrpSpPr>
        <p:grpSpPr>
          <a:xfrm>
            <a:off x="0" y="1217520"/>
            <a:ext cx="8817120" cy="5417280"/>
            <a:chOff x="0" y="1217520"/>
            <a:chExt cx="8817120" cy="5417280"/>
          </a:xfrm>
        </p:grpSpPr>
        <p:sp>
          <p:nvSpPr>
            <p:cNvPr id="311" name="Rectangle 42"/>
            <p:cNvSpPr/>
            <p:nvPr/>
          </p:nvSpPr>
          <p:spPr>
            <a:xfrm>
              <a:off x="323280" y="5965920"/>
              <a:ext cx="1805040" cy="447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10" descr=""/>
            <p:cNvPicPr/>
            <p:nvPr/>
          </p:nvPicPr>
          <p:blipFill>
            <a:blip r:embed="rId1"/>
            <a:stretch/>
          </p:blipFill>
          <p:spPr>
            <a:xfrm>
              <a:off x="5603760" y="4874760"/>
              <a:ext cx="623520" cy="814320"/>
            </a:xfrm>
            <a:prstGeom prst="rect">
              <a:avLst/>
            </a:prstGeom>
            <a:ln w="0">
              <a:noFill/>
            </a:ln>
          </p:spPr>
        </p:pic>
        <p:pic>
          <p:nvPicPr>
            <p:cNvPr id="313" name="Picture 15" descr=""/>
            <p:cNvPicPr/>
            <p:nvPr/>
          </p:nvPicPr>
          <p:blipFill>
            <a:blip r:embed="rId2"/>
            <a:stretch/>
          </p:blipFill>
          <p:spPr>
            <a:xfrm>
              <a:off x="5797800" y="3951720"/>
              <a:ext cx="990360" cy="942840"/>
            </a:xfrm>
            <a:prstGeom prst="rect">
              <a:avLst/>
            </a:prstGeom>
            <a:ln w="0">
              <a:noFill/>
            </a:ln>
          </p:spPr>
        </p:pic>
        <p:pic>
          <p:nvPicPr>
            <p:cNvPr id="314" name="Picture 16" descr=""/>
            <p:cNvPicPr/>
            <p:nvPr/>
          </p:nvPicPr>
          <p:blipFill>
            <a:blip r:embed="rId3"/>
            <a:stretch/>
          </p:blipFill>
          <p:spPr>
            <a:xfrm>
              <a:off x="5259600" y="1663200"/>
              <a:ext cx="1104840" cy="923760"/>
            </a:xfrm>
            <a:prstGeom prst="rect">
              <a:avLst/>
            </a:prstGeom>
            <a:ln w="0">
              <a:noFill/>
            </a:ln>
          </p:spPr>
        </p:pic>
        <p:pic>
          <p:nvPicPr>
            <p:cNvPr id="315" name="Picture 17" descr=""/>
            <p:cNvPicPr/>
            <p:nvPr/>
          </p:nvPicPr>
          <p:blipFill>
            <a:blip r:embed="rId4"/>
            <a:stretch/>
          </p:blipFill>
          <p:spPr>
            <a:xfrm>
              <a:off x="514080" y="4486680"/>
              <a:ext cx="747360" cy="718920"/>
            </a:xfrm>
            <a:prstGeom prst="rect">
              <a:avLst/>
            </a:prstGeom>
            <a:ln w="0">
              <a:noFill/>
            </a:ln>
          </p:spPr>
        </p:pic>
        <p:pic>
          <p:nvPicPr>
            <p:cNvPr id="316" name="Picture 18" descr=""/>
            <p:cNvPicPr/>
            <p:nvPr/>
          </p:nvPicPr>
          <p:blipFill>
            <a:blip r:embed="rId5"/>
            <a:stretch/>
          </p:blipFill>
          <p:spPr>
            <a:xfrm>
              <a:off x="3170160" y="5251680"/>
              <a:ext cx="693720" cy="679320"/>
            </a:xfrm>
            <a:prstGeom prst="rect">
              <a:avLst/>
            </a:prstGeom>
            <a:ln w="0">
              <a:noFill/>
            </a:ln>
          </p:spPr>
        </p:pic>
        <p:pic>
          <p:nvPicPr>
            <p:cNvPr id="317" name="Picture 20" descr=""/>
            <p:cNvPicPr/>
            <p:nvPr/>
          </p:nvPicPr>
          <p:blipFill>
            <a:blip r:embed="rId6"/>
            <a:stretch/>
          </p:blipFill>
          <p:spPr>
            <a:xfrm>
              <a:off x="2131920" y="2053080"/>
              <a:ext cx="914040" cy="923760"/>
            </a:xfrm>
            <a:prstGeom prst="rect">
              <a:avLst/>
            </a:prstGeom>
            <a:ln w="0">
              <a:noFill/>
            </a:ln>
          </p:spPr>
        </p:pic>
        <p:pic>
          <p:nvPicPr>
            <p:cNvPr id="318" name="Picture 21" descr=""/>
            <p:cNvPicPr/>
            <p:nvPr/>
          </p:nvPicPr>
          <p:blipFill>
            <a:blip r:embed="rId7"/>
            <a:stretch/>
          </p:blipFill>
          <p:spPr>
            <a:xfrm>
              <a:off x="3916080" y="1233720"/>
              <a:ext cx="1056960" cy="933120"/>
            </a:xfrm>
            <a:prstGeom prst="rect">
              <a:avLst/>
            </a:prstGeom>
            <a:ln w="0">
              <a:noFill/>
            </a:ln>
          </p:spPr>
        </p:pic>
        <p:cxnSp>
          <p:nvCxnSpPr>
            <p:cNvPr id="319" name="Straight Arrow Connector 22"/>
            <p:cNvCxnSpPr/>
            <p:nvPr/>
          </p:nvCxnSpPr>
          <p:spPr>
            <a:xfrm flipH="1">
              <a:off x="4972680" y="2776680"/>
              <a:ext cx="1049400" cy="357840"/>
            </a:xfrm>
            <a:prstGeom prst="straightConnector1">
              <a:avLst/>
            </a:prstGeom>
            <a:ln w="9360">
              <a:solidFill>
                <a:srgbClr val="000000"/>
              </a:solidFill>
              <a:miter/>
              <a:tailEnd len="med" type="arrow" w="med"/>
            </a:ln>
          </p:spPr>
        </p:cxnSp>
        <p:cxnSp>
          <p:nvCxnSpPr>
            <p:cNvPr id="320" name="Straight Arrow Connector 23"/>
            <p:cNvCxnSpPr/>
            <p:nvPr/>
          </p:nvCxnSpPr>
          <p:spPr>
            <a:xfrm flipV="1">
              <a:off x="2013840" y="5394240"/>
              <a:ext cx="6840" cy="311760"/>
            </a:xfrm>
            <a:prstGeom prst="straightConnector1">
              <a:avLst/>
            </a:prstGeom>
            <a:ln w="9360">
              <a:solidFill>
                <a:srgbClr val="000000"/>
              </a:solidFill>
              <a:miter/>
              <a:tailEnd len="med" type="arrow" w="med"/>
            </a:ln>
          </p:spPr>
        </p:cxnSp>
        <p:cxnSp>
          <p:nvCxnSpPr>
            <p:cNvPr id="321" name="Straight Arrow Connector 24"/>
            <p:cNvCxnSpPr/>
            <p:nvPr/>
          </p:nvCxnSpPr>
          <p:spPr>
            <a:xfrm flipH="1" flipV="1">
              <a:off x="2327760" y="5370480"/>
              <a:ext cx="432360" cy="422640"/>
            </a:xfrm>
            <a:prstGeom prst="straightConnector1">
              <a:avLst/>
            </a:prstGeom>
            <a:ln w="9360">
              <a:solidFill>
                <a:srgbClr val="000000"/>
              </a:solidFill>
              <a:miter/>
              <a:tailEnd len="med" type="arrow" w="med"/>
            </a:ln>
          </p:spPr>
        </p:cxnSp>
        <p:cxnSp>
          <p:nvCxnSpPr>
            <p:cNvPr id="322" name="Straight Arrow Connector 25"/>
            <p:cNvCxnSpPr/>
            <p:nvPr/>
          </p:nvCxnSpPr>
          <p:spPr>
            <a:xfrm flipV="1">
              <a:off x="1385640" y="5384520"/>
              <a:ext cx="429120" cy="414720"/>
            </a:xfrm>
            <a:prstGeom prst="straightConnector1">
              <a:avLst/>
            </a:prstGeom>
            <a:ln w="9360">
              <a:solidFill>
                <a:srgbClr val="000000"/>
              </a:solidFill>
              <a:miter/>
              <a:tailEnd len="med" type="arrow" w="med"/>
            </a:ln>
          </p:spPr>
        </p:cxnSp>
        <p:cxnSp>
          <p:nvCxnSpPr>
            <p:cNvPr id="323" name="Straight Arrow Connector 27"/>
            <p:cNvCxnSpPr/>
            <p:nvPr/>
          </p:nvCxnSpPr>
          <p:spPr>
            <a:xfrm flipV="1">
              <a:off x="4209840" y="2166480"/>
              <a:ext cx="111600" cy="548280"/>
            </a:xfrm>
            <a:prstGeom prst="straightConnector1">
              <a:avLst/>
            </a:prstGeom>
            <a:ln w="9360">
              <a:solidFill>
                <a:srgbClr val="000000"/>
              </a:solidFill>
              <a:miter/>
              <a:headEnd len="med" type="arrow" w="med"/>
              <a:tailEnd len="med" type="arrow" w="med"/>
            </a:ln>
          </p:spPr>
        </p:cxnSp>
        <p:cxnSp>
          <p:nvCxnSpPr>
            <p:cNvPr id="324" name="Straight Arrow Connector 28"/>
            <p:cNvCxnSpPr>
              <a:endCxn id="314" idx="1"/>
            </p:cNvCxnSpPr>
            <p:nvPr/>
          </p:nvCxnSpPr>
          <p:spPr>
            <a:xfrm>
              <a:off x="4839480" y="1883160"/>
              <a:ext cx="420120" cy="242640"/>
            </a:xfrm>
            <a:prstGeom prst="straightConnector1">
              <a:avLst/>
            </a:prstGeom>
            <a:ln w="9360">
              <a:solidFill>
                <a:srgbClr val="000000"/>
              </a:solidFill>
              <a:prstDash val="dash"/>
              <a:miter/>
              <a:headEnd len="med" type="arrow" w="med"/>
              <a:tailEnd len="med" type="arrow" w="med"/>
            </a:ln>
          </p:spPr>
        </p:cxnSp>
        <p:sp>
          <p:nvSpPr>
            <p:cNvPr id="325" name="TextBox 29"/>
            <p:cNvSpPr/>
            <p:nvPr/>
          </p:nvSpPr>
          <p:spPr>
            <a:xfrm>
              <a:off x="3071880" y="5931000"/>
              <a:ext cx="188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Open original data</a:t>
              </a:r>
              <a:endParaRPr b="0" lang="en-US" sz="2000" spc="-1" strike="noStrike">
                <a:solidFill>
                  <a:srgbClr val="000000"/>
                </a:solidFill>
                <a:latin typeface="Arial"/>
              </a:endParaRPr>
            </a:p>
          </p:txBody>
        </p:sp>
        <p:sp>
          <p:nvSpPr>
            <p:cNvPr id="326" name="TextBox 30"/>
            <p:cNvSpPr/>
            <p:nvPr/>
          </p:nvSpPr>
          <p:spPr>
            <a:xfrm>
              <a:off x="122040" y="5221440"/>
              <a:ext cx="13413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Scientific analysis</a:t>
              </a:r>
              <a:endParaRPr b="0" lang="en-US" sz="2000" spc="-1" strike="noStrike">
                <a:solidFill>
                  <a:srgbClr val="000000"/>
                </a:solidFill>
                <a:latin typeface="Arial"/>
              </a:endParaRPr>
            </a:p>
          </p:txBody>
        </p:sp>
        <p:pic>
          <p:nvPicPr>
            <p:cNvPr id="327" name="Picture 2" descr=""/>
            <p:cNvPicPr/>
            <p:nvPr/>
          </p:nvPicPr>
          <p:blipFill>
            <a:blip r:embed="rId8"/>
            <a:stretch/>
          </p:blipFill>
          <p:spPr>
            <a:xfrm>
              <a:off x="1463400" y="4391280"/>
              <a:ext cx="1125360" cy="966600"/>
            </a:xfrm>
            <a:prstGeom prst="rect">
              <a:avLst/>
            </a:prstGeom>
            <a:ln w="0">
              <a:noFill/>
            </a:ln>
          </p:spPr>
        </p:pic>
        <p:sp>
          <p:nvSpPr>
            <p:cNvPr id="328" name="Can 36"/>
            <p:cNvSpPr/>
            <p:nvPr/>
          </p:nvSpPr>
          <p:spPr>
            <a:xfrm>
              <a:off x="1157040" y="6034320"/>
              <a:ext cx="368280" cy="455400"/>
            </a:xfrm>
            <a:prstGeom prst="can">
              <a:avLst>
                <a:gd name="adj" fmla="val 2020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Can 37"/>
            <p:cNvSpPr/>
            <p:nvPr/>
          </p:nvSpPr>
          <p:spPr>
            <a:xfrm>
              <a:off x="2584080" y="6037560"/>
              <a:ext cx="368280" cy="456840"/>
            </a:xfrm>
            <a:prstGeom prst="can">
              <a:avLst>
                <a:gd name="adj" fmla="val 2013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Can 38"/>
            <p:cNvSpPr/>
            <p:nvPr/>
          </p:nvSpPr>
          <p:spPr>
            <a:xfrm>
              <a:off x="1869840" y="6034320"/>
              <a:ext cx="368280" cy="455400"/>
            </a:xfrm>
            <a:prstGeom prst="can">
              <a:avLst>
                <a:gd name="adj" fmla="val 20208"/>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39"/>
            <p:cNvSpPr/>
            <p:nvPr/>
          </p:nvSpPr>
          <p:spPr>
            <a:xfrm>
              <a:off x="1792080" y="4631040"/>
              <a:ext cx="434880" cy="214200"/>
            </a:xfrm>
            <a:custGeom>
              <a:avLst/>
              <a:gdLst/>
              <a:ahLst/>
              <a:rect l="l" t="t" r="r" b="b"/>
              <a:pathLst>
                <a:path w="434743" h="214830">
                  <a:moveTo>
                    <a:pt x="0" y="212304"/>
                  </a:moveTo>
                  <a:cubicBezTo>
                    <a:pt x="6803" y="107529"/>
                    <a:pt x="13607" y="2754"/>
                    <a:pt x="81643" y="33"/>
                  </a:cubicBezTo>
                  <a:cubicBezTo>
                    <a:pt x="149679" y="-2688"/>
                    <a:pt x="356507" y="163319"/>
                    <a:pt x="408214" y="195976"/>
                  </a:cubicBezTo>
                  <a:cubicBezTo>
                    <a:pt x="459921" y="228633"/>
                    <a:pt x="425903" y="212304"/>
                    <a:pt x="391886" y="195976"/>
                  </a:cubicBezTo>
                </a:path>
              </a:pathLst>
            </a:custGeom>
            <a:noFill/>
            <a:ln w="25560">
              <a:solidFill>
                <a:srgbClr val="598d2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32" name="Straight Arrow Connector 40"/>
            <p:cNvCxnSpPr/>
            <p:nvPr/>
          </p:nvCxnSpPr>
          <p:spPr>
            <a:xfrm flipV="1">
              <a:off x="1261800" y="4720680"/>
              <a:ext cx="373680" cy="124200"/>
            </a:xfrm>
            <a:prstGeom prst="straightConnector1">
              <a:avLst/>
            </a:prstGeom>
            <a:ln w="9360">
              <a:solidFill>
                <a:srgbClr val="000000"/>
              </a:solidFill>
              <a:miter/>
              <a:headEnd len="med" type="arrow" w="med"/>
              <a:tailEnd len="med" type="arrow" w="med"/>
            </a:ln>
          </p:spPr>
        </p:cxnSp>
        <p:cxnSp>
          <p:nvCxnSpPr>
            <p:cNvPr id="333" name="Straight Arrow Connector 41"/>
            <p:cNvCxnSpPr/>
            <p:nvPr/>
          </p:nvCxnSpPr>
          <p:spPr>
            <a:xfrm>
              <a:off x="2583720" y="5101920"/>
              <a:ext cx="586440" cy="292680"/>
            </a:xfrm>
            <a:prstGeom prst="straightConnector1">
              <a:avLst/>
            </a:prstGeom>
            <a:ln w="9360">
              <a:solidFill>
                <a:srgbClr val="000000"/>
              </a:solidFill>
              <a:miter/>
              <a:headEnd len="med" type="arrow" w="med"/>
              <a:tailEnd len="med" type="arrow" w="med"/>
            </a:ln>
          </p:spPr>
        </p:cxnSp>
        <p:pic>
          <p:nvPicPr>
            <p:cNvPr id="334" name="Picture 2" descr=""/>
            <p:cNvPicPr/>
            <p:nvPr/>
          </p:nvPicPr>
          <p:blipFill>
            <a:blip r:embed="rId9"/>
            <a:stretch/>
          </p:blipFill>
          <p:spPr>
            <a:xfrm>
              <a:off x="3320640" y="2814840"/>
              <a:ext cx="1519200" cy="1401480"/>
            </a:xfrm>
            <a:prstGeom prst="rect">
              <a:avLst/>
            </a:prstGeom>
            <a:ln w="0">
              <a:noFill/>
            </a:ln>
          </p:spPr>
        </p:pic>
        <p:grpSp>
          <p:nvGrpSpPr>
            <p:cNvPr id="335" name="Group 53"/>
            <p:cNvGrpSpPr/>
            <p:nvPr/>
          </p:nvGrpSpPr>
          <p:grpSpPr>
            <a:xfrm>
              <a:off x="3835080" y="3287880"/>
              <a:ext cx="647640" cy="250560"/>
              <a:chOff x="3835080" y="3287880"/>
              <a:chExt cx="647640" cy="250560"/>
            </a:xfrm>
          </p:grpSpPr>
          <p:sp>
            <p:nvSpPr>
              <p:cNvPr id="336" name="Rectangle 49"/>
              <p:cNvSpPr/>
              <p:nvPr/>
            </p:nvSpPr>
            <p:spPr>
              <a:xfrm>
                <a:off x="3911040" y="3287880"/>
                <a:ext cx="160200" cy="250560"/>
              </a:xfrm>
              <a:prstGeom prst="rect">
                <a:avLst/>
              </a:prstGeom>
              <a:solidFill>
                <a:srgbClr val="7bc143"/>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50"/>
              <p:cNvSpPr/>
              <p:nvPr/>
            </p:nvSpPr>
            <p:spPr>
              <a:xfrm>
                <a:off x="4184280" y="3382920"/>
                <a:ext cx="189000" cy="155520"/>
              </a:xfrm>
              <a:prstGeom prst="rect">
                <a:avLst/>
              </a:prstGeom>
              <a:solidFill>
                <a:srgbClr val="6bc9c7"/>
              </a:solidFill>
              <a:ln w="25560">
                <a:solidFill>
                  <a:srgbClr val="598d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Straight Connector 52"/>
              <p:cNvSpPr/>
              <p:nvPr/>
            </p:nvSpPr>
            <p:spPr>
              <a:xfrm>
                <a:off x="3835080" y="3538440"/>
                <a:ext cx="647640" cy="0"/>
              </a:xfrm>
              <a:prstGeom prst="line">
                <a:avLst/>
              </a:prstGeom>
              <a:ln w="2844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9" name="Straight Connector 57"/>
            <p:cNvSpPr/>
            <p:nvPr/>
          </p:nvSpPr>
          <p:spPr>
            <a:xfrm>
              <a:off x="3877920" y="310068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Straight Connector 58"/>
            <p:cNvSpPr/>
            <p:nvPr/>
          </p:nvSpPr>
          <p:spPr>
            <a:xfrm>
              <a:off x="3900240" y="313884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Straight Connector 59"/>
            <p:cNvSpPr/>
            <p:nvPr/>
          </p:nvSpPr>
          <p:spPr>
            <a:xfrm>
              <a:off x="3889080" y="3210120"/>
              <a:ext cx="442800" cy="0"/>
            </a:xfrm>
            <a:prstGeom prst="line">
              <a:avLst/>
            </a:prstGeom>
            <a:ln w="9360">
              <a:solidFill>
                <a:srgbClr val="78c0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42" name="Straight Arrow Connector 61"/>
            <p:cNvCxnSpPr/>
            <p:nvPr/>
          </p:nvCxnSpPr>
          <p:spPr>
            <a:xfrm flipV="1">
              <a:off x="2414520" y="3808080"/>
              <a:ext cx="1008720" cy="541800"/>
            </a:xfrm>
            <a:prstGeom prst="straightConnector1">
              <a:avLst/>
            </a:prstGeom>
            <a:ln w="9360">
              <a:solidFill>
                <a:srgbClr val="000000"/>
              </a:solidFill>
              <a:miter/>
              <a:headEnd len="med" type="arrow" w="med"/>
              <a:tailEnd len="med" type="arrow" w="med"/>
            </a:ln>
          </p:spPr>
        </p:cxnSp>
        <p:cxnSp>
          <p:nvCxnSpPr>
            <p:cNvPr id="343" name="Straight Arrow Connector 63"/>
            <p:cNvCxnSpPr/>
            <p:nvPr/>
          </p:nvCxnSpPr>
          <p:spPr>
            <a:xfrm>
              <a:off x="3045960" y="2580120"/>
              <a:ext cx="456120" cy="397440"/>
            </a:xfrm>
            <a:prstGeom prst="straightConnector1">
              <a:avLst/>
            </a:prstGeom>
            <a:ln w="9360">
              <a:solidFill>
                <a:srgbClr val="000000"/>
              </a:solidFill>
              <a:miter/>
              <a:headEnd len="med" type="arrow" w="med"/>
              <a:tailEnd len="med" type="arrow" w="med"/>
            </a:ln>
          </p:spPr>
        </p:cxnSp>
        <p:cxnSp>
          <p:nvCxnSpPr>
            <p:cNvPr id="344" name="Straight Arrow Connector 34"/>
            <p:cNvCxnSpPr/>
            <p:nvPr/>
          </p:nvCxnSpPr>
          <p:spPr>
            <a:xfrm flipH="1" flipV="1">
              <a:off x="4728600" y="3808080"/>
              <a:ext cx="875520" cy="1037160"/>
            </a:xfrm>
            <a:prstGeom prst="straightConnector1">
              <a:avLst/>
            </a:prstGeom>
            <a:ln w="9360">
              <a:solidFill>
                <a:srgbClr val="000000"/>
              </a:solidFill>
              <a:miter/>
              <a:tailEnd len="med" type="arrow" w="med"/>
            </a:ln>
          </p:spPr>
        </p:cxnSp>
        <p:cxnSp>
          <p:nvCxnSpPr>
            <p:cNvPr id="345" name="Straight Arrow Connector 71"/>
            <p:cNvCxnSpPr/>
            <p:nvPr/>
          </p:nvCxnSpPr>
          <p:spPr>
            <a:xfrm flipV="1">
              <a:off x="4728960" y="2514600"/>
              <a:ext cx="645840" cy="524160"/>
            </a:xfrm>
            <a:prstGeom prst="straightConnector1">
              <a:avLst/>
            </a:prstGeom>
            <a:ln w="9360">
              <a:solidFill>
                <a:srgbClr val="000000"/>
              </a:solidFill>
              <a:miter/>
              <a:headEnd len="med" type="arrow" w="med"/>
              <a:tailEnd len="med" type="arrow" w="med"/>
            </a:ln>
          </p:spPr>
        </p:cxnSp>
        <p:cxnSp>
          <p:nvCxnSpPr>
            <p:cNvPr id="346" name="Straight Arrow Connector 73"/>
            <p:cNvCxnSpPr/>
            <p:nvPr/>
          </p:nvCxnSpPr>
          <p:spPr>
            <a:xfrm flipV="1">
              <a:off x="2988720" y="1882440"/>
              <a:ext cx="875160" cy="309960"/>
            </a:xfrm>
            <a:prstGeom prst="straightConnector1">
              <a:avLst/>
            </a:prstGeom>
            <a:ln w="9360">
              <a:solidFill>
                <a:srgbClr val="000000"/>
              </a:solidFill>
              <a:prstDash val="dash"/>
              <a:miter/>
              <a:headEnd len="med" type="arrow" w="med"/>
              <a:tailEnd len="med" type="arrow" w="med"/>
            </a:ln>
          </p:spPr>
        </p:cxnSp>
        <p:pic>
          <p:nvPicPr>
            <p:cNvPr id="347" name="Picture 7" descr=""/>
            <p:cNvPicPr/>
            <p:nvPr/>
          </p:nvPicPr>
          <p:blipFill>
            <a:blip r:embed="rId10"/>
            <a:stretch/>
          </p:blipFill>
          <p:spPr>
            <a:xfrm>
              <a:off x="1710720" y="2805840"/>
              <a:ext cx="620640" cy="612720"/>
            </a:xfrm>
            <a:prstGeom prst="rect">
              <a:avLst/>
            </a:prstGeom>
            <a:ln w="0">
              <a:noFill/>
            </a:ln>
          </p:spPr>
        </p:pic>
        <p:sp>
          <p:nvSpPr>
            <p:cNvPr id="348" name="TextBox 32"/>
            <p:cNvSpPr/>
            <p:nvPr/>
          </p:nvSpPr>
          <p:spPr>
            <a:xfrm>
              <a:off x="0" y="2739600"/>
              <a:ext cx="186012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Other scientific literature</a:t>
              </a:r>
              <a:endParaRPr b="0" lang="en-US" sz="2000" spc="-1" strike="noStrike">
                <a:solidFill>
                  <a:srgbClr val="000000"/>
                </a:solidFill>
                <a:latin typeface="Arial"/>
              </a:endParaRPr>
            </a:p>
          </p:txBody>
        </p:sp>
        <p:cxnSp>
          <p:nvCxnSpPr>
            <p:cNvPr id="349" name="Straight Arrow Connector 26"/>
            <p:cNvCxnSpPr/>
            <p:nvPr/>
          </p:nvCxnSpPr>
          <p:spPr>
            <a:xfrm>
              <a:off x="2428200" y="3058200"/>
              <a:ext cx="998640" cy="152640"/>
            </a:xfrm>
            <a:prstGeom prst="straightConnector1">
              <a:avLst/>
            </a:prstGeom>
            <a:ln w="9360">
              <a:solidFill>
                <a:srgbClr val="000000"/>
              </a:solidFill>
              <a:miter/>
              <a:tailEnd len="med" type="arrow" w="med"/>
            </a:ln>
          </p:spPr>
        </p:cxnSp>
        <p:pic>
          <p:nvPicPr>
            <p:cNvPr id="350" name="Picture 11" descr=""/>
            <p:cNvPicPr/>
            <p:nvPr/>
          </p:nvPicPr>
          <p:blipFill>
            <a:blip r:embed="rId11"/>
            <a:stretch/>
          </p:blipFill>
          <p:spPr>
            <a:xfrm>
              <a:off x="6166080" y="2329920"/>
              <a:ext cx="971280" cy="769680"/>
            </a:xfrm>
            <a:prstGeom prst="rect">
              <a:avLst/>
            </a:prstGeom>
            <a:ln w="0">
              <a:noFill/>
            </a:ln>
          </p:spPr>
        </p:pic>
        <p:cxnSp>
          <p:nvCxnSpPr>
            <p:cNvPr id="351" name="Straight Arrow Connector 20"/>
            <p:cNvCxnSpPr/>
            <p:nvPr/>
          </p:nvCxnSpPr>
          <p:spPr>
            <a:xfrm flipH="1" flipV="1">
              <a:off x="4660560" y="3525120"/>
              <a:ext cx="1150920" cy="691920"/>
            </a:xfrm>
            <a:prstGeom prst="straightConnector1">
              <a:avLst/>
            </a:prstGeom>
            <a:ln w="9360">
              <a:solidFill>
                <a:srgbClr val="000000"/>
              </a:solidFill>
              <a:miter/>
              <a:headEnd len="med" type="arrow" w="med"/>
              <a:tailEnd len="med" type="arrow" w="med"/>
            </a:ln>
          </p:spPr>
        </p:cxnSp>
        <p:sp>
          <p:nvSpPr>
            <p:cNvPr id="352" name="TextBox 32"/>
            <p:cNvSpPr/>
            <p:nvPr/>
          </p:nvSpPr>
          <p:spPr>
            <a:xfrm>
              <a:off x="3347280" y="4049640"/>
              <a:ext cx="1623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Open assessment</a:t>
              </a:r>
              <a:endParaRPr b="0" lang="en-US" sz="2000" spc="-1" strike="noStrike">
                <a:solidFill>
                  <a:srgbClr val="000000"/>
                </a:solidFill>
                <a:latin typeface="Arial"/>
              </a:endParaRPr>
            </a:p>
          </p:txBody>
        </p:sp>
        <p:sp>
          <p:nvSpPr>
            <p:cNvPr id="353" name="TextBox 51"/>
            <p:cNvSpPr/>
            <p:nvPr/>
          </p:nvSpPr>
          <p:spPr>
            <a:xfrm>
              <a:off x="6156000" y="4927680"/>
              <a:ext cx="188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Report</a:t>
              </a:r>
              <a:endParaRPr b="0" lang="en-US" sz="2000" spc="-1" strike="noStrike">
                <a:solidFill>
                  <a:srgbClr val="000000"/>
                </a:solidFill>
                <a:latin typeface="Arial"/>
              </a:endParaRPr>
            </a:p>
          </p:txBody>
        </p:sp>
        <p:sp>
          <p:nvSpPr>
            <p:cNvPr id="354" name="TextBox 52"/>
            <p:cNvSpPr/>
            <p:nvPr/>
          </p:nvSpPr>
          <p:spPr>
            <a:xfrm>
              <a:off x="7065720" y="2207160"/>
              <a:ext cx="1751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ea typeface="Arial"/>
                </a:rPr>
                <a:t>Practical knowledge and lobbying</a:t>
              </a:r>
              <a:endParaRPr b="0" lang="en-US" sz="2000" spc="-1" strike="noStrike">
                <a:solidFill>
                  <a:srgbClr val="000000"/>
                </a:solidFill>
                <a:latin typeface="Arial"/>
              </a:endParaRPr>
            </a:p>
          </p:txBody>
        </p:sp>
        <p:sp>
          <p:nvSpPr>
            <p:cNvPr id="355" name="TextBox 7169"/>
            <p:cNvSpPr/>
            <p:nvPr/>
          </p:nvSpPr>
          <p:spPr>
            <a:xfrm>
              <a:off x="6788520" y="4246200"/>
              <a:ext cx="165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Civil servant</a:t>
              </a:r>
              <a:endParaRPr b="0" lang="en-US" sz="2000" spc="-1" strike="noStrike">
                <a:solidFill>
                  <a:srgbClr val="000000"/>
                </a:solidFill>
                <a:latin typeface="Arial"/>
              </a:endParaRPr>
            </a:p>
          </p:txBody>
        </p:sp>
        <p:sp>
          <p:nvSpPr>
            <p:cNvPr id="356" name="TextBox 72"/>
            <p:cNvSpPr/>
            <p:nvPr/>
          </p:nvSpPr>
          <p:spPr>
            <a:xfrm>
              <a:off x="6453720" y="1725120"/>
              <a:ext cx="186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Stakeholders</a:t>
              </a:r>
              <a:endParaRPr b="0" lang="en-US" sz="2000" spc="-1" strike="noStrike">
                <a:solidFill>
                  <a:srgbClr val="000000"/>
                </a:solidFill>
                <a:latin typeface="Arial"/>
              </a:endParaRPr>
            </a:p>
          </p:txBody>
        </p:sp>
        <p:sp>
          <p:nvSpPr>
            <p:cNvPr id="357" name="TextBox 74"/>
            <p:cNvSpPr/>
            <p:nvPr/>
          </p:nvSpPr>
          <p:spPr>
            <a:xfrm>
              <a:off x="3900240" y="5406480"/>
              <a:ext cx="1703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Researchers</a:t>
              </a:r>
              <a:endParaRPr b="0" lang="en-US" sz="2000" spc="-1" strike="noStrike">
                <a:solidFill>
                  <a:srgbClr val="000000"/>
                </a:solidFill>
                <a:latin typeface="Arial"/>
              </a:endParaRPr>
            </a:p>
          </p:txBody>
        </p:sp>
        <p:sp>
          <p:nvSpPr>
            <p:cNvPr id="358" name="TextBox 75"/>
            <p:cNvSpPr/>
            <p:nvPr/>
          </p:nvSpPr>
          <p:spPr>
            <a:xfrm>
              <a:off x="514080" y="2241000"/>
              <a:ext cx="15555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Expert</a:t>
              </a:r>
              <a:endParaRPr b="0" lang="en-US" sz="2000" spc="-1" strike="noStrike">
                <a:solidFill>
                  <a:srgbClr val="000000"/>
                </a:solidFill>
                <a:latin typeface="Arial"/>
              </a:endParaRPr>
            </a:p>
          </p:txBody>
        </p:sp>
        <p:sp>
          <p:nvSpPr>
            <p:cNvPr id="359" name="TextBox 76"/>
            <p:cNvSpPr/>
            <p:nvPr/>
          </p:nvSpPr>
          <p:spPr>
            <a:xfrm>
              <a:off x="2768400" y="1217520"/>
              <a:ext cx="118836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7bc143"/>
                  </a:solidFill>
                  <a:latin typeface="Arial"/>
                </a:rPr>
                <a:t>Decision maker</a:t>
              </a:r>
              <a:endParaRPr b="0" lang="en-US" sz="20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Nettimallinnus yhteiskunnan päätöksenteossa</a:t>
            </a:r>
            <a:endParaRPr b="1" lang="en-US" sz="2800" spc="-1" strike="noStrike">
              <a:solidFill>
                <a:srgbClr val="7bc143"/>
              </a:solidFill>
              <a:latin typeface="Arial"/>
            </a:endParaRPr>
          </a:p>
        </p:txBody>
      </p:sp>
      <p:sp>
        <p:nvSpPr>
          <p:cNvPr id="361" name=""/>
          <p:cNvSpPr txBox="1"/>
          <p:nvPr/>
        </p:nvSpPr>
        <p:spPr>
          <a:xfrm>
            <a:off x="456840" y="1484280"/>
            <a:ext cx="8218440" cy="4392720"/>
          </a:xfrm>
          <a:prstGeom prst="rect">
            <a:avLst/>
          </a:prstGeom>
          <a:noFill/>
          <a:ln w="0">
            <a:noFill/>
          </a:ln>
        </p:spPr>
        <p:txBody>
          <a:bodyPr anchor="t">
            <a:normAutofit fontScale="97000"/>
          </a:bodyPr>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ahdollistaa päätösten ennakkoarvioinnin eli vaikutusarvioinnin.</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ntaa kansalaiselle saman informaation ja työkalut kuin asian valmistelijalle.</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ulokset yhdistettävissä muihin asiaan liittyviin päätöksiin.</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distää yhteistyötä ja tiedonjakoa kuntien ja valtion välillä ja sisällä.</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Yhdenmukaistaa ja parantaa päätöksiä, joissa vaaditaan erityisasiantuntemusta.</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Helpottaa tiedonhakua valmisteluvaiheessa.</a:t>
            </a: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6320" indent="-346320">
              <a:lnSpc>
                <a:spcPct val="95000"/>
              </a:lnSpc>
              <a:spcBef>
                <a:spcPts val="901"/>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Avaa päätöksenteon toimintakulttuuria!</a:t>
            </a:r>
            <a:endParaRPr b="0" lang="en-US" sz="2200" spc="-1" strike="noStrike">
              <a:solidFill>
                <a:srgbClr val="000000"/>
              </a:solidFill>
              <a:latin typeface="Arial"/>
            </a:endParaRPr>
          </a:p>
        </p:txBody>
      </p:sp>
      <p:sp>
        <p:nvSpPr>
          <p:cNvPr id="362"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F58D-D6AB-4F72-BB29-8F93B3B13CFA}" type="datetime">
              <a:rPr b="0" lang="fi-FI" sz="1000" spc="-1" strike="noStrike">
                <a:solidFill>
                  <a:srgbClr val="ffffff"/>
                </a:solidFill>
                <a:latin typeface="Arial"/>
              </a:rPr>
              <a:t>29.07.26</a:t>
            </a:fld>
            <a:endParaRPr b="0" lang="en-US" sz="1000" spc="-1" strike="noStrike">
              <a:solidFill>
                <a:srgbClr val="000000"/>
              </a:solidFill>
              <a:latin typeface="Arial"/>
            </a:endParaRPr>
          </a:p>
        </p:txBody>
      </p:sp>
      <p:sp>
        <p:nvSpPr>
          <p:cNvPr id="363" name="Footer Placeholder 4"/>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
        <p:nvSpPr>
          <p:cNvPr id="364"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A782-1F00-4F71-B733-023D6DE8E541}" type="slidenum">
              <a:rPr b="0" lang="fi-FI" sz="1000" spc="-1" strike="noStrike">
                <a:solidFill>
                  <a:srgbClr val="ffff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7bc143"/>
                </a:solidFill>
                <a:latin typeface="Arial"/>
              </a:rPr>
              <a:t>Haapaniemen CHP-kaukolämpövoimala</a:t>
            </a:r>
            <a:endParaRPr b="1" lang="en-US" sz="2800" spc="-1" strike="noStrike">
              <a:solidFill>
                <a:srgbClr val="7bc143"/>
              </a:solidFill>
              <a:latin typeface="Arial"/>
            </a:endParaRPr>
          </a:p>
        </p:txBody>
      </p:sp>
      <p:pic>
        <p:nvPicPr>
          <p:cNvPr id="366" name="Content Placeholder 6" descr=""/>
          <p:cNvPicPr/>
          <p:nvPr/>
        </p:nvPicPr>
        <p:blipFill>
          <a:blip r:embed="rId1"/>
          <a:stretch/>
        </p:blipFill>
        <p:spPr>
          <a:xfrm>
            <a:off x="0" y="0"/>
            <a:ext cx="9144000" cy="6858000"/>
          </a:xfrm>
          <a:prstGeom prst="rect">
            <a:avLst/>
          </a:prstGeom>
          <a:ln w="0">
            <a:noFill/>
          </a:ln>
        </p:spPr>
      </p:pic>
      <p:sp>
        <p:nvSpPr>
          <p:cNvPr id="367" name="Date Placeholder 3"/>
          <p:cNvSpPr/>
          <p:nvPr/>
        </p:nvSpPr>
        <p:spPr>
          <a:xfrm>
            <a:off x="457200" y="6589800"/>
            <a:ext cx="1090440" cy="22392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1755-D63F-4076-8173-1BE2FB2FFB51}" type="datetime">
              <a:rPr b="0" lang="fi-FI" sz="1000" spc="-1" strike="noStrike">
                <a:solidFill>
                  <a:srgbClr val="ffffff"/>
                </a:solidFill>
                <a:latin typeface="Arial"/>
                <a:ea typeface="Arial"/>
              </a:rPr>
              <a:t>29.07.26</a:t>
            </a:fld>
            <a:endParaRPr b="0" lang="en-US" sz="1000" spc="-1" strike="noStrike">
              <a:solidFill>
                <a:srgbClr val="000000"/>
              </a:solidFill>
              <a:latin typeface="Arial"/>
            </a:endParaRPr>
          </a:p>
        </p:txBody>
      </p:sp>
      <p:sp>
        <p:nvSpPr>
          <p:cNvPr id="368" name="Slide Number Placeholder 5"/>
          <p:cNvSpPr/>
          <p:nvPr/>
        </p:nvSpPr>
        <p:spPr>
          <a:xfrm>
            <a:off x="7596360" y="6597720"/>
            <a:ext cx="1079280" cy="216000"/>
          </a:xfrm>
          <a:prstGeom prst="rect">
            <a:avLst/>
          </a:prstGeom>
          <a:noFill/>
          <a:ln w="0">
            <a:noFill/>
          </a:ln>
        </p:spPr>
        <p:style>
          <a:lnRef idx="0"/>
          <a:fillRef idx="0"/>
          <a:effectRef idx="0"/>
          <a:fontRef idx="minor"/>
        </p:style>
        <p:txBody>
          <a:bodyPr lIns="90000" rIns="90000" tIns="46800" bIns="46800" anchor="ctr">
            <a:normAutofit fontScale="8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EABC-D123-4AB7-9AF6-47889F4626AD}" type="slidenum">
              <a:rPr b="0" lang="en-GB"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369" name="Footer Placeholder 1"/>
          <p:cNvSpPr/>
          <p:nvPr/>
        </p:nvSpPr>
        <p:spPr>
          <a:xfrm>
            <a:off x="1258920" y="6597720"/>
            <a:ext cx="6985080" cy="21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ffffff"/>
                </a:solidFill>
                <a:latin typeface="Arial"/>
                <a:ea typeface="Arial"/>
              </a:rPr>
              <a:t>http://fi.opasnet.org/fi/Tiedosto:Ilmastopolitiikka_rakennukset_ja_terveys.pp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3T12:38:19Z</dcterms:created>
  <dc:creator>Hänninen, Otto</dc:creator>
  <dc:description/>
  <dc:language>en-US</dc:language>
  <cp:lastModifiedBy>Tuomisto Jouni</cp:lastModifiedBy>
  <cp:lastPrinted>2014-01-15T09:40:07Z</cp:lastPrinted>
  <dcterms:modified xsi:type="dcterms:W3CDTF">2014-10-06T05:36:31Z</dcterms:modified>
  <cp:revision>169</cp:revision>
  <dc:subject>suomi</dc:subject>
  <dc:title>Sisäilman kansanterveysvaikutukset</dc:title>
</cp:coreProperties>
</file>